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49190-1C43-41A2-8C21-7EA3063DC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8544B-8D59-4DC2-8788-482848651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B88D5-1C67-4F88-8F3C-611A1F369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B72AD-5C95-4B26-A5DD-2E2A8F4EA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571DCC-B6A8-45B6-94A9-8AB572752F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4F16E-599D-4110-98A6-232F8C39E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5F2A5-1776-4757-83BE-C55130C43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27224-C128-4F20-8231-821B0D1D6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2300A-6AD9-4573-9DCA-D5506B520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61062-657A-453F-9CE4-762C0CE98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FA4F8-B74F-441D-B5A8-4C30ED083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C61AF-1EC8-431C-925A-426B26C21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79035-A69A-4795-9DD8-053F46232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31698-75CD-449B-B4CA-C95CA4303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26ED1A-E1B8-4404-8BF2-68DE0CBF3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D81037-5E7E-4542-9065-81402ED9AD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84335A-9B99-423B-83A2-D7E3C7632A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A3E4F-108F-4A52-B961-EB0ABD959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BC011-8A2F-4EF4-96BA-4EF82DE09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2B6D6-4990-4D70-AE98-AEF1A248F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6B6A2-6C72-4922-A24A-44BC393FA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DA451-D3F5-4810-87FE-87E814D16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DEDED-0EE4-491F-ADFD-54A952062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CE42F-6CA3-4C0A-83EB-ECFEBC73A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63084-1F7C-48F6-93D5-59B152D8CBD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425A6-C686-490D-8FFC-812CFDBE38C3}"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hyperlink" Target="http://www.juridice.ro/wp-content/uploads/2014/03/cauza-2.pdf"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juridice.ro/wp-content/uploads/2014/03/cauza.pdf"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Jurispruden</a:t>
            </a:r>
            <a:r>
              <a:rPr b="0" lang="ro-RO" sz="5400" spc="-1" strike="noStrike">
                <a:solidFill>
                  <a:srgbClr val="dbbd71"/>
                </a:solidFill>
                <a:latin typeface="Arial"/>
              </a:rPr>
              <a:t>ță CJUE</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irectiva 2004/38/CE acordă cetățenilor Uniunii, precum și membrilor familiei acestora, dreptul de liberă circulație și ședere pe teritoriul statelor membre</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Cauza C-457/12</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În acest context, Raad van State solicită să se stabilească, în esență, dacă dreptul Uniunii conferă un drept de ședere unui resortisant al unui stat terț, membru al familiei unui cetățean al Uniunii, atunci când cetățeanul menționat este resortisant al statului membru respectiv și locuiește în acest stat, dar se deplasează periodic în alt stat membru în cadrul activităților sale profesiona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JUE </a:t>
            </a:r>
            <a:r>
              <a:rPr b="1" lang="en-US" sz="4400" spc="-1" strike="noStrike">
                <a:solidFill>
                  <a:srgbClr val="dbbd71"/>
                </a:solidFill>
                <a:latin typeface="Arial"/>
              </a:rPr>
              <a:t>C-457/12</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tea confirmă că, în situațiile vizate în cauza C-457/12, cetățenii Uniunii intră în domeniul de aplicare al liberei circulații a lucrătorilor, garantată la articolul 45 TFUE. Astfel, orice cetățean al Uniunii care, în cadrul unui contract de muncă, exercită activități profesionale pe teritoriul altui stat membru decât cel de reședință intră în domeniul de aplicare al acestei dispoziții.</a:t>
            </a:r>
            <a:br>
              <a:rPr sz="2800"/>
            </a:b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JUE </a:t>
            </a:r>
            <a:r>
              <a:rPr b="1" lang="en-US" sz="4400" spc="-1" strike="noStrike">
                <a:solidFill>
                  <a:srgbClr val="dbbd71"/>
                </a:solidFill>
                <a:latin typeface="Arial"/>
              </a:rPr>
              <a:t>C-457/12</a:t>
            </a:r>
            <a:endParaRPr b="0" lang="en-US" sz="44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rtea explică în continuare că efectul util al dreptului de liberă circulație a lucrătorilor poate impune, în temeiul articolului 45 TFUE, acordarea unui drept de ședere derivat în favoarea unui resortisant al unui stat terț, membru al familiei lucrătorului cetățean al Uniunii, în statul membru al cărui resortisant este.</a:t>
            </a:r>
            <a:endParaRPr b="0" lang="en-US" sz="1800" spc="-1" strike="noStrike">
              <a:solidFill>
                <a:srgbClr val="ffffff"/>
              </a:solidFill>
              <a:latin typeface="Tahoma"/>
            </a:endParaRPr>
          </a:p>
          <a:p>
            <a:pPr marL="339480" indent="-33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stfel, va reveni instanței de trimitere sarcina de a verifica dacă, în fiecare dintre situațiile în discuție în cauza C-457/12, acordarea unui drept de ședere derivat resortisantului statului terț respectiv, membru al familiei unui cetățean al Uniunii, este necesară pentru a-i garanta acestuia exercitarea efectivă a libertății fundamentale garantate de articolul 45 TFUE. Potrivit Curții, faptul că resortisantul unui stat terț se ocupă de copilul cetățeanului Uniunii poate constitui un factor pertinent la examinarea aspectului dacă refuzul acordării unui drept de ședere în favoarea acestui resortisant al statului terț poate avea un caracter disuasiv în privința exercitării efective a drepturilor pe care cetățeanul Uniunii le are în temeiul articolului 45 TFUE. Totuși, simplul fapt că ar putea părea preferabil ca îngrijirea copilului să fie asumată de resortisantul unui stat terț care este ascendent direct al soțului cetățeanului Uniunii nu este suficient, el însuși, pentru a se constata un astfel de efect disuasiv.</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JUE </a:t>
            </a:r>
            <a:r>
              <a:rPr b="1" lang="en-US" sz="4400" spc="-1" strike="noStrike">
                <a:solidFill>
                  <a:srgbClr val="dbbd71"/>
                </a:solidFill>
                <a:latin typeface="Arial"/>
              </a:rPr>
              <a:t>C-457/12</a:t>
            </a:r>
            <a:endParaRPr b="0" lang="en-US" sz="44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ticolul 45 TFUE acordă așadar unui membru al familiei unui cetățean al Uniunii, resortisant al unui stat terț, un drept de ședere derivat în statul membru al cărui resortisant este acest cetățean atunci când cetățeanul menționat are reședința în acest stat, dar se deplasează periodic în alt stat membru în calitate de lucrător în sensul respectivei dispoziții, în condițiile în care refuzul acordării unui astfel de drept de ședere are un efect disuasiv în privința exercitării efective a drepturilor pe care respectivul lucrător le are în temeiul articolului 45 TFUE, ceea ce revine instanței naționale să verifi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3. </a:t>
            </a:r>
            <a:r>
              <a:rPr b="0" lang="en-US" sz="4400" spc="-1" strike="noStrike">
                <a:solidFill>
                  <a:srgbClr val="dbbd71"/>
                </a:solidFill>
                <a:latin typeface="Arial"/>
              </a:rPr>
              <a:t>cauza C‑244/13 </a:t>
            </a:r>
            <a:endParaRPr b="0" lang="en-US" sz="44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mitere preliminară </a:t>
            </a:r>
            <a:r>
              <a:rPr b="0" lang="ro-RO" sz="2800" spc="-1" strike="noStrike">
                <a:solidFill>
                  <a:srgbClr val="ffffff"/>
                </a:solidFill>
                <a:latin typeface="Tahoma"/>
              </a:rPr>
              <a:t>High Court Irlanda </a:t>
            </a:r>
            <a:r>
              <a:rPr b="0" lang="en-US" sz="2800" spc="-1" strike="noStrike">
                <a:solidFill>
                  <a:srgbClr val="ffffff"/>
                </a:solidFill>
                <a:latin typeface="Tahoma"/>
              </a:rPr>
              <a:t>– Directiva 2004/38/CE – Articolul 16 alineatul (2) – Drept de ședere permanentă al membrilor familiei unui cetățean al Uniunii resortisanți ai unor țări terțe – Încetarea conviețuirii soților – Instalare imediată împreună cu alți parteneri în perioada de ședere neîntreruptă de cinci ani – Regulamentul (CEE) nr. 1612/68 – Articolul 10 alineatul (3) – Condiții – Încălcare de către un stat membru a dreptului Uniunii – Examinarea naturii încălcării în cauză – Necesitatea unei trimiteri preliminar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Premise caz practic</a:t>
            </a:r>
            <a:endParaRPr b="0" lang="en-US" sz="44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Tahoma"/>
              </a:rPr>
              <a:t>Cererea de decizie preliminară privește, pe de o parte, interpretarea articolului 16 alineatul (2) din Directiva 2004/38/CE a Parlamentului European și a Consiliului din 29 aprilie 2004 privind dreptul la liberă circulație și ședere pe teritoriul statelor membre pentru cetățenii Uniunii și membrii familiilor acestora, de modificare a Regulamentului (CEE) nr. 1612/68 și de abrogare a Directivelor 64/221/CEE, 68/360/CEE, 72/194/CEE, 73/148/CEE, 75/34/CEE, 75/35/CEE, 90/364/CEE, 90/365/CEE și 93/96/CEE (JO L 158, p. 77, Ediție specială, 05/vol. 7, p. 56), precum și a articolului 10 alineatul (3) din Regulamentul (CEE) nr. 1612/68 al Consiliului din 15 octombrie 1968 privind libera circulație a lucrătorilor în cadrul Comunității (JO L 257, p. 2, Ediție specială, 05/vol. 1, p. 11) și, pe de altă parte, stabilirea efectelor formulării de către o instanță națională a unei cereri de decizie preliminară cu privire la problema de fond a dreptului de ședere permanentă în aprecierea de către instanța respectivă a existenței unei încălcări vădite a dreptului Uniunii de către statul membru în cauză în cadrul unei acțiuni în despăgubire pentru încălcarea acestui drept al Uniunii.</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Premise caz practic</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ahoma"/>
              </a:rPr>
              <a:t>2        Această cerere a fost formulată în cadrul unui litigiu între domnul Ogieriakhi, pe de o parte, și Minister for Justice and Equality, Irlanda, Attorney General și An Post, pe de altă parte, având ca obiect o cerere de daune‑interese pe care domnul Ogieriakhi a formulat‑o împotriva statului membru menționat, în temeiul jurisprudenței rezultate din Hotărârea Francovich și alții (C‑6/90 și C‑9/90, EU:C:1991:428), pe baza unei pretinse neîndepliniri de către Irlanda a obligațiilor sale privind transpunerea Directivei 2004/38.</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dbbd71"/>
                </a:solidFill>
                <a:latin typeface="Arial"/>
              </a:rPr>
              <a:t> </a:t>
            </a: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rivit considerentului (17) al Directivei 2004/38:</a:t>
            </a:r>
            <a:endParaRPr b="0" lang="en-US" sz="2400" spc="-1" strike="noStrike">
              <a:solidFill>
                <a:srgbClr val="ffffff"/>
              </a:solidFill>
              <a:latin typeface="Tahoma"/>
            </a:endParaRPr>
          </a:p>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Faptul că cetățenii Uniunii care au ales să se stabilească pe termen lung în statul membru gazdă se bucură de dreptul de ședere permanentă ar întări sentimentul cetățeniei Uniunii și este un element‑cheie în promovarea coeziunii sociale, care reprezintă unul dintre obiectivele fundamentale ale Uniunii. Este necesar, așadar, să se prevadă dreptul de ședere permanentă pentru toți cetățenii Uniunii și pentru membrii familiilor acestora care au locuit în statul membru gazdă o perioadă neîntreruptă de cinci ani, în conformitate cu condițiile prevăzute de prezenta directivă, fără să fi făcut obiectul unei măsuri de expulza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b titlul „Definiții”, articolul 2 din Directiva 2004/38 preved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În sensul prezentei directiv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prin «cetățean al Uniunii» se înțelege orice persoană având cetățenia unui stat membru;</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prin «membru de familie» se înțeleg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soțul;</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prin «stat membru gazdă» se înțelege statul membru în care se deplasează un cetățean al Uniunii în scopul de a‑și exercita dreptul la liberă circulație și șede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ticolul 3 din această directivă, intitulat „Destinatarii”, prevede la alineatul (1):</a:t>
            </a:r>
            <a:endParaRPr b="0" lang="en-US" sz="3200" spc="-1" strike="noStrike">
              <a:solidFill>
                <a:srgbClr val="ffffff"/>
              </a:solidFill>
              <a:latin typeface="Tahoma"/>
            </a:endParaRPr>
          </a:p>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Prezenta directivă se aplică oricărui cetățean al Uniunii care se deplasează sau își are reședința într‑un stat membru, altul decât cel al cărui resortisant este, precum și membrilor familiei sale, conform definiției de la articolul 2 punctul 2, care îl însoțesc sau i se alătur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1219320"/>
            <a:ext cx="82296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bd71"/>
                </a:solidFill>
                <a:latin typeface="Arial"/>
              </a:rPr>
              <a:t>Directiva 2004/38/CE acordă cetățenilor Uniunii, precum și membrilor familiei acestora, dreptul de liberă circulație și ședere pe teritoriul statelor membre[1]. În această privință, Raad van State din Țările de Jos (Consiliul de Stat) a sesizat Curtea, prin două trimiteri preliminare distincte, cu patru cauze privind refuzul autorităților olandeze de a acorda un drept de ședere unui resortisant al unui stat terț, membru al familiei unui cetățean al Uniunii, resortisant olandez.</a:t>
            </a:r>
            <a:endParaRPr b="0" lang="en-US" sz="2000" spc="-1" strike="noStrike">
              <a:solidFill>
                <a:srgbClr val="dbbd71"/>
              </a:solidFill>
              <a:latin typeface="Arial"/>
            </a:endParaRPr>
          </a:p>
        </p:txBody>
      </p:sp>
      <p:sp>
        <p:nvSpPr>
          <p:cNvPr id="155" name="PlaceHolder 2"/>
          <p:cNvSpPr>
            <a:spLocks noGrp="1"/>
          </p:cNvSpPr>
          <p:nvPr>
            <p:ph/>
          </p:nvPr>
        </p:nvSpPr>
        <p:spPr>
          <a:xfrm>
            <a:off x="457200" y="3811680"/>
            <a:ext cx="8229600" cy="231912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tea de Justiție a Uniunii Europene a dat publicității miercuri, 12 martie 2014, hotărârea în cauzele </a:t>
            </a:r>
            <a:r>
              <a:rPr b="0" lang="en-US" sz="3200" spc="-1" strike="noStrike" u="sng">
                <a:solidFill>
                  <a:srgbClr val="ffcc66"/>
                </a:solidFill>
                <a:uFillTx/>
                <a:latin typeface="Tahoma"/>
                <a:hlinkClick r:id="rId1"/>
              </a:rPr>
              <a:t>C-456/12</a:t>
            </a:r>
            <a:r>
              <a:rPr b="0" lang="en-US" sz="3200" spc="-1" strike="noStrike">
                <a:solidFill>
                  <a:srgbClr val="ffffff"/>
                </a:solidFill>
                <a:latin typeface="Tahoma"/>
              </a:rPr>
              <a:t> și </a:t>
            </a:r>
            <a:r>
              <a:rPr b="0" lang="en-US" sz="3200" spc="-1" strike="noStrike" u="sng">
                <a:solidFill>
                  <a:srgbClr val="ffcc66"/>
                </a:solidFill>
                <a:uFillTx/>
                <a:latin typeface="Tahoma"/>
                <a:hlinkClick r:id="rId2"/>
              </a:rPr>
              <a:t>C-457/12</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b titlul „Dreptul de ședere pentru o perioadă mai mare de trei luni”, articolul 7 din aceeași directivă prevede la alineatele (1) și (2):</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1)      Toți cetățenii Uniunii au dreptul de ședere pe teritoriul altui stat membru pentru o perioadă mai mare de trei luni în cazurile în car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sunt lucrători care desfășoară activități salariate sau activități independente în statul membru gazdă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Dreptul de ședere prevăzut la alineatul (1) se extinde asupra membrilor de familie care nu au cetățenia unui stat membru, în cazul în care însoțesc ori se alătură cetățeanului Uniunii în statul membru gazdă, cu condiția ca cetățeanul Uniunii să îndeplinească condițiile menționate la alineatul (1) literele (a), (b) sau (c).”</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9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6000"/>
          </a:bodyPr>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otrivit articolului 13 alineatul (2) din directiva menționată:</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r>
              <a:rPr b="0" lang="en-US" sz="1400" spc="-1" strike="noStrike">
                <a:solidFill>
                  <a:srgbClr val="ffffff"/>
                </a:solidFill>
                <a:latin typeface="Tahoma"/>
              </a:rPr>
              <a:t>Fără a aduce atingere dispozițiilor celui de‑al doilea paragraf, divorțul, anularea căsătoriei sau încetarea parteneriatului înregistrat menționat la articolul 2 punctul 2 litera (b) nu atrag după sine pierderea dreptului de ședere al membrilor familiei unui cetățean al Uniunii care nu sunt resortisanți ai unui stat membru în cazurile în care:</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      înainte de inițierea procedurilor judiciare de divorț, de anulare a căsătoriei sau de încetare a parteneriatului înregistrat, căsătoria sau parteneriatul înregistrat a durat cel puțin trei ani, din care cel puțin un an în statul membru gazdă sau</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      prin acordul soților sau al partenerilor menționați la articolul 2 punctul 2 litera (b) ori prin hotărâre judecătorească, copiii cetățeanului Uniunii au fost încredințați soțului sau partenerului care nu are cetățenia unui stat membru sau</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      acest lucru este justificat de situații deosebit de dificile, precum faptul de a fi fost victima violenței în familie în perioada în care căsătoria sau parteneriatul înregistrat era încă în vigoare sau</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      prin acordul soților sau al partenerilor menționați la articolul 2 punctul 2 litera (b) sau prin hotărâre judecătorească, soțul ori partenerul care nu are cetățenia unui stat membru are dreptul de vizitare a copilului minor, cu condiția ca instanța judecătorească să fi hotărât că vizitele trebuie să aibă loc în statul membru gazdă și atât timp cât sunt necesare.</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Înainte de a dobândi dreptul de ședere permanentă, dreptul de ședere al persoanelor interesate rămâne supus obligației ca aceștia să poată dovedi că desfășoară o activitate salariată sau independentă sau că au suficiente resurse pentru ei înșiși și pentru membrii familiilor lor, astfel încât să nu devină o sarcină pentru sistemul de asistență socială al statului membru gazdă în cursul șederii lor, precum și că dețin o asigurare medicală completă, valabilă în statul membru gazdă, ori că sunt membri ai familiei constituite deja în statul membru gazdă de către o persoană care îndeplinește aceste cerințe. Resursele suficiente sunt definite la articolul 8 alineatul (4).</a:t>
            </a:r>
            <a:endParaRPr b="0" lang="en-US" sz="1400" spc="-1" strike="noStrike">
              <a:solidFill>
                <a:srgbClr val="ffffff"/>
              </a:solidFill>
              <a:latin typeface="Tahoma"/>
            </a:endParaRPr>
          </a:p>
          <a:p>
            <a:pPr marL="329040" indent="-32904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embrii de familie menționați mai sus își mențin dreptul de ședere exclusiv cu titlu personal.”</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În capitolul IV din Directiva 2004/38, intitulat „Dreptul de ședere permanentă”, articolul 16 din aceasta, intitulat „Regula generală pentru cetățenii Uniunii și pentru membrii familiilor acestora”, prevede:</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a:r>
            <a:r>
              <a:rPr b="0" lang="en-US" sz="1600" spc="-1" strike="noStrike">
                <a:solidFill>
                  <a:srgbClr val="ffffff"/>
                </a:solidFill>
                <a:latin typeface="Tahoma"/>
              </a:rPr>
              <a:t>(1)      Cetățenii Uniunii care și‑au avut reședința legală pe teritoriul statului membru gazdă în cursul unei perioade neîntrerupte de cinci ani dobândesc dreptul de ședere permanentă pe teritoriul acestuia. Acest drept nu face obiectul condițiilor prevăzute în capitolul II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      Alineatul (1) se aplică și în cazul membrilor de familie care nu au cetățenia unui stat membru și care și‑au avut reședința legală împreună cu cetățeanul Uniunii în statul membru gazdă în cursul unei perioade neîntrerupte de cinci an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3)      Continuitatea șederii nu este afectată de absențe temporare care nu depășesc un total de șase luni pe an sau de absențe de durată mai lungă în vederea îndeplinirii serviciului militar obligatoriu ori de o absență de maxim douăsprezece luni consecutive determinată de motive importante, precum sarcina și nașterea, boli grave, studiile sau formare profesională ori detașarea în alt stat membru sau într‑o țară terță.</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4)      Odată dobândit, dreptul de ședere permanentă se pierde numai în cazul unei absențe din statul membru gazdă pe o perioadă care depășește doi ani consecutivi.”</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Cadrul juridic</a:t>
            </a:r>
            <a:br>
              <a:rPr sz="2800"/>
            </a:br>
            <a:r>
              <a:rPr b="0" i="1" lang="en-US" sz="2800" spc="-1" strike="noStrike">
                <a:solidFill>
                  <a:srgbClr val="dbbd71"/>
                </a:solidFill>
                <a:latin typeface="Arial"/>
              </a:rPr>
              <a:t> Dreptul Uniunii</a:t>
            </a:r>
            <a:br>
              <a:rPr sz="2800"/>
            </a:br>
            <a:r>
              <a:rPr b="0" lang="en-US" sz="2800" spc="-1" strike="noStrike">
                <a:solidFill>
                  <a:srgbClr val="dbbd71"/>
                </a:solidFill>
                <a:latin typeface="Arial"/>
              </a:rPr>
              <a:t> Directiva 2004/38</a:t>
            </a:r>
            <a:endParaRPr b="0" lang="en-US" sz="28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trivit articolului 18 din aceeași directivă:</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Fără a aduce atingere dispozițiilor articolului 17, membrii familiei unui cetățean al Uniunii menționați la articolul 12 alineatul (2) și la articolul 13 alineatul (2) care îndeplinesc condițiile prevăzute de acestea dobândesc dreptul de ședere permanentă după ce și‑au avut reședința legală în statul membru gazdă pe o perioadă neîntreruptă de cinci an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Starea de fapt</a:t>
            </a:r>
            <a:endParaRPr b="0" lang="en-US" sz="44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omnul Ogieriakhi, resortisant nigerian, a ajuns în Irlanda în luna mai 1998, dată la care a formulat o cerere de azil politic. În luna mai 1999, acesta s‑a căsătorit cu doamna Georges, resortisant francez. În urma căsătoriei, domnul Ogieriakhi și‑a retras cererea de azil și a obținut un permis de ședere pentru perioada 11 octombrie 1999-11 octombrie 2000. La expirarea acestei perioade, domnul Ogieriakhi a solicitat reînnoirea permisului său de ședere, care i‑a fost acordată pentru perioada 11 octombrie 2000-11 octombrie 2004.</a:t>
            </a: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În perioada anilor 1999-2001, domnul Ogieriakhi și soția sa au locuit împreună în Dublin (Irlanda), la diferite adrese, în locuințe închiriate.</a:t>
            </a:r>
            <a:endParaRPr b="0" lang="en-US" sz="14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en-US" sz="1400" spc="-1" strike="noStrike">
                <a:solidFill>
                  <a:srgbClr val="ffffff"/>
                </a:solidFill>
                <a:latin typeface="Tahoma"/>
              </a:rPr>
              <a:t>La puțin timp după luna august 2001, doamna Georges a părăsit domiciliul conjugal pentru a se muta cu un alt bărbat. Ulterior, și domnul Ogieriakhi a părăsit domiciliul menționat pentru a conviețui cu doamna Madden, resortisant irlandez, împreună cu care a avut un copil, născut în luna decembrie 2003. Este cert că, începând cu anul 2002, doamna Georges nu a avut niciun rol în asigurarea sau în punerea la dispoziție a unei locuințe pentru domnul Ogieriakhi.</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en-US" sz="1400" spc="-1" strike="noStrike">
                <a:solidFill>
                  <a:srgbClr val="ffffff"/>
                </a:solidFill>
                <a:latin typeface="Tahoma"/>
              </a:rPr>
              <a:t>În perioada cuprinsă între luna octombrie 1999 și luna octombrie 2004, cu excepția unei luni, doamna Georges fie a lucrat, fie a primit prestații de securitate socială subordonate condiției de a căuta un loc de muncă. În luna decembrie 2004, ea a părăsit Irlanda, întorcându‑se definitiv în Franța.</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en-US" sz="1400" spc="-1" strike="noStrike">
                <a:solidFill>
                  <a:srgbClr val="ffffff"/>
                </a:solidFill>
                <a:latin typeface="Tahoma"/>
              </a:rPr>
              <a:t>Divorțul dintre domnul Ogieriakhi și doamna Georges a fost pronunțat în luna ianuarie 2009. În luna iulie a aceluiași an, domnul Ogieriakhi s‑a căsătorit cu doamna Madden. Domnul Ogieriakhi a obținut ulterior, în cursul anului 2012, cetățenia irlandeză, prin naturalizare.</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Starea de fapt</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În luna septembrie 2004, domnul Ogieriakhi a solicitat reînnoirea permisului său de ședere. Această cerere a fost însă respinsă pentru motivul că domnul Ogieriakhi nu putea demonstra că doamna Georges exercita în acea perioadă drepturile conferite de Tratatul UE lucrând sau având reședința în acest stat, întrucât probele de care dispunea Minister for Justice and Equality indicau că aceasta se întorsese la Paris (Franța) în luna decembrie 2004 pentru a lucra acolo.</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upă expirarea termenului de transpunere a Directivei 2004/38, domnul Ogieriakhi a formulat, pe la jumătatea anului 2007, o cerere prin care viza obținerea unui permis de ședere permanentă în Irlanda, pentru motivul că realizase o perioadă de ședere legală neîntreruptă de 5 ani, respectiv din anul 1999 până în anul 2004, ca urmare a căsătoriei sale cu doamna Georges în perioada respectivă.</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ceastă cerere a fost respinsă în luna septembrie 2007 de Minister for Justice and Equality, care a considerat că domnul Ogieriakhi nu beneficia de un drept de ședere în Irlanda, în temeiul dispozițiilor regulamentului din 2006, ca urmare a lipsei dovezii că soția sa mai exercita în perioada respectivă, în acest stat membru, drepturile conferite de trat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Starea de fapt</a:t>
            </a:r>
            <a:endParaRPr b="0" lang="en-US" sz="4400" spc="-1" strike="noStrike">
              <a:solidFill>
                <a:srgbClr val="dbbd71"/>
              </a:solidFill>
              <a:latin typeface="Arial"/>
            </a:endParaRPr>
          </a:p>
        </p:txBody>
      </p:sp>
      <p:sp>
        <p:nvSpPr>
          <p:cNvPr id="203"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În luna octombrie 2007, domnul Ogieriakhi a fost concediat din postul de sortator poștal pe care îl ocupa în cadrul An Post (societate poștală de stat) pentru motivul că nu beneficia de niciun drept de ședere în Irlanda.</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preciind că dobândise un drept de ședere permanentă în acest stat, domnul Ogieriakhi a formulat o acțiune împotriva deciziei Minister for Justice and Equality, care a fost respinsă de High Court, în luna ianuarie 2008, pentru motivul că regulamentul din 2006 nu era aplicabil perioadelor de ședere anterioare intrării sale în vigoare.</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omnul Ogieriakhi nu a declarat imediat apel împotriva acestei hotărâri. Cu toate acestea, în urma Hotărârii Lassal (C‑162/09, EU:C:2010:592), din care reiese că, în principiu, se poate considera că o perioadă de ședere anterioară anului 2006 îndeplinește criteriul unei șederi neîntrerupte de cinci ani, domnul Ogieriakhi a solicitat Supreme Court repunerea în termenul de declarare a căii de atac pentru a i se permite să formuleze apel în fața acesteia. Prin decizia din 18 februarie 2011, Supreme Court a respins această cerere reținând, totuși, că Minister for Justice and Equality acceptase să își reexamineze decizia anterioară și că domnul Ogieriakhi avea posibilitatea să inițieze orice acțiuni pe care le considera utile, inclusiv cele întemeiate pe dreptul Uniunii.</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În urma reexaminării deciziei sale din luna septembrie 2007, Minister for Justice and Equality i‑a acordat domnului Ogieriakhi, la 7 noiembrie 2011, un drept de ședere permanent, pentru motivul că îndeplinea toate condițiile pertinente prevăzute de regulamentul din 2006.</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În aceste condiții, invocând jurisprudența rezultată din Hotărârea Francovich și alții (EU:C:1991:428), domnul Ogieriakhi a introdus o acțiune în despăgubire în fața High Court urmărind obținerea reparării prejudiciului suferit ca urmare a unei pretinse transpuneri incorecte a dispozițiilor Directivei 2004/38 în dreptul național. În special, această cerere este întemeiată pe pierderile pe care domnul Ogieriakhi le‑a suferit din cauza rezilierii contractului său de muncă survenite la 24 octombrie 2007 pentru motivul că nu mai beneficia de un drept de ședere în Irland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Instanța de trimitere</a:t>
            </a:r>
            <a:endParaRPr b="0" lang="en-US" sz="44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inând această cauză, instanța de trimitere a apreciat că acțiunea introdusă de domnul Ogieriakhi în temeiul jurisprudenței rezultate din Hotărârea Francovich și alții (EU:C:1991:428), întemeiată pe o transpunere eronată a dreptului Uniunii (și care viza, de asemenea, și aplicarea greșită a acestui drept), era subordonată condiției ca domnul Ogieriakhi să demonstreze că, la data concedierii sale de către An Post în luna octombrie 2007, beneficiase de un drept de ședere pe o perioadă neîntreruptă de cel puțin cinci ani (în tot sau în parte, înainte sau după anul 2006) și, în plus, că acest drept de ședere decurgea din dreptul Uniuni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High Court a hotărât să suspende judecarea cauzei și să adreseze Curții următoarele întrebări preliminare:</a:t>
            </a:r>
            <a:endParaRPr b="0" lang="en-US" sz="2400" spc="-1" strike="noStrike">
              <a:solidFill>
                <a:srgbClr val="dbbd71"/>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Se poate afirma că soțul unui cetățean al Uniunii care, în perioada de referință, nu era resortisant al unui stat membru a «avut reședința legală </a:t>
            </a:r>
            <a:r>
              <a:rPr b="0" i="1" lang="en-US" sz="2400" spc="-1" strike="noStrike">
                <a:solidFill>
                  <a:srgbClr val="ffffff"/>
                </a:solidFill>
                <a:latin typeface="Tahoma"/>
              </a:rPr>
              <a:t>împreună cu</a:t>
            </a:r>
            <a:r>
              <a:rPr b="0" lang="en-US" sz="2400" spc="-1" strike="noStrike">
                <a:solidFill>
                  <a:srgbClr val="ffffff"/>
                </a:solidFill>
                <a:latin typeface="Tahoma"/>
              </a:rPr>
              <a:t> cetățeanul Uniunii în statul membru gazdă în cursul unei perioade neîntrerupte de cinci ani», în sensul articolului 16 alineatul (2) din Directiva 2004/38[...], în contextul în care cuplul s‑a căsătorit în luna mai 1999, dreptul de ședere a fost acordat în luna octombrie 1999 și, cel târziu la începutul anului 2002, părțile au convenit să locuiască separat, iar ambii soți au început să locuiască împreună cu parteneri complet diferiți încă de la sfârșitul anului 200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High Court a hotărât să suspende judecarea cauzei și să adreseze Curții următoarele întrebări preliminare:</a:t>
            </a:r>
            <a:endParaRPr b="0" lang="en-US" sz="2400" spc="-1" strike="noStrike">
              <a:solidFill>
                <a:srgbClr val="dbbd71"/>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În cazul unui răspuns afirmativ la prima întrebare și ținând seama de faptul că resortisantul unei țări terțe care revendică dreptul de ședere permanentă, în conformitate cu articolul 16 alineatul (2), pe baza unei șederi neîntrerupte de cinci ani desfășurate anterior anului 2006 trebuie să dovedească de asemenea că șederea sa îndeplinea, printre altele, cerințele de la articolul 10 alineatul (3) din Regulamentul [...] nr. 1612/68, trebuie considerat că respectivele cerințe nu sunt îndeplinite în cazul în care, în această perioadă presupusă de cinci ani, cetățeanul Uniunii a părăsit domiciliul familial, iar resortisantul țării terțe a început să locuiască împreună cu o altă persoană într‑un nou domiciliu familial, care nu a fost asigurat sau pus la dispoziție de soțul (fostul soț) cetățean al Uniuni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1. </a:t>
            </a: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rte amintește mai întâi că articolul 21 TFUE și dispozițiile Directivei 2004/38 nu conferă niciun drept autonom resortisanților statelor terțe. Eventualele drepturi de ședere conferite unor astfel de resortisanți sunt drepturi derivate din exercitarea libertății de circulație de către un cetățean al Uniuni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rtea constată în continuare că Directiva 2004/38 nu conferă niciun drept de ședere derivat resortisantului unui stat terț, membru al familiei unui cetățean al Uniunii care locuiește în statul membru în care are calitatea de resortisant. Astfel, Directiva 2004/38 se aplică numai atunci când un cetățean se deplasează sau locuiește în alt stat membru decât cel în care are calitatea de resortisa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High Court a hotărât să suspende judecarea cauzei și să adreseze Curții următoarele întrebări preliminare:</a:t>
            </a:r>
            <a:endParaRPr b="0" lang="en-US" sz="24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În cazul unui răspuns afirmativ la prima întrebare și al unui răspuns negativ la a doua întrebare, trebuie să se considere, în vederea evaluării aspectului dacă un stat membru a transpus în mod eronat sau, mai general, nu a pus în aplicare în mod corespunzător cerințele de la articolul 16 alineatul (2) din Directiva 2004/38, că faptul că instanța națională sesizată cu o acțiune în despăgubire pentru încălcarea dreptului Uniunii a apreciat că este necesar să formuleze o cerere de decizie preliminară privind problema de fond a dreptului de ședere permanentă al reclamantului este în sine un factor de care respectiva instanță ar trebui să țină seama pentru a stabili dacă încălcarea dreptului Uniunii Europene a fost una evidentă?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urtea (Camera a doua) </a:t>
            </a:r>
            <a:endParaRPr b="0" lang="en-US" sz="4400" spc="-1" strike="noStrike">
              <a:solidFill>
                <a:srgbClr val="dbbd71"/>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Articolul 16 alineatul (2) din Directiva 2004/38/CE a Parlamentului European și a Consiliului din 29 aprilie 2004 privind dreptul la liberă circulație și ședere pe teritoriul statelor membre pentru cetățenii Uniunii și membrii familiilor acestora, de modificare a Regulamentului (CEE) nr. 1612/68 și de abrogare a Directivelor 64/221/CEE, 68/360/CEE, 72/194/CEE, 73/148/CEE, 75/34/CEE, 75/35/CEE, 90/364/CEE, 90/365/CEE și 93/96/CEE, trebuie interpretat în sensul că trebuie să se considere că un resortisant al unei țări terțe care, într‑o perioadă continuă de cinci ani anterioară datei transpunerii acestei directive, a avut reședința într‑un stat membru, în calitate de soț al unui cetățean al Uniunii lucrător în statul membru respectiv, a dobândit dreptul de ședere permanentă prevăzut de această dispoziție, chiar dacă în perioada respectivă soții au decis să se separe și au început să locuiască împreună cu alți parteneri, locuința ocupată de resortisantul menționat nemaifiind, din acel moment, nici asigurată, nici pusă la dispoziția acestuia din urmă de soțul său cetățean al Uniuni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urtea (Camera a doua)</a:t>
            </a:r>
            <a:endParaRPr b="0" lang="en-US" sz="4400" spc="-1" strike="noStrike">
              <a:solidFill>
                <a:srgbClr val="dbbd71"/>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      Faptul că, în cadrul unei acțiuni în despăgubire pentru încălcarea dreptului Uniunii, o instanță națională a apreciat că este necesar să adreseze o întrebare preliminară privind dreptul Uniunii în discuție în litigiul principal nu trebuie considerat un factor decisiv pentru a se stabili dacă există sau nu există o încălcare vădită a acestui drept de către statul membr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În ceea ce privește chestiunea dacă articolul 21 TFUE acordă un astfel de drept de ședere derivat, Curtea explică faptul că refuzul de a recunoaște un drept de ședere derivat în favoarea membrului de familie al unui cetățean al Uniunii, resortisant al unui stat terț, poate aduce atingere dreptului de liberă circulație al cetățeanului respectiv, garantat de această dispoziție din tratat.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stfel, un cetățean al Uniunii ar putea fi descurajat să părăsească statul membru al cărui resortisant este dacă nu ar avea certitudinea că poate continua, la întoarcerea sa în acest stat membru, o viață de familie pe care ar fi început-o sau ar fi consolidat-o în alt stat membru. Cu toate acestea, un astfel de obstacol va exista numai dacă șederea sa în statul membru gazdă are un caracter efectiv, altfel spus atunci când îndeplinește condițiile Directivei 2004/38 privind dreptul de ședere pentru o perioadă mai mare de trei lun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zultă că atunci când, în temeiul și cu respectarea dispozițiilor Directivei 2004/38 privind dreptul de ședere pentru o perioadă mai mare de trei luni, un cetățean al Uniunii a locuit în mod efectiv în alt stat membru și, cu această ocazie, s-a început sau s-a consolidat o viață de familie în acest stat membru, efectul util al articolului 21 TFUE impune ca viața de familie a acestui cetățean în statul membru gazdă să poată fi urmată la întoarcerea sa în statul membru al cărui resortisant este, prin recunoașterea unui drept de ședere derivat membrului familiei respectiv, resortisant al unui stat terț.</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dițiile de acordare a unui astfel de drept de ședere derivat în temeiul articolului 21 TFUE nu ar trebui să fie, în principiu, mai stricte decât cele prevăzute de Directiva 2004/38 pentru acordarea unui astfel de drept de ședere unui resortisant al unui stat terț, membru al familiei unui cetățean al Uniunii, care și-a exercitat dreptul de liberă circulație stabilindu-se în alt stat membru decât cel al cărui resortisant este. Astfel, chiar dacă Directiva 2004/38 nu acoperă cazul întoarcerii cetățeanului Uniunii în statul membru al cărui resortisant este, ea trebuie să fie aplicată prin analogie, și în acest caz, cetățeanul Uniunii este cel care constituie persoana de referință pentru ca unui resortisant al unui stat terț, membru al familiei acestui cetățean al Uniunii să i se poată acorda un drept de ședere deriv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În ceea ce privește aspectul dacă efectul cumulativ al diferitor șederi de scurtă durată în statul membru gazdă poate da naștere unui drept de ședere derivat în favoarea unui membru al familiei cetățeanului Uniunii, resortisant al unui stat terț, la întoarcerea acestui cetățean în statul membru al cărui resortisant este, Curtea amintește că numai o ședere care îndeplinește condițiile prevăzute de dispozițiile Directivei 2004/38 este de natură să dea naștere unui astfel de drept de ședere. Aceasta subliniază că șederi de scurtă durată (precum week-enduri sau vacanțe petrecute în alt stat membru decât cel al cărui resortisant este acest cetățean), chiar considerate împreună, nu îndeplinesc această condiți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rtea mai arată, pe de altă parte, că domnul B. a dobândit calitatea de membru al familiei unui cetățean al Uniunii la un moment ulterior șederii partenerei sale în statul membru gazdă. Or, un resortisant al unui stat terț, care nu a avut, cel puțin parțial în timpul șederii în statul membru gazdă, calitatea de membru al familiei nu a putut beneficia în acest stat membru de un drept de ședere derivat în temeiul Directivei 2004/38. În aceste condiții, resortisantul străin nu se poate invoca articolul 21 TFUE pentru a obține un drept de ședere derivat la întoarcerea cetățeanului Uniunii respectiv în statul membru al cărui resortisant es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Final </a:t>
            </a:r>
            <a:r>
              <a:rPr b="0" lang="en-US" sz="4400" spc="-1" strike="noStrike" u="sng">
                <a:solidFill>
                  <a:srgbClr val="ffcc66"/>
                </a:solidFill>
                <a:uFillTx/>
                <a:latin typeface="Arial"/>
                <a:hlinkClick r:id="rId1"/>
              </a:rPr>
              <a:t>C-456/12</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ând în vedere ansamblul considerațiilor care precedă, Curtea declară că, într-o situație în care, în temeiul și cu respectarea dispozițiilor Directivei 2004/38 privind dreptul de ședere pentru o perioadă mai mare de trei luni, un cetățean al Uniunii a început sau și-a consolidat o viață de familie cu un resortisant al unui stat terț cu ocazia unei șederi efective în alt stat membru decât cel al cărui resortisant este, dispozițiile aceleiași directive se aplică prin analogie atunci când cetățeanul Uniunii menționat se întoarce, cu membrul familiei sale vizat, în statul său membru de origi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2. </a:t>
            </a:r>
            <a:r>
              <a:rPr b="1" lang="en-US" sz="4400" spc="-1" strike="noStrike">
                <a:solidFill>
                  <a:srgbClr val="dbbd71"/>
                </a:solidFill>
                <a:latin typeface="Arial"/>
              </a:rPr>
              <a:t>Cauza C-457/12</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uza C-457/12 privește refuzul autorităților olandeze de a acorda un drept de ședere unui membru al familiei unor resortisanți olandezi. Totuși, spre deosebire de situația din cauza C-456/12, cetățenii Uniunii vizați nu au locuit împreună cu un membru al familiei lor în alt stat membru decât cel ai cărui resortisanți sunt.</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amna S. este cetățean ucrainean. Ea dorește să poată locui împreună cu ginerele său, care este cetățean olandez. Doamna S. susține că se ocupă de nepotul ei. Ginerele său locuiește în Țările de Jos, dar se deplasează în Belgia cel puțin o dată pe săptămână, în cadrul unei activități salariate la un angajator olandez.</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amna G, cetățean peruan, s-a căsătorit în anul 2009 cu un resortisant olandez. Acesta din urmă locuiește în Țările de Jos, dar desfășoară o activitate salariată la o întreprindere belgiană. În cadrul acestei activități, el se deplasează zilnic, dus și întors, în Belgi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14T09:09:12Z</dcterms:created>
  <dc:creator>Cristian Pup</dc:creator>
  <dc:description/>
  <dc:language>en-US</dc:language>
  <cp:lastModifiedBy>user</cp:lastModifiedBy>
  <dcterms:modified xsi:type="dcterms:W3CDTF">2016-07-14T09:38:07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