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B0A68-7D15-4931-BC0E-70CF4A2A9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18312-0EAB-4D0B-8418-D2660BA66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1E24D-99EC-44B2-8614-D80FC2B15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60A61-A9E5-4228-AD72-77FB9020C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74672-E076-4111-B4B7-1DBD8DC71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1207D-AFFE-4234-BEA3-9AB810ADF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E507A-1F28-415D-9AD9-927C5216F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DD4DC-9593-429A-ABF1-579F5CB65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7DF4B-BC75-4EE6-B1BC-3BB80E3FA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C70AC-A39A-4529-ABE8-D7544DFE3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18173-CBD3-42BE-A453-5C6713458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EA6D8-5EB7-4911-AFBD-9CFBBF298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ADB04-D12F-4C60-8DEC-8CE25CFE4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D9F0F-DC0B-4E58-8119-CFD419D3E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3AEE5-6106-43A3-829D-A35C80C68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C55EE-157C-40D8-834C-5007FEC4E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62168-3015-45A5-B4C6-15F63E6DB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785CE-3EF8-4903-B061-9C221CBD8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7C905-8B4F-4007-8EAE-12B30F7F5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96A27-B59B-4206-93FF-814D71466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4996D-730A-485A-9FA1-50991F66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7AF3D-BDF2-414B-936E-5F1E0FC8E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BF328-2FA4-49A3-9F6A-B1C58C8EC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479D-E189-4805-8B5E-6F133699E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9C3F-099D-4DBE-B325-1ADCA1F0EB2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F91E-E1A9-4B12-A1F0-02D8AF3FF644}"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ur-lex.europa.eu/legal-content/RO/AUTO/?uri=celex:32004L0038"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who.int/en/" TargetMode="External"/><Relationship Id="rId2" Type="http://schemas.openxmlformats.org/officeDocument/2006/relationships/hyperlink" Target="http://www.who.int/en/" TargetMode="External"/><Relationship Id="rId3" Type="http://schemas.openxmlformats.org/officeDocument/2006/relationships/hyperlink" Target="http://www.who.int/en/" TargetMode="External"/><Relationship Id="rId4" Type="http://schemas.openxmlformats.org/officeDocument/2006/relationships/hyperlink" Target="http://www.who.int/en/" TargetMode="External"/><Relationship Id="rId5" Type="http://schemas.openxmlformats.org/officeDocument/2006/relationships/hyperlink" Target="http://www.who.int/en/" TargetMode="External"/><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europarl.europa.eu/sides/getDoc.do?pubRef=-//EP//TEXT+REPORT+A6-2009-0186+0+DOC+XML+V0//RO#_part1_def12"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ur-lex.europa.eu/legal-content/RO/AUTO/?uri=celex:32014L0054" TargetMode="External"/><Relationship Id="rId2" Type="http://schemas.openxmlformats.org/officeDocument/2006/relationships/hyperlink" Target="http://eur-lex.europa.eu/legal-content/RO/AUTO/?uri=uriserv:OJ.L_.2014.128.01.0008.01.RON" TargetMode="External"/><Relationship Id="rId3" Type="http://schemas.openxmlformats.org/officeDocument/2006/relationships/hyperlink" Target="http://eur-lex.europa.eu/legal-content/RO/AUTO/?uri=celex:52009DC0313" TargetMode="External"/><Relationship Id="rId4" Type="http://schemas.openxmlformats.org/officeDocument/2006/relationships/hyperlink" Target="http://eur-lex.europa.eu/legal-content/RO/AUTO/?uri=celex:52013DC0837" TargetMode="External"/><Relationship Id="rId5" Type="http://schemas.openxmlformats.org/officeDocument/2006/relationships/hyperlink" Target="http://eur-lex.europa.eu/legal-content/RO/AUTO/?uri=celex:52014DC0604"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Dreptul la liberă circulație și ședere în UE</a:t>
            </a:r>
            <a:endParaRPr b="0" lang="en-US" sz="48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etățenii Uniunii Europene au dreptul la liberă circulație și ședere într-o altă țară a UE, sub rezerva condițiilor prevăzute de tratatele UE. Această liberă circulație a persoanelor reprezintă unul dintre principiile fundamentale ale UE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istian Pup</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reptul de ieşire şi intrar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E</a:t>
            </a:r>
            <a:r>
              <a:rPr b="0" lang="ro-RO" sz="1400" spc="-1" strike="noStrike">
                <a:solidFill>
                  <a:srgbClr val="ffffff"/>
                </a:solidFill>
                <a:latin typeface="Tahoma"/>
              </a:rPr>
              <a:t>ȘIRE:</a:t>
            </a:r>
            <a:r>
              <a:rPr b="0" lang="en-US" sz="1400" spc="-1" strike="noStrike">
                <a:solidFill>
                  <a:srgbClr val="ffffff"/>
                </a:solidFill>
                <a:latin typeface="Tahoma"/>
              </a:rPr>
              <a:t>T</a:t>
            </a:r>
            <a:r>
              <a:rPr b="0" lang="ro-RO" sz="1400" spc="-1" strike="noStrike">
                <a:solidFill>
                  <a:srgbClr val="ffffff"/>
                </a:solidFill>
                <a:latin typeface="Tahoma"/>
              </a:rPr>
              <a:t>oţi cetăţenii Uniunii care deţin cărţi de identitate valabile sau paşapoarte valabile şi membrii familiei acestora care nu au cetăţenia unui stat membru şi care deţin paşapoarte valabile au dreptul de a părăsi teritoriul unui stat membru pentru a se deplasa în alt stat membru.</a:t>
            </a:r>
            <a:r>
              <a:rPr b="0" lang="en-US" sz="1400" spc="-1" strike="noStrike">
                <a:solidFill>
                  <a:srgbClr val="ffffff"/>
                </a:solidFill>
                <a:latin typeface="Tahoma"/>
              </a:rPr>
              <a:t> </a:t>
            </a:r>
            <a:r>
              <a:rPr b="0" lang="ro-RO" sz="1400" spc="-1" strike="noStrike">
                <a:solidFill>
                  <a:srgbClr val="ffffff"/>
                </a:solidFill>
                <a:latin typeface="Tahoma"/>
              </a:rPr>
              <a:t>Persoanelor menţionate la alineatul (1) nu le pot fi impuse vize de ieşire şi nici alte formalităţi echivalent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INTRARE:statele membre permit intrarea pe teritoriul lor a cetăţenilor Uniunii care deţin cărţi de identitate valabile sau paşapoarte valabile, precum şi a membrilor familiilor acestora care nu au cetăţenia unui stat membru şi care deţin paşapoarte valabil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etăţenilor Uniunii nu le pot fi impuse vize de ieşire şi nici alte formalităţi echivalent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Membrilor de familie care nu au cetăţenia unui stat membru li se cere numai să posede o viză de intrare în conformitate cu Regulamentul (CE) nr. 539/2001 sau, dacă este cazul, cu legislaţia internă. În sensul prezentei directive, deţinerea permisului de şedere valabil menţionat la articolul 10 scuteşte membrii de familie de obligaţia de a obţine o viză.</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Statele membre acordă acestor persoane toate facilităţile pentru a obţine vizele necesare. Aceste vize se eliberează gratuit, în cel mai scurt termen şi pe baza unei proceduri accelerat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Statul membru gazdă nu aplică ştampila de intrare sau de ieşire în paşaportul membrilor de familie care nu au cetăţenia unui stat membru, dacă aceştia prezintă permisul de şedere menţionat la articolul 10.</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În cazul în care un cetăţean al Uniunii sau un membru al familiei acestuia care nu are cetăţenia unui stat membru nu posedă documentele de călătorie necesare sau, după caz, viza necesară, statul membru în cauză acordă acestor persoane, înainte de a proceda la expulzarea acestora, toate mijloacele rezonabile pentru a le permite să obţină, într-un termen rezonabil, documentele necesare sau pentru a confirma ori a dovedi prin alte mijloace că beneficiază de dreptul de liberă circulaţie şi şede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reptul de şeder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Dreptul de şedere pentru o perioadă de cel mult trei luni</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1) Cetăţenii Uniunii au dreptul de şedere pe teritoriul altui stat membru pe o perioadă de cel mult trei luni fără nici o altă condiţie sau formalitate în afara cerinţei de a deţine o carte de identitate valabilă sau un paşaport valabil.</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2) Dispoziţiile alineatului (1) se aplică şi membrilor de familie care deţin un paşaport valabil, care nu au cetăţenia unui stat membru şi care îl însoţesc pe cetăţeanul Uniunii ori se alătură acestu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reptul de şedere</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Dreptul de şedere pentru o perioadă mai mare de trei lun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1) Toţi cetăţenii Uniunii au dreptul de şedere pe teritoriul altui stat membru pentru o perioadă mai mare de trei luni în cazurile în car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 sunt lucrători care desfăşoară activităţi salariate sau activităţi independente în statul membru gazdă sa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b) dispun de suficiente resurse pentru ei şi pentru membrii familiilor lor, astfel încât să nu devină o sarcină pentru sistemul de asistenţă socială al statului membru gazdă în cursul şederii şi deţin asigurări medicale complete în statul membru gazdă sa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 - sunt înscrişi într-o instituţie privată sau publică, acreditată sau finanţată de către statul membru gazdă pe baza legislaţiei sau practicilor sale administrative, cu scopul principal de a urma studii, inclusiv de formare profesională ş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 deţin asigurări medicale complete în statul membru gazdă şi asigură autoritatea naţională competentă, printr-o declaraţie sau o altă procedură echivalentă la propria alegere, că posedă suficiente resurse pentru ei înşişi şi pentru membrii de familie, astfel încât să nu devină o povară pentru sistemul de asistenţă socială al statului membru gazdă în timpul perioadei de şedere sa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d) sunt membri de familie care însoţesc ori se alătură unui cetăţean al Uniunii care îndeplineşte el însuşi condiţiile menţionate la literele (a), (b) sau (c).</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2) Dreptul de şedere prevăzut la alineatul (1) se extinde asupra membrilor de familie care nu au cetăţenia unui stat membru, în cazul în care însoţesc ori se alătură cetăţeanului Uniunii în statul membru gazdă, cu condiţia ca cetăţeanul Uniunii să îndeplinească condiţiile menţionate la alineatul (1) literele (a), (b) sau (c).</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reptul de şedere</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În sensul alineatului (1) litera (a), un cetăţean al Uniunii care nu mai desfăşoară o activitate salariată sau o activitate independentă îşi menţine statutul de lucrător salariat sau de lucrător care desfăşoară o activitate independentă în următoarele condiţi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 se află în incapacitate temporară de a munci, ca rezultat al unei boli sau al unui accident;</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b) este înregistrat în mod corespunzător ca fiind în şomaj involuntar, după ce a fost angajat pe o perioadă de peste un an, şi s-a înregistrat ca persoană care caută de lucru la serviciul competent de ocupare a forţei de muncă;</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 este înregistrat în mod corespunzător ca fiind în şomaj involuntar, după ce a îndeplinit un contract de muncă pe termen limitat, cu durata de sub un an, sau după ce a devenit şomer în mod involuntar în timpul primelor douăsprezece luni şi s-a înregistrat ca persoană care caută de lucru la serviciul competent de ocupare a forţei de muncă. În acest caz, statutul de lucrător se menţine pentru o perioadă de cel puţin şase lun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d) începe un stagiu de formare profesională. Cu excepţia cazului în care se află în şomaj involuntar, menţinerea statutului de lucrător presupune ca pregătirea să aibă legătură cu activitatea profesională anterioară.</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4) Prin derogare de la dispoziţiile alineatului (1) litera (d) şi ale alineatului (2) de mai sus, numai soţul, partenerul înregistrat în înţelesul articolului 2 alineatul (2) litera (b) şi copiii aflaţi în întreţinere beneficiază de drept de şedere în calitate de membri de familie ai unui cetăţean al Uniunii ce îndeplineşte condiţiile prevăzute la alineatul (1) litera (c) de mai sus. Articolul 3 alineatul (1) se aplică în cazul rudelor directe pe linie ascendentă aflate în întreţinerea cetăţeanului Uniunii, precum şi celor ale soţului sau ale partenerului înregistrat.</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Înregistrare pe teritoriul unui SM</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Fără a aduce atingere articolului 5 alineatul (5), pentru perioade de şedere ce depăşesc trei luni, statul membru gazdă poate cere cetăţenilor Uniunii să se înregistreze la autorităţile competent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Termenul pentru înregistrare este de cel puţin trei luni de la data sosirii. Se eliberează imediat un certificat de înregistrare, care cuprinde numele şi adresa persoanei înregistrate, precum şi data înregistrării. Nerespectarea cerinţei de înregistrare de către persoana respectivă o poate face pe aceasta pasibilă de sancţiuni nediscriminatorii şi proporţiona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760"/>
            <a:ext cx="822960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Formalităţile administrative referitoare la membrii de familie care nu sunt resortisanţi ai unui stat membru</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tatele membre eliberează un permis de şedere membrilor familiei unui cetăţean al Uniunii care nu sunt resortisanţi ai unui stat membru, în cazul în care perioada planificată de şedere depăşeşte trei luni.</a:t>
            </a:r>
            <a:endParaRPr b="0" lang="en-US" sz="28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Termenul pentru prezentarea cererii de acordare a permisului de şedere este de cel puţin trei luni de la data sosirii.</a:t>
            </a:r>
            <a:endParaRPr b="0" lang="en-US" sz="28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Nerespectarea cerinţei de a solicita un permis de şedere poate face persoana respectivă pasibilă de sancţiuni nediscriminatorii şi proporţiona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Eliberarea permiselor de şedere</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reptul de şedere al membrilor de familie ai unui cetăţean al Uniunii care nu sunt resortisanţi ai unui stat membru se confirmă prin eliberarea unui document intitulat "Permis de şedere de membru de familie pentru un cetăţean al Uniunii", în termen de cel mult şase luni de la data la care aceştia prezintă cererea. O confirmare a depunerii cererii pentru permisul de şedere se eliberează imedia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Valabilitatea permisului de şeder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rmisul de şedere prevăzut la articolul 10 alineatul (1) este valabil timp de cinci ani de la data eliberării sau pe perioada prevăzută de şedere a cetăţeanului Uniunii, în cazul în care această perioadă este mai mică de cinci an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Valabilitatea permisului de şedere nu este afectată de absenţe temporare care nu depăşesc şase luni pe an sau de absenţe de durată mai mare în vederea îndeplinirii serviciului militar obligatoriu, ori de o absenţă de maxim douăsprezece luni consecutive determinată de motive importante, precum sarcina şi naşterea, boli grave, studiile sau formarea profesională ori detaşarea în alt stat membru sau într-o ţară terţ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 </a:t>
            </a:r>
            <a:r>
              <a:rPr b="0" lang="ro-RO" sz="2400" spc="-1" strike="noStrike">
                <a:solidFill>
                  <a:srgbClr val="ffffcc"/>
                </a:solidFill>
                <a:latin typeface="Tahoma"/>
              </a:rPr>
              <a:t>Păstrarea dreptului de şedere de către membrii de familie în eventualitatea decesului sau plecării cetăţeanului Uniunii</a:t>
            </a:r>
            <a:endParaRPr b="0" lang="en-US" sz="2400" spc="-1" strike="noStrike">
              <a:solidFill>
                <a:srgbClr val="ffffcc"/>
              </a:solidFill>
              <a:latin typeface="Tahoma"/>
            </a:endParaRPr>
          </a:p>
        </p:txBody>
      </p:sp>
      <p:sp>
        <p:nvSpPr>
          <p:cNvPr id="41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Fără a aduce atingere dispoziţiilor celui de-al doilea paragraf, decesul sau plecarea cetăţeanului Uniunii din statul membru gazdă nu afectează dreptul de şedere al membrilor săi de familie care au cetăţenia unui stat membr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Înainte de a dobândi dreptul de şedere permanentă, persoanele în cauză trebuie să îndeplinească condiţiile prevăzute la articolul 7 alineatul (1) literele (a), (b), (c) sau (d).</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Fără a aduce atingere dispoziţiilor celui de-al doilea paragraf, decesul cetăţeanului Uniunii nu atrage după sine pierderea dreptului de şedere al membrilor săi de familie care nu au cetăţenia unui stat membru şi care şi-au avut reşedinţa în statul membru gazdă în calitate de membri de familie timp de cel puţin un an înainte de decesul cetăţeanului Uniuni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Înainte de a dobândi dreptul de şedere permanentă, dreptul de şedere al persoanelor interesate rămâne supus obligaţiei ca aceştia să poată dovedi că desfăşoară o activitate salariată sau independentă sau că au suficiente resurse pentru ei înşişi şi pentru membrii familiilor lor, astfel încât să nu devină o sarcină pentru sistemul de asistenţă socială al statului membru gazdă în timpul perioadei de şedere şi că deţin o asigurare medicală completă, valabilă în statul membru gazdă ori că sunt membri ai unei familii constituite deja în statul membru gazdă de către o persoană care satisface aceste cerinţe. Resursele suficiente sunt definite la articolul 8 alineatul (4).</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Membrii de familie menţionaţi mai sus îşi menţin dreptul de şedere exclusiv cu titlu personal.</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Plecarea cetăţeanului Uniunii din statul membru gazdă sau decesul acestuia nu atrage pierderea dreptului de şedere pentru copiii săi sau pentru părintele care are custodia acestor copii, indiferent de cetăţenie, atât timp cât aceştia îşi au reşedinţa în statul membru gazdă şi sunt înscrişi într-o instituţie de învăţământ pentru a studia acolo, până la terminarea studiilo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Păstrarea dreptului de şedere de către membrii de familie </a:t>
            </a:r>
            <a:br>
              <a:rPr sz="2400"/>
            </a:br>
            <a:r>
              <a:rPr b="0" lang="ro-RO" sz="2400" spc="-1" strike="noStrike">
                <a:solidFill>
                  <a:srgbClr val="ffffcc"/>
                </a:solidFill>
                <a:latin typeface="Tahoma"/>
              </a:rPr>
              <a:t>în caz de divorţ, de anulare a căsătoriei sau de încetarea parteneriatului înregistra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Fără a aduce atingere dispoziţiilor celui de-al doilea paragraf, divorţul, anularea căsătoriei cetăţeanului Uniunii sau încetarea parteneriatului înregistrat menţionat la articolul 2 alineatul (2) litera (b) nu afectează dreptul de şedere al membrilor familiei sale care au cetăţenia unui stat membru.</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Înainte de a dobândi dreptul de şedere permanentă, persoanele interesate trebuie să îndeplinească condiţiile prevăzute la articolul 7 alineatul (1) literele (a), (b), (c) sau (d).</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Fără a aduce atingere dispoziţiilor celui de-al doilea paragraf, divorţul, anularea căsătoriei sau încetarea parteneriatului înregistrat menţionat la articolul 2 punctul 2 litera (b) nu atrag după sine pierderea dreptului de şedere al membrilor familiei unui cetăţean al Uniunii care nu sunt resortisanţi ai unui stat membru în cazurile în care:</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a) înainte de iniţierea procedurilor judiciare de divorţ, de anulare a căsătoriei sau de încetare a parteneriatului înregistrat, căsătoria sau parteneriatul înregistrat a durat cel puţin trei ani, din care cel puţin un an în statul membru gazdă sau</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b) prin acordul soţilor sau al partenerilor menţionaţi la articolul 2 punctul 2 litera (b) ori prin hotărâre judecătorească, copiii cetăţeanului Uniunii au fost încredinţaţi soţului sau partenerului care nu are cetăţenia unui stat membru sau</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c) acest lucru este justificat de situaţii deosebit de dificile, precum faptul de a fi fost victima violenţei în familie în perioada în care căsătoria sau parteneriatul înregistrat era încă în vigoare sau</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d) prin acordul soţilor sau al partenerilor menţionaţi la articolul 2 punctul 2 litera (b) sau prin hotărâre judecătorească, soţul ori partenerul care nu are cetăţenia unui stat membru are dreptul de vizitare a copilului minor, cu condiţia ca instanţa judecătorească să fi hotărât că vizitele trebuie să aibă loc în statul membru gazdă şi atât timp cât sunt necesare.</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Înainte de a dobândi dreptul de şedere permanentă, dreptul de şedere al persoanelor interesate rămâne supus obligaţiei ca aceştia să poată dovedi că desfăşoară o activitate salariată sau independentă sau că au suficiente resurse pentru ei înşişi şi pentru membrii familiilor lor, astfel încât să nu devină o sarcină pentru sistemul de asistenţă socială al statului membru gazdă în cursul şederii lor, precum şi că deţin o asigurare medicală completă, valabilă în statul membru gazdă, ori că sunt membri ai familiei constituite deja în statul membru gazdă de către o persoană care îndeplineşte aceste cerinţe. Resursele suficiente sunt definite la articolul 8 alineatul (4).</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Membrii de familie menţionaţi mai sus îşi menţin dreptul de şedere exclusiv cu titlu personal.</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T</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iva </a:t>
            </a:r>
            <a:r>
              <a:rPr b="0" lang="en-US" sz="2800" spc="-1" strike="noStrike" u="sng">
                <a:solidFill>
                  <a:srgbClr val="a3c145"/>
                </a:solidFill>
                <a:uFillTx/>
                <a:latin typeface="Tahoma"/>
                <a:hlinkClick r:id="rId1"/>
              </a:rPr>
              <a:t>2004/38/CE</a:t>
            </a:r>
            <a:r>
              <a:rPr b="0" lang="en-US" sz="2800" spc="-1" strike="noStrike">
                <a:solidFill>
                  <a:srgbClr val="ffffff"/>
                </a:solidFill>
                <a:latin typeface="Tahoma"/>
              </a:rPr>
              <a:t> a Parlamentului European și a Consiliului din 29 aprilie 2004 privind dreptul la liberă circulație și ședere pe teritoriul statelor membre pentru cetățenii Uniunii și membrii familiilor acestora, de modificare a Regulamentului (CEE) nr. 1612/68 și de abrogare a Directivelor 64/221/CEE, 68/360/CEE, 72/194/CEE, 73/148/CEE, 75/34/CEE, 75/35/CEE, 90/364/CEE, 90/365/CEE și 93/96/CE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Păstrarea dreptului de şedere</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Cetăţenii Uniunii şi membrii familiilor acestora au dreptul de şedere prevăzut la articolul 6 atât timp cât nu devin o sarcină excesivă pentru sistemul de asistenţă socială al statului membru gazdă.</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Cetăţenii Uniunii şi membrii familiilor acestora au dreptul de şedere prevăzut la articolele 7, 12 şi 13, atât timp cât îndeplinesc condiţiile prevăzute de aceste articole.</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În cazuri speciale, dacă există bănuiala rezonabilă potrivit căreia un cetăţean al Uniunii sau membrii familiei acestuia nu îndeplinesc condiţiile prevăzute la articolele 7, 12 şi 13, statele membre pot verifica aceasta. </a:t>
            </a:r>
            <a:r>
              <a:rPr b="1" i="1" lang="ro-RO" sz="1600" spc="-1" strike="noStrike">
                <a:solidFill>
                  <a:srgbClr val="ffffff"/>
                </a:solidFill>
                <a:latin typeface="Tahoma"/>
              </a:rPr>
              <a:t>Această verificare nu se realizează în mod sistematic.</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1" lang="ro-RO" sz="1600" spc="-1" strike="noStrike">
                <a:solidFill>
                  <a:srgbClr val="ffffff"/>
                </a:solidFill>
                <a:latin typeface="Tahoma"/>
              </a:rPr>
              <a:t>Recurgerea de către un cetăţean al Uniunii sau de către un membru al familiei sale la sistemul de asistenţă socială al statului membru gazdă nu conduce în mod automat la luarea unei măsuri de expulzare</a:t>
            </a:r>
            <a:r>
              <a:rPr b="1" i="1" lang="ro-RO" sz="1600" spc="-1" strike="noStrike">
                <a:solidFill>
                  <a:srgbClr val="ffffff"/>
                </a:solidFill>
                <a:latin typeface="Tahoma"/>
              </a:rPr>
              <a:t>.</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Prin derogare de la dispoziţiile alineatelor (1) şi (2) şi fără a aduce atingere dispoziţiilor capitolului VI, o măsură de expulzare nu poate fi în nici un caz adoptată împotriva unor cetăţeni ai Uniunii sau membrilor de familie ai acestora în cazurile în care:</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a) cetăţenii în cauză ai Uniunii sunt lucrători care desfăşoară activităţi salariate sau independente ori</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b) cetăţenii în cauză ai Uniunii au intrat pe teritoriul statului membru gazdă în căutarea unui loc de muncă. În acest caz, cetăţenii Uniunii şi membrii familiilor acestora nu pot fi expulzaţi atât timp cât cetăţenii Uniunii pot dovedi că sunt în continuare în căutarea unui loc de muncă şi că au şanse reale de a fi angajaţ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Garanţiile procedurale</a:t>
            </a:r>
            <a:r>
              <a:rPr b="0" lang="en-US" sz="4000" spc="-1" strike="noStrike">
                <a:solidFill>
                  <a:srgbClr val="ffffcc"/>
                </a:solidFill>
                <a:latin typeface="Tahoma"/>
              </a:rPr>
              <a:t> </a:t>
            </a:r>
            <a:r>
              <a:rPr b="0" lang="ro-RO" sz="4000" spc="-1" strike="noStrike">
                <a:solidFill>
                  <a:srgbClr val="ffffcc"/>
                </a:solidFill>
                <a:latin typeface="Tahoma"/>
              </a:rPr>
              <a:t>– Articolul 15</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cedurile prevăzute la articolele 30 şi 31 se aplică prin analogie oricărei decizii ce restrânge libera circulaţie a unui cetăţean al Uniunii şi a membrilor familiei acestuia pentru alte motive decât cele de ordine publică, siguranţă publică sau sănătate publică.</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xpirarea valabilităţii cărţii de identitate sau a paşaportului în temeiul căruia persoana în cauză a intrat pe teritoriul statului membru gazdă şi eliberate concomitent cu un certificat de înregistrare sau cu un permis de şedere nu constituie un motiv suficient de expulzare de către statul membru.</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tatul membru gazdă nu poate însoţi decizia de expulzare menţionată la alineatul (1) de o interdicţie de intrare pe teritoriul să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Dreptul de şedere permanentă</a:t>
            </a:r>
            <a:r>
              <a:rPr b="0" lang="en-US" sz="4000" spc="-1" strike="noStrike">
                <a:solidFill>
                  <a:srgbClr val="ffffcc"/>
                </a:solidFill>
                <a:latin typeface="Tahoma"/>
              </a:rPr>
              <a:t> </a:t>
            </a:r>
            <a:r>
              <a:rPr b="0" lang="ro-RO" sz="4000" spc="-1" strike="noStrike">
                <a:solidFill>
                  <a:srgbClr val="ffffcc"/>
                </a:solidFill>
                <a:latin typeface="Tahoma"/>
              </a:rPr>
              <a:t> Eligibilitatea</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gula generală pentru cetăţenii Uniunii şi pentru membrii familiilor acestora este că cetăţenii Uniunii care şi-au avut reşedinţa legală pe teritoriul statului membru gazdă în cursul unei perioade neîntrerupte de cinci ani dobândesc dreptul de şedere permanentă pe teritoriul acestuia. Acest drept nu face obiectul condiţiilor prevăzute la capitolul II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ceastă regulă se aplică şi în cazul membrilor de familie care nu au cetăţenia unui stat membru şi care şi-au avut reşedinţa legală împreună cu cetăţeanul Uniunii în statul membru gazdă în cursul unei perioade neîntrerupte de cinci an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Dreptul de şedere permanentă</a:t>
            </a:r>
            <a:r>
              <a:rPr b="0" lang="en-US" sz="4000" spc="-1" strike="noStrike">
                <a:solidFill>
                  <a:srgbClr val="ffffcc"/>
                </a:solidFill>
                <a:latin typeface="Tahoma"/>
              </a:rPr>
              <a:t> </a:t>
            </a:r>
            <a:r>
              <a:rPr b="0" lang="ro-RO" sz="4000" spc="-1" strike="noStrike">
                <a:solidFill>
                  <a:srgbClr val="ffffcc"/>
                </a:solidFill>
                <a:latin typeface="Tahoma"/>
              </a:rPr>
              <a:t> Eligibilitatea</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inuitatea şederii nu este afectată de absenţe temporare care nu depăşesc un total de şase luni pe an sau de absenţe de durată mai lungă în vederea îndeplinirii serviciului militar obligatoriu ori de o absenţă de maxim douăsprezece luni consecutive determinată de motive importante, precum sarcina şi naşterea, boli grave, studiile sau formare profesională ori detaşarea în alt stat membru sau într-o ţară terţă.</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dată dobândit, dreptul de şedere permanentă se pierde numai în cazul unei absenţe din statul membru gazdă pe o perioadă care depăşeşte doi ani consecutivi</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erogări</a:t>
            </a:r>
            <a:endParaRPr b="0" lang="en-US" sz="4400" spc="-1" strike="noStrike">
              <a:solidFill>
                <a:srgbClr val="ffffcc"/>
              </a:solidFill>
              <a:latin typeface="Tahoma"/>
            </a:endParaRPr>
          </a:p>
        </p:txBody>
      </p:sp>
      <p:sp>
        <p:nvSpPr>
          <p:cNvPr id="4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in derogare de la dispoziţiile articolului 16, dreptul de şedere permanentă în statul membru gazdă se acordă înaintea încheierii unei perioade neîntrerupte de şedere de cinci ani în cazurile în care:</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a) lucrătorul care desfăşoară o activitate salariată sau independentă, în momentul în care şi-a încetat activitatea, a împlinit vârsta prevăzută de legislaţia statului membru respectiv în vederea pensionării pentru limită de vârstă, ori lucrătorul care a încetat activitatea salariată ca urmare a pensionării anticipate a lucrat în statul membru respectiv cel puţin în cursul ultimelor douăsprezece luni precedente şi şi-a avut reşedinţa pe teritoriul acestuia pe o perioadă neîntreruptă mai mare de trei ani.</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În cazul în care legislaţia statului membru gazdă nu acordă dreptul la pensie pentru limită de vârstă anumitor categorii de lucrători care desfăşoară activităţi independente, se consideră că este îndeplinită condiţia de vârstă de îndată ce beneficiarul a împlinit vârsta de 60 de ani;</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b) lucrătorul care desfăşoară o activitate salariată sau independentă care, avându-şi reşedinţa în statul membru gazdă timp de cel puţin doi ani, încetează să-şi desfăşoare activitatea din cauza unei incapacităţi permanente de muncă.</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În cazul în care această incapacitate este rezultatul unui accident de muncă sau al unei boli profesionale care îndreptăţeşte persoana respectivă la o prestaţie plătită integral sau parţial de o instituţie publică a statului membru gazdă, nu este necesară îndeplinirea nici unei condiţii privind durata şederii;</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c) lucrătorul care desfăşoară o activitate salariată sau independentă care, după trei ani de muncă şi şedere neîntreruptă pe teritoriul statului membru gazdă, desfăşoară o activitate salariată sau independentă pe teritoriul unui alt stat membru, dar îşi păstrează reşedinţa pe teritoriul statului membru gazdă pe care se întoarce, de obicei, în fiecare zi sau cel puţin o dată pe săptămână.</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În vederea dobândirii drepturilor menţionate la literele (a) şi (b), perioadele de muncă petrecute pe teritoriul statului membru pe care lucrează persoana în cauză se consideră ca fiind petrecute pe teritoriul statului membru gazdă.</a:t>
            </a:r>
            <a:endParaRPr b="0" lang="en-US" sz="1200" spc="-1" strike="noStrike">
              <a:solidFill>
                <a:srgbClr val="ffffff"/>
              </a:solidFill>
              <a:latin typeface="Tahoma"/>
            </a:endParaRPr>
          </a:p>
          <a:p>
            <a:pPr marL="343080" indent="-34308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    </a:t>
            </a:r>
            <a:r>
              <a:rPr b="0" lang="ro-RO" sz="1200" spc="-1" strike="noStrike">
                <a:solidFill>
                  <a:srgbClr val="ffffff"/>
                </a:solidFill>
                <a:latin typeface="Tahoma"/>
              </a:rPr>
              <a:t>Perioadele de şomaj involuntar, înregistrate corespunzător de serviciul de ocupare a forţei de muncă competent, perioadele în care persoana a încetat munca din motive independente de voinţa sa, precum şi absenţele de la lucru şi încetarea lucrului din cauza unei boli sau a unui accident se consideră perioade de muncă.</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erogări</a:t>
            </a:r>
            <a:endParaRPr b="0" lang="en-US" sz="4400" spc="-1" strike="noStrike">
              <a:solidFill>
                <a:srgbClr val="ffffcc"/>
              </a:solidFill>
              <a:latin typeface="Tahoma"/>
            </a:endParaRPr>
          </a:p>
        </p:txBody>
      </p:sp>
      <p:sp>
        <p:nvSpPr>
          <p:cNvPr id="43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Condiţiile privind durata şederii şi a muncii prevăzute la alineatul (1) litera (a) şi condiţia privind durata şederii prevăzută la alineatul (1) litera (b) nu se aplică dacă lucrătorul care desfăşoară o activitate salariată sau independentă are un soţ sau un partener, astfel cum este menţionat la articolul 2 alineatul (2) litera (b), care este resortisant al statului membru gazdă sau a pierdut cetăţenia acestui stat membru prin căsătoria cu lucrătorul care desfăşoară o activitate salariată sau independentă.</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Indiferent de cetăţenie, membrii familiei unui lucrător care desfăşoară o activitate salariată sau independentă care locuiesc împreună cu acesta pe teritoriul statului membru gazdă au dreptul de şedere permanentă în statul membru respectiv, dacă lucrătorul care desfăşoară o activitate salariată sau independentă a dobândit el însuşi, în temeiul alineatului (1), dreptul de şedere permanentă pe teritoriul acestui stat membr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u toate acestea, în cazul în care lucrătorul care desfăşoară o activitate salariată sau independentă decedează în cursul perioadei de activitate, dar înainte de a dobândi dreptul de şedere permanentă în statul membru gazdă în temeiul alineatului (1), membrii familiei sale care locuiesc împreună cu acesta pe teritoriul statului membru gazdă dobândesc dreptul de şedere permanentă în statul respectiv, cu condiţia ca:</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a) la data survenirii decesului, lucrătorul care a desfăşurat o activitate salariată sau independentă să îşi fi avut reşedinţa pe teritoriul statului membru respectiv timp de doi ani neîntrerupţi sau</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b) decesul să fi fost urmare a unui accident de muncă sau a unei boli profesionale or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    </a:t>
            </a:r>
            <a:r>
              <a:rPr b="0" lang="ro-RO" sz="1400" spc="-1" strike="noStrike">
                <a:solidFill>
                  <a:srgbClr val="ffffff"/>
                </a:solidFill>
                <a:latin typeface="Tahoma"/>
              </a:rPr>
              <a:t>(c) soţul supravieţuitor să îşi fi pierdut cetăţenia statului membru respectiv ca urmare a căsătoriei cu lucrătorul care a desfăşurat o activitate salariată sau independentă.</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Dobândirea dreptului de şedere permanentă de către membrii de familie care nu au cetăţenia unui stat membru</a:t>
            </a:r>
            <a:endParaRPr b="0" lang="en-US" sz="24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Fără a aduce atingere dispoziţiilor articolului 17, membrii familiei unui cetăţean al Uniunii menţionaţi la articolul 12 alineatul (2) şi la articolul 13 alineatul (2) care îndeplinesc condiţiile prevăzute de acestea dobândesc dreptul de şedere permanentă după ce şi-au avut reşedinţa legală în statul membru gazdă pe o perioadă neîntreruptă de cinci an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Continuitatea şederii</a:t>
            </a:r>
            <a:endParaRPr b="0" lang="en-US" sz="44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inuitatea şederii poate fi atestată prin orice mijloc de probă admisibil în statul membru gazdă. Continuitatea şederii este întreruptă de o decizie de expulzare pusă în executare cu privire la persoana în cauz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Domeniul de aplicare teritorială</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reptul de şedere şi dreptul de şedere permanentă privesc întregul teritoriu al statului membru gazdă. Statele membre pot impune restricţii teritoriale privind dreptul de şedere şi dreptul de şedere permanentă numai dacă restricţiile respective se aplică şi resortisanţilor l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Drepturi conexe</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Indiferent de cetăţenie, membrii familiei unui cetăţean al Uniunii care au dreptul de şedere sau dreptul de şedere permanentă într-un stat membru au dreptul să desfăşoare o activitate salariată sau independentă în statul respecti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INTEZĂ</a:t>
            </a:r>
            <a:br>
              <a:rPr sz="2400"/>
            </a:br>
            <a:r>
              <a:rPr b="1" lang="en-US" sz="2400" spc="-1" strike="noStrike">
                <a:solidFill>
                  <a:srgbClr val="ffffcc"/>
                </a:solidFill>
                <a:latin typeface="Tahoma"/>
              </a:rPr>
              <a:t>CARE ESTE ROLUL ACESTEI DIRECTIVE?</a:t>
            </a:r>
            <a:endParaRPr b="0" lang="en-US" sz="2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rectiv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unește într-un singur act juridic numeroase documente legislative existent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bilește condițiile pentru dreptul cetățenilor UE* și al membrilor familiilor* acestora la liberă circulație și ședere (atât temporară, cât și permanentă);</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ște limitele impuse drepturilor respective pe motive ce țin de ordinea publică, siguranța publică sau sănătatea publică;</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rifică statutul persoanelor care desfășoară o activitate salariată sau o activitate independentă, sunt studenți sau nu desfășoară o activitate remunerat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Egalitatea de tratamen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Sub rezerva dispoziţiilor speciale prevăzute expres de tratat şi de dreptul derivat, orice cetăţean al Uniunii care, în temeiul prezentei directive, îşi are reşedinţa pe teritoriul statului membru gazdă se bucură de egalitate de tratament în raport cu resortisanţii statului membru respectiv în domeniul de aplicare al tratatului. Beneficiul acestui drept se extinde asupra membrilor de familie care nu au cetăţenia unui stat membru şi care au dreptul de şedere sau dreptul de şedere permanentă.</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Prin derogare de la dispoziţiile alineatului (1), statul membru gazdă nu este obligat să acorde dreptul la prestaţii de asistenţă socială în timpul primelor trei luni de şedere sau, după caz, în timpul perioadei mai lungi prevăzute la articolul 14 alineatul (4) litera (b) şi nici nu este obligat ca, înainte de dobândirea dreptului de şedere permanentă, să acorde ajutoare pentru studii, inclusiv pentru formare profesională, constând în burse de studiu sau împrumuturi, unor persoane altele decât lucrătorii care desfăşoară activităţi salariate sau independente, persoanelor care îşi menţin acest statut şi membrilor familiilor acesto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Restrângerea dreptului de intrare şi dreptului de şedere pentru motive de ordine publică, siguranţă publică sau sănătate publică</a:t>
            </a:r>
            <a:endParaRPr b="0" lang="en-US" sz="2400" spc="-1" strike="noStrike">
              <a:solidFill>
                <a:srgbClr val="ffffcc"/>
              </a:solidFill>
              <a:latin typeface="Tahoma"/>
            </a:endParaRPr>
          </a:p>
        </p:txBody>
      </p:sp>
      <p:sp>
        <p:nvSpPr>
          <p:cNvPr id="4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statele membre pot restrânge libertatea de circulaţie şi de şedere a cetăţenilor Uniunii şi a membrilor lor de familie, indiferent de cetăţenie, pentru motive de ordine publică, siguranţă publică sau sănătate publică. Aceste motive nu pot fi invocate în scopuri econom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Principii generale</a:t>
            </a: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Măsurile luate din motive de ordine publică sau siguranţă publică respectă principiul proporţionalităţii şi se întemeiază exclusiv pe conduita persoanei în cauză. Condamnările penale anterioare nu pot justifica în sine luarea unor asemenea măsur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Conduita persoanei în cauză trebuie să constituie o ameninţare reală, prezentă şi suficient de gravă la adresa unui interes fundamental al societăţii. Nu pot fi acceptate motivări care nu sunt direct legate de caz sau care sunt legate de consideraţii de prevenţie general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Principii generale</a:t>
            </a:r>
            <a:endParaRPr b="0" lang="en-US" sz="4400" spc="-1" strike="noStrike">
              <a:solidFill>
                <a:srgbClr val="ffffcc"/>
              </a:solidFill>
              <a:latin typeface="Tahoma"/>
            </a:endParaRPr>
          </a:p>
        </p:txBody>
      </p:sp>
      <p:sp>
        <p:nvSpPr>
          <p:cNvPr id="4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Pentru a stabili dacă persoana respectivă reprezintă un pericol pentru ordinea publică sau siguranţa publică, la eliberarea certificatului de înregistrare sau, în absenţa unui sistem de înregistrare, în termen de cel mult trei luni de la intrarea persoanei respective pe teritoriul său sau de la data la care persoana şi-a semnalat prezenţa pe teritoriul său în conformitate cu articolul 5 alineatul (5) ori la eliberarea permisului de şedere, statul membru gazdă poate, în cazul în care consideră indispensabil, să ceară statului membru de origine sau, dacă este necesar, altor state membre să îi furnizeze informaţii privind antecedentele persoanei respective. Această consultare nu poate avea un caracter sistematic. Statul membru consultat răspunde în termen de două lu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Statul membru care a eliberat paşaportul sau cartea de identitate permite titularului documentului care a fost expulzat din motive de ordine publică, siguranţă publică sau sănătate publică de pe teritoriul altui stat membru să reintre pe teritoriul său fără nici o formalitate, chiar dacă documentul nu mai este valabil sau dacă cetăţenia titularului este contestat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Protecţia împotriva expulzării</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ainte de a lua o decizie de expulzare de pe teritoriul său din motive de ordine publică sau siguranţă publică, statul membru gazdă ia în considerare diverşi factori precum durata şederii individului respectiv pe teritoriul său, vârsta acestuia, starea lui de sănătate, situaţia sa familială şi economică, integrarea sa socială şi culturală în statul membru gazdă şi legăturile sale cu ţara de origine.</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SM gazdă nu poate lua o decizie de expulzare împotriva unui cetăţean al Uniunii sau a membrilor familiei sale, indiferent de cetăţenie, care au dobândit dreptul de şedere permanentă pe teritoriul său, cu excepţia cazurilor în care există motive imperative de ordine publică sau siguranţă publică.</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Nu se poate lua o decizie de expulzare împotriva cetăţenilor Uniunii, indiferent de cetăţenia acestora, cu excepţia cazului în care decizia se bazează pe motive imperative de siguranţă publică definite de statele membre, dacă aceştia:</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 şi-au avut reşedinţa în statul membru gazdă în cei zece ani anteriori sau</a:t>
            </a:r>
            <a:endParaRPr b="0" lang="en-US" sz="1800" spc="-1" strike="noStrike">
              <a:solidFill>
                <a:srgbClr val="ffffff"/>
              </a:solidFill>
              <a:latin typeface="Tahoma"/>
            </a:endParaRPr>
          </a:p>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b) sunt minori, cu excepţia cazului în care expulzarea este în interesul copilului, în conformitate cu Convenţia Organizaţiei Naţiunilor Unite privind drepturile copilului, încheiată la 20 noiembrie 1989.</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Sănătatea publică</a:t>
            </a:r>
            <a:endParaRPr b="0" lang="en-US" sz="4400" spc="-1" strike="noStrike">
              <a:solidFill>
                <a:srgbClr val="ffffcc"/>
              </a:solidFill>
              <a:latin typeface="Tahoma"/>
            </a:endParaRPr>
          </a:p>
        </p:txBody>
      </p:sp>
      <p:sp>
        <p:nvSpPr>
          <p:cNvPr id="4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ingurele boli care justifică măsuri de restricţionare a liberei circulaţii sunt bolile cu potenţial epidemic, astfel cum sunt acestea definite de documentele relevante ale Organizaţiei Mondiale a Sănătăţii, precum şi alte boli infecţioase sau parazitare contagioase, dacă acestea fac obiectul unor dispoziţii de protecţie ce se aplică resortisanţilor din statul membru gazdă.</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Bolile ce se declanşează după o perioadă de trei luni de la data sosirii nu pot motiva expulzarea de pe teritoriul respectiv.</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acă există indicii serioase că acest lucru este necesar, într-un termen de trei luni de la data sosirii, statele membre pot supune beneficiarii dreptului de şedere unui examen medical gratuit, care să ateste că nu suferă de nici una dintre bolile menţionate la alineatul (1).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Aceste examene medicale nu pot fi impuse în mod sistemati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Notificarea deciziilor</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ersoanele interesate sunt notificate în scris cu privire la orice decizie adoptată în temeiul articolului 27 alineatul (1), astfel încât să poată înţelege conţinutul notificării şi implicaţiile acesteia.</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ersoanele interesate sunt informate în mod precis şi complet cu privire la motivele de ordine publică, siguranţă publică sau sănătate publică pe care se bazează decizia luată în cazul lor, cu excepţia situaţiilor în care acest lucru este contrar intereselor siguranţei statulu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otificarea precizează instanţa judecătorească sau autoritatea administrativă la care persoana interesată poate contesta decizia, termenul pentru contestare şi, dacă este cazul, termenul acordat persoanei respective pentru a părăsi teritoriul statului membru. Cu excepţia unor cazuri de urgenţă, motivate corespunzător, termenul acordat pentru părăsirea teritoriului nu poate fi mai mic de o lună de la data notificări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Garanţii procedurale</a:t>
            </a:r>
            <a:endParaRPr b="0" lang="en-US" sz="4400" spc="-1" strike="noStrike">
              <a:solidFill>
                <a:srgbClr val="ffffcc"/>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rsoanele interesate au acces, în statul membru gazdă, la căile judiciare de atac şi, dacă este cazul, la cele administrative, pentru a contesta o decizie luată împotriva lor din motive de ordine publică, siguranţă publică sau sănătate public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Garanţii procedurale</a:t>
            </a: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 cazul în care contestarea deciziei de expulzare este însoţită de o cerere de luare a unor măsuri vremelnice de suspendare a executării deciziei, expulzarea efectivă a persoanei de pe teritoriu nu se poate face înainte de luarea ordonanţei privind măsurile vremelnice, cu excepţia cazurilor în ca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decizia de expulzare se întemeiază pe o hotărâre judecătorească anterioară sau</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persoanele în cauză au avut anterior acces la o cale judiciară de atac sau</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decizia de expulzare se întemeiază pe motive imperative de siguranţă publică, în conformitate cu articolul 28 alineatul (3).</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ăile de atac permit examinarea legalităţii deciziei, precum şi a faptelor şi împrejurărilor pe care se bazează măsura propusă. Acestea asigură că decizia nu are caracter disproporţionat, în special având în vedere cerinţele prevăzute la articolul 28.</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Garanţii procedurale - Particularitate</a:t>
            </a:r>
            <a:endParaRPr b="0" lang="en-US" sz="40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Statele membre pot refuza prezenţa persoanei respective pe teritoriul lor pe parcursul exercitării căilor de atac, dar nu o pot împiedica să îşi formuleze personal apărările, cu excepţia cazurilor când prezenţa sa ar putea cauza perturbări grave ale ordinii şi siguranţei publice sau când calea de atac priveşte refuzul accesului pe teritoriul respecti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SPECTE-CHEIE</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etățenii UE care dețin o carte de identitate valabilă sau un pașaport valabil:</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dreptul de a intra pe teritoriul altei țări a UE, același drept avându-l și membrii familiilor acestora - indiferent dacă sunt sau nu cetățeni ai UE - fără a avea nevoie de viză de intrare sau de ieșir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dreptul de a locui într-o altă țară a UE până la trei luni fără a face obiectul vreunei condiții sau formalităț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dreptul de a locui într-o țară a UE mai mult de trei luni, sub rezerva anumitor condiții, în funcție de statutul lor în țara-gazdă. Persoanele care desfășoară o activitate salariată sau independentă nu trebuie să întrunească alte condiții. Studenții și alte persoane inactive, cum ar fi pensionarii, trebuie să dispună de suficiente resurse pentru ele și pentru membrii familiilor lor, astfel încât să nu devină o povară pentru sistemul de asistență socială al țării-gazdă, și de asigurări medicale complet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obligația de a se înregistra la autoritățile competente în cazul în care locuiesc în țara respectivă mai mult de trei luni. În cazul în care nu sunt cetățeni ai UE, membrii familiilor lor trebuie să dețină un permis de ședere valabil timp de cinci ani;</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 drept de ședere permanentă dacă și-au avut reședința legală într-o altă țară a UE în cursul unei perioade neîntrerupte de cinci ani. Această prevedere se aplică și în cazul membrilor de familie;</a:t>
            </a:r>
            <a:endParaRPr b="0" lang="en-US" sz="1400" spc="-1" strike="noStrike">
              <a:solidFill>
                <a:srgbClr val="ffffff"/>
              </a:solidFill>
              <a:latin typeface="Tahoma"/>
            </a:endParaRPr>
          </a:p>
          <a:p>
            <a:pPr marL="343080" indent="-34308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bucură de egalitate de tratament în raport cu resortisanții țării-gazdă. Cu toate acestea, autoritățile din țara-gazdă nu sunt obligate să acorde dreptul la prestații de asistență socială cetățenilor UE care nu desfășoară activități remunerate în primele trei luni de ședer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 </a:t>
            </a:r>
            <a:r>
              <a:rPr b="0" lang="ro-RO" sz="4000" spc="-1" strike="noStrike">
                <a:solidFill>
                  <a:srgbClr val="ffffcc"/>
                </a:solidFill>
                <a:latin typeface="Tahoma"/>
              </a:rPr>
              <a:t>Efectele în timp ale interdicţiei de intrare pe teritoriu</a:t>
            </a:r>
            <a:endParaRPr b="0" lang="en-US" sz="4000" spc="-1" strike="noStrike">
              <a:solidFill>
                <a:srgbClr val="ffffcc"/>
              </a:solidFill>
              <a:latin typeface="Tahoma"/>
            </a:endParaRPr>
          </a:p>
        </p:txBody>
      </p:sp>
      <p:sp>
        <p:nvSpPr>
          <p:cNvPr id="4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ersoanele care fac obiectul unei decizii de interzicere a intrării pe teritoriu pentru motive de ordine publică, siguranţă publică sau sănătate publică pot prezenta o cerere pentru ridicarea interdicţiei după o perioadă de timp rezonabilă, în funcţie de împrejurări şi, în orice caz, după trei ani de la executarea hotărârii definitive de interzicere a intrării care a fost pronunţată în mod valabil în conformitate cu dreptul comunitar, prezentând probe ce atestă că s-a produs o schimbare efectivă a împrejurărilor care au justificat decizia de interzicere a intrării pronunţată împotriva lor.</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Statul membru în cauză ia o decizie privind această cerere în termen de şase luni de la prezentarea acesteia.</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Persoanele menţionate la alineatul (1) nu au dreptul de intrare pe teritoriul statului membru respectiv în perioada în care cererea lor este analizat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Expulzarea ca pedeapsă sau măsură accesori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xpulzarea poate fi dispusă de statul membru gazdă ca pedeapsă sau măsură accesorie a unei pedepse privative de libertate numai cu respectarea cerinţelor prevăzute la articolele 27, 28 şi 29.</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În cazul în care decizia de expulzare menţionată la alineatul (1) este pusă în executare după mai mult de doi ani de la emiterea sa, statul membru verifică dacă persoana respectivă continuă să constituie un pericol real şi actual la adresa ordinei publice sau a siguranţei publice şi stabileşte dacă de la data emiterii deciziei de expulzare s-a produs vreo schimbare efectivă a împrejurăril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Informarea opiniei public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Statele membre difuzează informaţiile privind drepturile şi obligaţiile cetăţenilor Uniunii şi ale membrilor familiilor acestora cu privire la subiectele reglementate de prezenta directivă, în special prin campanii de sensibilizare realizate prin mijloacele de informare în masă şi prin alte mijloace de comunicare locale şi naţiona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Abuzul de drept</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Statele membre pot adopta măsurile necesare pentru a refuza, anula sau retrage orice drept conferit prin prezenta directivă, în caz de abuz de drept sau fraudă, precum căsătoriile de convenienţă. Orice măsură de acest fel este proporţională şi supusă garanţiilor procedurale prevăzute la articolele 30 şi 31</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Sancţiuni</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Statele membre prevăd dispoziţii privind sancţiunile aplicabile în cazul încălcării dispoziţiilor de drept intern adoptate pentru aplicarea prezentei directive şi adoptă orice măsură necesară pentru punerea lor în aplicare. Sancţiunile prevăzute sunt eficiente şi proporţionale. Cel târziu la 30 aprilie 2006, Comisiei îi sunt notificate aceste dispoziţii de către statele membre şi cât mai curând posibil orice modificare ulterioar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 </a:t>
            </a:r>
            <a:r>
              <a:rPr b="0" lang="ro-RO" sz="4000" spc="-1" strike="noStrike">
                <a:solidFill>
                  <a:srgbClr val="ffffcc"/>
                </a:solidFill>
                <a:latin typeface="Tahoma"/>
              </a:rPr>
              <a:t>Dispoziţii de drept intern mai favorabile</a:t>
            </a:r>
            <a:endParaRPr b="0" lang="en-US" sz="4000" spc="-1" strike="noStrike">
              <a:solidFill>
                <a:srgbClr val="ffffcc"/>
              </a:solidFill>
              <a:latin typeface="Tahoma"/>
            </a:endParaRPr>
          </a:p>
        </p:txBody>
      </p:sp>
      <p:sp>
        <p:nvSpPr>
          <p:cNvPr id="4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Dispoziţiile prezentei directive nu aduc atingere actelor cu putere de lege şi actelor administrative ale unui stat membru care cuprind dispoziţii mai favorabile persoanelor la care se referă prezenta directivă</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 </a:t>
            </a:r>
            <a:r>
              <a:rPr b="0" lang="ro-RO" sz="4400" spc="-1" strike="noStrike">
                <a:solidFill>
                  <a:srgbClr val="ffffcc"/>
                </a:solidFill>
                <a:latin typeface="Tahoma"/>
              </a:rPr>
              <a:t>Transpunerea</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tatele membre pun în aplicare, până la 30 aprilie 2006, actele cu putere de lege şi actele administrative necesare pentru a se conforma prezentei directive. Statele membre informează imediat Comisia cu privire la aceasta.</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În cazul în care statele membre adoptă aceste dispoziţii, ele cuprind o trimitere la prezenta directivă sau sunt însoţite de o asemenea trimitere în momentul publicării lor oficiale. Statele membre stabilesc modalitatea de efectuare a acestei trimiteri.</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misiei îi este comunicat de către statele membre textul dispoziţiilor de drept intern pe care le adoptă în domeniul reglementat de prezenta directivă, precum şi un tabel de corespondenţă între prezenta directivă şi dispoziţiile de drept intern adopta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Transpunerea în România</a:t>
            </a:r>
            <a:endParaRPr b="0" lang="en-US" sz="4400" spc="-1" strike="noStrike">
              <a:solidFill>
                <a:srgbClr val="ffffcc"/>
              </a:solidFill>
              <a:latin typeface="Tahoma"/>
            </a:endParaRPr>
          </a:p>
        </p:txBody>
      </p:sp>
      <p:sp>
        <p:nvSpPr>
          <p:cNvPr id="4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RDONANŢĂ DE URGENŢĂ   Nr. 102 din 14 iulie 2005    *** republicată, privindlibera circulaţie pe teritoriul României a cetăţenilor statelor membre ale Uniunii Europene, Spaţiului Economic European şi a cetăţenilor Confederaţiei Elveţien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rezenta ordonanţă de urgenţă transpune </a:t>
            </a:r>
            <a:r>
              <a:rPr b="0" lang="ro-RO" sz="2000" spc="-1" strike="noStrike" u="sng">
                <a:solidFill>
                  <a:srgbClr val="ffffff"/>
                </a:solidFill>
                <a:uFillTx/>
                <a:latin typeface="Tahoma"/>
              </a:rPr>
              <a:t>Directiva Consiliului nr. 38/2004/CE</a:t>
            </a:r>
            <a:r>
              <a:rPr b="0" lang="ro-RO" sz="2000" spc="-1" strike="noStrike">
                <a:solidFill>
                  <a:srgbClr val="ffffff"/>
                </a:solidFill>
                <a:latin typeface="Tahoma"/>
              </a:rPr>
              <a:t> a Parlamentului European şi a Consiliului din 29 aprilie 2004 privind libera circulaţie şi rezidenţă a cetăţenilor Uniunii Europene şi membrilor de familie ai acestora pe teritoriul statelor membre, de modificare a </a:t>
            </a:r>
            <a:r>
              <a:rPr b="0" lang="ro-RO" sz="2000" spc="-1" strike="noStrike" u="sng">
                <a:solidFill>
                  <a:srgbClr val="ffffff"/>
                </a:solidFill>
                <a:uFillTx/>
                <a:latin typeface="Tahoma"/>
              </a:rPr>
              <a:t>Regulamentului (CEE) nr. 1.612/68</a:t>
            </a:r>
            <a:r>
              <a:rPr b="0" lang="ro-RO" sz="2000" spc="-1" strike="noStrike">
                <a:solidFill>
                  <a:srgbClr val="ffffff"/>
                </a:solidFill>
                <a:latin typeface="Tahoma"/>
              </a:rPr>
              <a:t> şi de abrogare a directivelor 64/221/CEE, 68/360/CEE, 72/194/CEE, 73/148/CEE, 75/34/CEE, 75/35/CEE, 90/364/CEE, 90/365/CEE şi 93/96/CEE, publicată în Jurnalul Oficial al Uniunii Europene nr. L 158 din 30 aprilie 2004.</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aport CE: Transpunerea directivei privind dreptul la libera circulatie a cetatenilor UE este mai degraba dezamagitoare</a:t>
            </a:r>
            <a:br>
              <a:rPr sz="2400"/>
            </a:br>
            <a:r>
              <a:rPr b="0" lang="en-US" sz="2400" spc="-1" strike="noStrike">
                <a:solidFill>
                  <a:srgbClr val="ffffcc"/>
                </a:solidFill>
                <a:latin typeface="Tahoma"/>
              </a:rPr>
              <a:t>Publicat: 11 Decembrie 2008</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isia a adoptat un raport privind aplicarea Directivei 2004/38/CE privind dreptul la libera circulatie si sedere pe teritoriul statelor membre al cetatenilor Uniunii si membrilor familiilor acestora. Concluzia raportului este ca, in ansamblu, transpunerea acestei directive este mai degraba dezamagitoar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 asemenea, raportul prezinta masurile pe care Comisia le va intreprinde pentru a se asigura ca statele membre isi imbunatatesc legislatiile si practicile administrative, astfel incat drepturile cetatenilor UE sa nu fie afectat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Vicepresedintele Comisiei Europene, domnul Jacques Barrot </a:t>
            </a:r>
            <a:endParaRPr b="0" lang="en-US" sz="4000" spc="-1" strike="noStrike">
              <a:solidFill>
                <a:srgbClr val="ffffcc"/>
              </a:solidFill>
              <a:latin typeface="Tahoma"/>
            </a:endParaRPr>
          </a:p>
        </p:txBody>
      </p:sp>
      <p:sp>
        <p:nvSpPr>
          <p:cNvPr id="4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Libera circulatie a persoanelor constituie una dintre libertatile fundamentale ale pietei interne, in beneficiul cetatenilor Uniunii Europene, al statelor membre si al competitivitatii economiei europene. Aplicarea deficienta a legislatiei comunitare in acest domeniu ar putea avea ca rezultat incalcarea principiilor care stau la baza constructiei europene. Din acest motiv, Comisia isi va spori eforturile pentru a se asigura ca cetatenii UE si familiile acestora beneficiaza in mod efectiv si pe deplin de drepturile care le sunt conferite de aceasta directiva. Pentru a ajunge la acest rezultat, Comisia va utiliza pe deplin competentele care ii revin in temeiul tratatului, initiind, cand este necesar, proceduri privind incalcarea dreptului comunitar, oferind orientari statelor membre si asigurandu-se ca cetatenii Uniunii Europene sunt informati cu privire la drepturile care le revi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SPECTE-CHEI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plu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anumite condiții, membrii familiei unui cetățean al UE își păstrează dreptul de ședere în țara respectivă în cazul în care cetățeanul UE decedează sau părăsește ța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tățenii UE sau membrii de familie pot fi expulzați în cazul în care conduita acestora constituie o amenințare gravă la adresa unui interes fundamental al societăți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rele boli care justifică măsuri de restricționare a liberei circulații a unei persoane sunt cele considerate de </a:t>
            </a:r>
            <a:r>
              <a:rPr b="0" lang="en-US" sz="2400" spc="-1" strike="noStrike" u="sng">
                <a:solidFill>
                  <a:srgbClr val="a3c145"/>
                </a:solidFill>
                <a:uFillTx/>
                <a:latin typeface="Tahoma"/>
                <a:hlinkClick r:id="rId1"/>
              </a:rPr>
              <a:t>Organizația</a:t>
            </a:r>
            <a:r>
              <a:rPr b="0" lang="en-US" sz="2400" spc="-1" strike="noStrike" u="sng">
                <a:solidFill>
                  <a:srgbClr val="a3c145"/>
                </a:solidFill>
                <a:uFillTx/>
                <a:latin typeface="Tahoma"/>
                <a:hlinkClick r:id="rId2"/>
              </a:rPr>
              <a:t> </a:t>
            </a:r>
            <a:r>
              <a:rPr b="0" lang="en-US" sz="2400" spc="-1" strike="noStrike" u="sng">
                <a:solidFill>
                  <a:srgbClr val="a3c145"/>
                </a:solidFill>
                <a:uFillTx/>
                <a:latin typeface="Tahoma"/>
                <a:hlinkClick r:id="rId3"/>
              </a:rPr>
              <a:t>Mondială</a:t>
            </a:r>
            <a:r>
              <a:rPr b="0" lang="en-US" sz="2400" spc="-1" strike="noStrike" u="sng">
                <a:solidFill>
                  <a:srgbClr val="a3c145"/>
                </a:solidFill>
                <a:uFillTx/>
                <a:latin typeface="Tahoma"/>
                <a:hlinkClick r:id="rId4"/>
              </a:rPr>
              <a:t> a </a:t>
            </a:r>
            <a:r>
              <a:rPr b="0" lang="en-US" sz="2400" spc="-1" strike="noStrike" u="sng">
                <a:solidFill>
                  <a:srgbClr val="a3c145"/>
                </a:solidFill>
                <a:uFillTx/>
                <a:latin typeface="Tahoma"/>
                <a:hlinkClick r:id="rId5"/>
              </a:rPr>
              <a:t>Sănătății</a:t>
            </a:r>
            <a:r>
              <a:rPr b="0" lang="en-US" sz="2400" spc="-1" strike="noStrike">
                <a:solidFill>
                  <a:srgbClr val="ffffff"/>
                </a:solidFill>
                <a:latin typeface="Tahoma"/>
              </a:rPr>
              <a:t> ca fiind cu potențial epidemi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Raport 200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rectiva 2004/38 prevede un instrument juridic unic privind libera circulatie a cetatenilor Uniunii Europene si a membrilor familiilor acestora. Directiva prevede formalitati administrative simple si le ofera cetatenilor UE si familiilor acestora dreptul de sedere permanenta dupa cinci ani de sedere in statul membru gazda. Sub rezerva anumitor conditii, directiva extinde la partenerii declarati drepturile privind reintregirea familiei.</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tele membre trebuiau sa asigure intrarea in vigoare a actelor cu putere de lege si a actelor administrative necesare pentru a se conforma acestei directive pana la 30 aprilie 2006. Una dintre atributiile Comisiei este de a se asigura ca legislatia comunitara este pusa in aplicare in mod eficace la nivel national si local, in beneficiul cetatenilor UE. Acum, la doi ani si jumatate de la termenul limita, este momentul sa se analizeze modul in care statele membre si-au indeplinit aceasta obligati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ate statele membre au adoptat legi nationale care sa protejeze dreptul cetatenilor UE si al familiilor acestora la libera circulatie si sedere in cadrul Uniunii Europen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iar daca in unele zone, legile nationale trateaza cetatenii UE si familiile acestora mai bine decat prevede legislatia comunitara, nici macar unul dintre statele membre nu a transpus intreaga directiva in mod corect si eficace. Nici macar un singur articol din directiva nu a fost transpus in mod corect si eficace de catre toate statele membr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Raport 2008</a:t>
            </a:r>
            <a:endParaRPr b="0" lang="en-US" sz="44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ahoma"/>
              </a:rPr>
              <a:t>Pe ansamblu, transpunerea directivei este mai degraba dezamagitoare.</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ar Cipru, Grecia, Finlanda, Portugalia, Malta, Luxemburg si Spania au adoptat corect mai mult de 85% din dispozitiile directivei.</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 de alta parte, Austria, Danemarca, Estonia, Slovenia si Slovacia au adoptat corect mai putin de 60% din dispozitiile directivei.</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easta situatie este compensata de faptul ca, cel putin intr-o serie de cazuri, dispozitiile directivei care au fost transpuse incorect sunt corect aplicate de catre instantele si autoritatile nationale, in ciuda absentei unor orientari scrise si clare privind exercitarea prerogativelor judiciare si administrative in acest domeni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8760"/>
            <a:ext cx="822960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roblemele care releva incalcarea constanta a unor drepturi de baza ale cetatenilor UE care isi exercita dreptul la libera circulatie in Uniunea Europeana sunt legate in special de:</a:t>
            </a:r>
            <a:endParaRPr b="0" lang="en-US" sz="2400" spc="-1" strike="noStrike">
              <a:solidFill>
                <a:srgbClr val="ffffcc"/>
              </a:solidFill>
              <a:latin typeface="Tahoma"/>
            </a:endParaRPr>
          </a:p>
        </p:txBody>
      </p:sp>
      <p:sp>
        <p:nvSpPr>
          <p:cNvPr id="48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reptul de intrare si de sedere al membrilor de familie care sunt cetateni ai unor tari terte (probleme cu vizele de intrare sau la trecerea frontierei, conditii privind dreptul de sedere care nu sunt prevazute in directiva si intarzieri in ceea ce priveste emiterea permiselor de sede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erinta ca cetatenii UE sa furnizeze, odata cu cererea de sedere, documente suplimentare care nu sunt prevazute in directiva.</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ele membre sunt responsabile de asigurarea faptului ca drepturile cetatenilor UE sunt garantate si ca acestia sunt informati cu privire la drepturile care le revin.</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isia va continua sa coopereze cu statele membre la nivel tehnic. In urma cooperarii de pana acum, au fost deja identificate o serie de aspecte care necesita discutii si clarificari suplimentare, in special in ceea ce priveste chestiunile referitoare la infractiuni si abuzur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5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H</a:t>
            </a:r>
            <a:r>
              <a:rPr b="0" lang="en-US" sz="2400" spc="-1" strike="noStrike">
                <a:solidFill>
                  <a:srgbClr val="ffffcc"/>
                </a:solidFill>
                <a:latin typeface="Tahoma"/>
              </a:rPr>
              <a:t>otărârile CEJ privind chestiuni legate de libertatea de circulație, în special în cauzele Metock, Jipa și Huber, au evidențiat următoarele principi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89"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 resortisant extracomunitar căsătorit cu un cetățean al Uniunii, care îl însoțește sau i se alătură poate beneficia de dispozițiile directivei, indiferent de locul și data căsătoriei și fără a fi necesară șederea legală anterioară </a:t>
            </a:r>
            <a:r>
              <a:rPr b="0" lang="ro-RO" sz="3200" spc="-1" strike="noStrike">
                <a:solidFill>
                  <a:srgbClr val="ffffff"/>
                </a:solidFill>
                <a:latin typeface="Tahoma"/>
              </a:rPr>
              <a:t>- Met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Cauza Jipa</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și articolul 18 din Tratatul CE și articolul 27 din Directiva 2004/38/CE nu împiedică legislația națională să stabilească restricții în ceea ce privește dreptul unui resortisant al unui stat membru să călătorească în alt stat membru, în special pe motiv că acesta a fost repatriat anterior din statul membru respectiv din cauză că s-a aflat în „ședere ilegală” pe teritoriul acestuia, cu condiția ca comportamentul acelei persoane să constituie o amenințare reală, prezentă și suficient de gravă la adresa unuia dintre interesele fundamentale ale societății și ca măsurile restrictive preconizate să fie adecvate pentru realizarea obiectivului urmărit și să nu depășească cadrul a ceea ce este necesar pentru a-l atinge, și este de competența instanței naționale să decidă în prealabil dacă este cazul</a:t>
            </a:r>
            <a:r>
              <a:rPr b="0" lang="en-US" sz="2400" spc="-1" strike="noStrike" u="sng">
                <a:solidFill>
                  <a:srgbClr val="a3c145"/>
                </a:solidFill>
                <a:uFillTx/>
                <a:latin typeface="Tahoma"/>
                <a:hlinkClick r:id="rId1"/>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Cauza Huber</a:t>
            </a:r>
            <a:endParaRPr b="0" lang="en-US" sz="44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icolul 12 alineatul (1) din Tratatul CE trebuie interpretat ca interzicând unui stat membru să creeze, în scopul luptei împotriva crimei organizate, un sistem de procesare a datelor personale a cetățenilor Uniunii care nu sunt și cetățeni ai statului respecti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7617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cc"/>
                </a:solidFill>
                <a:latin typeface="Tahoma"/>
              </a:rPr>
              <a:t>I</a:t>
            </a:r>
            <a:r>
              <a:rPr b="1" lang="en-US" sz="2400" spc="-1" strike="noStrike">
                <a:solidFill>
                  <a:srgbClr val="ffffcc"/>
                </a:solidFill>
                <a:latin typeface="Tahoma"/>
              </a:rPr>
              <a:t>nterpretarea restrictivă de către statele membre a noțiunilor de „membru al familiei” (articolul 2), de „oricare alt membru al familiei” și de „partener” (articolul 3), în special în ceea ce privește partenerii de același sex și a dreptulu</a:t>
            </a:r>
            <a:r>
              <a:rPr b="1" lang="ro-RO" sz="2400" spc="-1" strike="noStrike">
                <a:solidFill>
                  <a:srgbClr val="ffffcc"/>
                </a:solidFill>
                <a:latin typeface="Tahoma"/>
              </a:rPr>
              <a:t>i </a:t>
            </a:r>
            <a:r>
              <a:rPr b="1" lang="en-US" sz="2400" spc="-1" strike="noStrike">
                <a:solidFill>
                  <a:srgbClr val="ffffcc"/>
                </a:solidFill>
                <a:latin typeface="Tahoma"/>
              </a:rPr>
              <a:t>acestora la liberă circulație în temeiul Directivei 2004/38/CE</a:t>
            </a:r>
            <a:endParaRPr b="0" lang="en-US" sz="2400" spc="-1" strike="noStrike">
              <a:solidFill>
                <a:srgbClr val="ffffcc"/>
              </a:solidFill>
              <a:latin typeface="Tahoma"/>
            </a:endParaRPr>
          </a:p>
        </p:txBody>
      </p:sp>
      <p:sp>
        <p:nvSpPr>
          <p:cNvPr id="495" name="PlaceHolder 2"/>
          <p:cNvSpPr>
            <a:spLocks noGrp="1"/>
          </p:cNvSpPr>
          <p:nvPr>
            <p:ph/>
          </p:nvPr>
        </p:nvSpPr>
        <p:spPr>
          <a:xfrm>
            <a:off x="457200" y="3200040"/>
            <a:ext cx="8229600" cy="345924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Y, PL și SK nu recunosc căsătoriile între persoane de același sex ca motiv de acordare a dreptului la liberă circulație, iar PL și SK nu recunosc partenerii înregistrați, chiar dacă sunt recunoscuți în alt stat membru; informațiile oferite în această privință de Comisie, FRA și ONG-uri aduc dovezi suplimentare în sprijinul faptului că există o nesiguranță juridică în legătură cu această chestiune; Italia nu recunoaște dreptul la liberă circulație partenerilor de același sex, din rațiuni de politici publice; există o tendință generală de a nu recunoaște cel de-al treilea/al patrulea soț/soți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S</a:t>
            </a:r>
            <a:r>
              <a:rPr b="0" lang="en-US" sz="2400" spc="-1" strike="noStrike">
                <a:solidFill>
                  <a:srgbClr val="ffffcc"/>
                </a:solidFill>
                <a:latin typeface="Tahoma"/>
              </a:rPr>
              <a:t>e impun formalități administrative nejustificate în ceea ce privește intrarea și reședința membrilor familiei din țările terț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âteva reclamații și petiții adresate instituțiilor UE scot în evidență faptul că unele state membre au rețineri în a recunoaște deplin drepturile membrilor familiei din țări terțe; de exemplu, legislația din Regatul Unit, Lituania și Polonia interzice membrilor de familie extracomunitari să intre pe teritoriul lor dacă nu sunt în posesia unei vize. Obstacolele juridice și administrative care îi afectează pe membrii de familie care sunt resortisanți din țări terțe sunt extrem de problematice; legislația din Marea Britanie interzice intrarea fără viză pe teritoriul țării a membrilor de familie din țări terțe care se află în posesia unui permis de ședere eliberat de o altă țară,iar practicile administrative din Marea Britanie sunt de așa natură încât termenele îndelungate și documentația vastă în procesarea cererilor de permise de ședere pentru membrii de familie care sunt resortisanți din țări terțe constituie, de asemenea, obstacole semnificative în calea exercitării drepturilor privind libera circulație; în Estonia, resortisanții din țările terțe se confruntă cu dificultăți atunci când încearcă să intre pe teritoriul țării cu un permis de ședere eliberat de un alt stat membru iar membrilor de familie din țările terțe care au solicitat vize li s-a cerut, de asemenea, să plătească taxa de viză; în Italia, resortisantul dintr-o țară terță care solicită reîntregirea familiei trebuie să prezinte dovada legalității originii resurselor sale economice, a căror valoare nu poate fi mai mică decât alocația sociala anuală;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609120"/>
            <a:ext cx="830592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I</a:t>
            </a:r>
            <a:r>
              <a:rPr b="0" lang="en-US" sz="2400" spc="-1" strike="noStrike">
                <a:solidFill>
                  <a:srgbClr val="ffffcc"/>
                </a:solidFill>
                <a:latin typeface="Tahoma"/>
              </a:rPr>
              <a:t>nterpretarea dată de statele membre „resurselor suficiente” menționate la articolul 7 alineatul (1) litera (b) din Directiva 2004/38/CE este adesea neclară, întrucât majoritatea statelor membre cer o dovadă a suficienței resurselor; în multe state membre, noțiunea de „sarcină excesivă pentru sistemul de asistență socială din statul membru gazdă” este neclară, ca și chestiunea dacă și în ce cazuri se poate lua decizia de expulzare a unui cetățean al Uniunii care a reprezentat o sarcină excesivă</a:t>
            </a:r>
            <a:endParaRPr b="0" lang="en-US" sz="2400" spc="-1" strike="noStrike">
              <a:solidFill>
                <a:srgbClr val="ffffcc"/>
              </a:solidFill>
              <a:latin typeface="Tahoma"/>
            </a:endParaRPr>
          </a:p>
        </p:txBody>
      </p:sp>
      <p:sp>
        <p:nvSpPr>
          <p:cNvPr id="499" name="PlaceHolder 2"/>
          <p:cNvSpPr>
            <a:spLocks noGrp="1"/>
          </p:cNvSpPr>
          <p:nvPr>
            <p:ph/>
          </p:nvPr>
        </p:nvSpPr>
        <p:spPr>
          <a:xfrm>
            <a:off x="457200" y="4647960"/>
            <a:ext cx="8229600" cy="160020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exemplu, legislația italiană solicită cetățenilor UE să demonstreze că sunt în posesia unor resurse suficient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151920"/>
            <a:ext cx="883944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I</a:t>
            </a:r>
            <a:r>
              <a:rPr b="0" lang="en-US" sz="2400" spc="-1" strike="noStrike">
                <a:solidFill>
                  <a:srgbClr val="ffffcc"/>
                </a:solidFill>
                <a:latin typeface="Tahoma"/>
              </a:rPr>
              <a:t>nterpretarea de către statele membre a expresiei „motive imperative/grave de ordine publică sau siguranță publică” și situațiile și motivele care pot justifica un ordin de expulzare (articolele 27 și 28) diferă de la un stat membru la altul, fie sunt neclare și pot conduce la abuzuri (vizând cetățenii unui anumit stat membru), fie conformitatea lor cu Directiva 2004/38/CE este îndoielnică (de exemplu, mecanismele de expulzare automată)</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01" name="PlaceHolder 2"/>
          <p:cNvSpPr>
            <a:spLocks noGrp="1"/>
          </p:cNvSpPr>
          <p:nvPr>
            <p:ph/>
          </p:nvPr>
        </p:nvSpPr>
        <p:spPr>
          <a:xfrm>
            <a:off x="301680" y="3873600"/>
            <a:ext cx="8540640" cy="22255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exemplu, articolul 235 din Codul penal italian prevede expulzarea persoanelor care nu sunt cetățeni italieni și care au fost condamnați la doi sau mai mulți ani de închisoare</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DE CÂND SE APLICĂ DIRECTIVA?</a:t>
            </a:r>
            <a:endParaRPr b="0" lang="en-US" sz="40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Începând cu 30 aprilie 200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274680"/>
            <a:ext cx="83059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C</a:t>
            </a:r>
            <a:r>
              <a:rPr b="0" lang="en-US" sz="2800" spc="-1" strike="noStrike">
                <a:solidFill>
                  <a:srgbClr val="ffffcc"/>
                </a:solidFill>
                <a:latin typeface="Tahoma"/>
              </a:rPr>
              <a:t>etățenilor Uniunii li se cere adesea să prezinte autorităților statului membru gazdă documente suplimentare nejustificate, care nu sunt prevăzute în Directiva 2004/38/C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03" name="PlaceHolder 2"/>
          <p:cNvSpPr>
            <a:spLocks noGrp="1"/>
          </p:cNvSpPr>
          <p:nvPr>
            <p:ph/>
          </p:nvPr>
        </p:nvSpPr>
        <p:spPr>
          <a:xfrm>
            <a:off x="457200" y="2440080"/>
            <a:ext cx="8229600" cy="4037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În unele cazuri (Grecia), dreptul național dă autorităților competente posibilitatea de a solicita cazierul judiciar al unui cetățean UE care cere înregistrarea șederii sale, în timp ce în alte state membre (cum ar fi Spania sau Regatul Belgiei), se eliberează cărți de identitate și permise de ședere speciale pentru resortisanții altor state membre; în unele state membre (ES), pe lângă certificatul de înregistrare, cetățenii UE primesc un număr de identificare pentru străini, care este necesar pentru angajare sau pentru înregistrarea în sistemul de securitate socială; în Italia, cetățenii UE trebuie să dovedească „legalitatea” resurselor l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4560" y="762120"/>
            <a:ext cx="838188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Tahoma"/>
              </a:rPr>
              <a:t>Rezoluția Parlamentului UE </a:t>
            </a:r>
            <a:r>
              <a:rPr b="0" lang="en-US" sz="2400" spc="-1" strike="noStrike">
                <a:solidFill>
                  <a:srgbClr val="ffffcc"/>
                </a:solidFill>
                <a:latin typeface="Tahoma"/>
              </a:rPr>
              <a:t>solicită statelor membre să adopte același format pentru documentele personale de identitate ale cetățenilor lor și ale cetățenilor Uniunii provenind din alte state membre, indiferent de diferențele de care trebuie să se țină seama în conținutul documentelor</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05" name="PlaceHolder 2"/>
          <p:cNvSpPr>
            <a:spLocks noGrp="1"/>
          </p:cNvSpPr>
          <p:nvPr>
            <p:ph/>
          </p:nvPr>
        </p:nvSpPr>
        <p:spPr>
          <a:xfrm>
            <a:off x="457200" y="3200040"/>
            <a:ext cx="8229600" cy="35053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cticile administrative care nu sunt în conformitate cu legislația comunitară au un impact negativ semnificativ asupra drepturilor cetățenilor. De exemplu, proliferarea unor cărți de identitate și permise de ședere diferite în statele membre, ceea ce face ca exercitarea de către cetățenii UE a dreptului la libera circulație să fie confuză și greoaie; în Spania, pe lângă certificatul de înregistrare, cetățenilor UE li se eliberează un număr de identitate pentru străini care este necesar pentru a lucra sau pentru a se înregistra în sistemul spaniol de asigurări sociale. Franța a menținut, de asemenea, un permis voluntar de ședere ambiguu, în plus față de certificatul de înregistrare eliberat cetățenilor Uniunii, iar în state membre precum Republica Cehă, Suedia și Regatul Belgiei, autoritățile solicită documente suplimentare la eliberarea permiselor de ședere sau impun condiții care nu sunt enumerate în directivă.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560" y="609480"/>
            <a:ext cx="838188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cc"/>
                </a:solidFill>
                <a:latin typeface="Tahoma"/>
              </a:rPr>
              <a:t>M</a:t>
            </a:r>
            <a:r>
              <a:rPr b="0" lang="en-US" sz="2000" spc="-1" strike="noStrike">
                <a:solidFill>
                  <a:srgbClr val="ffffcc"/>
                </a:solidFill>
                <a:latin typeface="Tahoma"/>
              </a:rPr>
              <a:t>ăsurile luate din motive de ordine publică sau siguranță publică ar trebui să respecte principiul proporționalității și ar trebui să se întemeieze exclusiv pe conduita personală a persoanei în cauză; o astfel de conduită personală trebuie să constituie o amenințare reală, prezentă și suficient de gravă la adresa unui interes fundamental al societății; în acest sens, invită statele membre să reexamineze în mod sistematic alertele naționale care au ca scop refuzarea intrării cetățenilor Uniunii și membrilor de familie ai acesto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07" name="PlaceHolder 2"/>
          <p:cNvSpPr>
            <a:spLocks noGrp="1"/>
          </p:cNvSpPr>
          <p:nvPr>
            <p:ph/>
          </p:nvPr>
        </p:nvSpPr>
        <p:spPr>
          <a:xfrm>
            <a:off x="457200" y="3962520"/>
            <a:ext cx="8229600" cy="274320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islațiile Estoniei și Ungariei nu prevăd în mod special excluderea mijloacelor economice atunci când emit un ordin de expulzare. </a:t>
            </a:r>
            <a:endParaRPr b="0" lang="en-US" sz="18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gislațiile Ungariei și României nu includ nicio referință la excluderea condamnărilor penale din trecut și la obiective generale de ordin preventiv.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ERMENI-CHEIE</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Cetățean al UE</a:t>
            </a:r>
            <a:r>
              <a:rPr b="0" lang="en-US" sz="3200" spc="-1" strike="noStrike">
                <a:solidFill>
                  <a:srgbClr val="ffffff"/>
                </a:solidFill>
                <a:latin typeface="Tahoma"/>
              </a:rPr>
              <a:t>: orice persoană având cetățenia unei țări a UE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Membru de familie</a:t>
            </a:r>
            <a:r>
              <a:rPr b="0" lang="en-US" sz="3200" spc="-1" strike="noStrike">
                <a:solidFill>
                  <a:srgbClr val="ffffff"/>
                </a:solidFill>
                <a:latin typeface="Tahoma"/>
              </a:rPr>
              <a:t>: această categorie cuprinde, de exemplu, soțul sau soția, un partener cu care cetățeanul UE a contractat un parteneriat înregistrat, precum și descendenții direcți în vârstă de cel mult 21 de an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TE CONEXE</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rectiva </a:t>
            </a:r>
            <a:r>
              <a:rPr b="0" lang="en-US" sz="1800" spc="-1" strike="noStrike" u="sng">
                <a:solidFill>
                  <a:srgbClr val="a3c145"/>
                </a:solidFill>
                <a:uFillTx/>
                <a:latin typeface="Tahoma"/>
                <a:hlinkClick r:id="rId1"/>
              </a:rPr>
              <a:t>2014/54/UE</a:t>
            </a:r>
            <a:r>
              <a:rPr b="0" lang="en-US" sz="1800" spc="-1" strike="noStrike">
                <a:solidFill>
                  <a:srgbClr val="ffffff"/>
                </a:solidFill>
                <a:latin typeface="Tahoma"/>
              </a:rPr>
              <a:t> a Parlamentului European și a Consiliului din 16 aprilie 2014 privind măsurile de facilitare a exercitării drepturilor conferite lucrătorilor în contextul liberei circulații a lucrătorilor (</a:t>
            </a:r>
            <a:r>
              <a:rPr b="0" lang="en-US" sz="1800" spc="-1" strike="noStrike" u="sng">
                <a:solidFill>
                  <a:srgbClr val="a3c145"/>
                </a:solidFill>
                <a:uFillTx/>
                <a:latin typeface="Tahoma"/>
                <a:hlinkClick r:id="rId2"/>
              </a:rPr>
              <a:t>JO L 128, 30.4.2014, pp. 8-14</a:t>
            </a:r>
            <a:r>
              <a:rPr b="0" lang="en-US" sz="1800" spc="-1" strike="noStrike">
                <a:solidFill>
                  <a:srgbClr val="ffffff"/>
                </a:solidFill>
                <a:latin typeface="Tahoma"/>
              </a:rPr>
              <a:t>)</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unicare a Comisiei către Parlamentul European și Consiliu privind orientări pentru o mai bună transpunere și aplicare a Directivei 2004/38/CE privind dreptul la liberă circulație și ședere pe teritoriul statelor membre pentru cetățenii Uniunii și membrii familiilor acestora [</a:t>
            </a:r>
            <a:r>
              <a:rPr b="0" lang="en-US" sz="1800" spc="-1" strike="noStrike" u="sng">
                <a:solidFill>
                  <a:srgbClr val="a3c145"/>
                </a:solidFill>
                <a:uFillTx/>
                <a:latin typeface="Tahoma"/>
                <a:hlinkClick r:id="rId3"/>
              </a:rPr>
              <a:t>COM(2009) 313 final</a:t>
            </a:r>
            <a:r>
              <a:rPr b="0" lang="en-US" sz="1800" spc="-1" strike="noStrike">
                <a:solidFill>
                  <a:srgbClr val="ffffff"/>
                </a:solidFill>
                <a:latin typeface="Tahoma"/>
              </a:rPr>
              <a:t>, 2.7.2009]</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unicare a Comisiei către Parlamentul European, Consiliu, Comitetul Economic și Social European și Comitetul Regiunilor - Libera circulație a cetățenilor Uniunii Europene și a familiilor acestora: cinci acțiuni pentru a produce rezultate notabile [</a:t>
            </a:r>
            <a:r>
              <a:rPr b="0" lang="en-US" sz="1800" spc="-1" strike="noStrike" u="sng">
                <a:solidFill>
                  <a:srgbClr val="a3c145"/>
                </a:solidFill>
                <a:uFillTx/>
                <a:latin typeface="Tahoma"/>
                <a:hlinkClick r:id="rId4"/>
              </a:rPr>
              <a:t>COM (2013) 837 final</a:t>
            </a:r>
            <a:r>
              <a:rPr b="0" lang="en-US" sz="1800" spc="-1" strike="noStrike">
                <a:solidFill>
                  <a:srgbClr val="ffffff"/>
                </a:solidFill>
                <a:latin typeface="Tahoma"/>
              </a:rPr>
              <a:t>, 25.11.2013]</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unicare a Comisiei către Parlamentul European și Consiliu - Sprijinirea autorităților în combaterea utilizării abuzive a dreptului la liberă circulație: Manual privind abordarea problemei presupuselor căsătorii de conveniență între cetățeni ai UE și resortisanți ai unor țări terțe în contextul legislației UE referitoare la libera circulație a cetățenilor UE [</a:t>
            </a:r>
            <a:r>
              <a:rPr b="0" lang="en-US" sz="1800" spc="-1" strike="noStrike" u="sng">
                <a:solidFill>
                  <a:srgbClr val="a3c145"/>
                </a:solidFill>
                <a:uFillTx/>
                <a:latin typeface="Tahoma"/>
                <a:hlinkClick r:id="rId5"/>
              </a:rPr>
              <a:t>COM(2014) 604 final</a:t>
            </a:r>
            <a:r>
              <a:rPr b="0" lang="en-US" sz="1800" spc="-1" strike="noStrike">
                <a:solidFill>
                  <a:srgbClr val="ffffff"/>
                </a:solidFill>
                <a:latin typeface="Tahoma"/>
              </a:rPr>
              <a:t>, 26.9.201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Destinatarii ART. 3</a:t>
            </a:r>
            <a:br>
              <a:rPr sz="4000"/>
            </a:br>
            <a:r>
              <a:rPr b="0" lang="ro-RO" sz="4000" spc="-1" strike="noStrike">
                <a:solidFill>
                  <a:srgbClr val="ffffcc"/>
                </a:solidFill>
                <a:latin typeface="Tahoma"/>
              </a:rPr>
              <a:t>    </a:t>
            </a:r>
            <a:endParaRPr b="0" lang="en-US" sz="40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oric</a:t>
            </a:r>
            <a:r>
              <a:rPr b="0" lang="en-US" sz="1800" spc="-1" strike="noStrike">
                <a:solidFill>
                  <a:srgbClr val="ffffff"/>
                </a:solidFill>
                <a:latin typeface="Tahoma"/>
              </a:rPr>
              <a:t>are</a:t>
            </a:r>
            <a:r>
              <a:rPr b="0" lang="ro-RO" sz="1800" spc="-1" strike="noStrike">
                <a:solidFill>
                  <a:srgbClr val="ffffff"/>
                </a:solidFill>
                <a:latin typeface="Tahoma"/>
              </a:rPr>
              <a:t> cetăţean al Uniunii care se deplasează sau îşi are reşedinţa într-un stat membru, altul decât cel al cărui resortisant este, precum şi membrilor familiei sale, conform definiţiei de la articolul 2 punctul 2, care îl însoţesc sau i se alătură.</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ără a aduce atingere vreunui drept individual de liberă circulaţie şi şedere pe care persoanele în cauză îl pot avea în nume propriu, statul membru gazdă facilitează, în conformitate cu legislaţia sa internă, intrarea şi şederea următoarelor persoan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 orice alţi membri de familie, indiferent de cetăţenia lor, care nu se încadrează în definiţia de la articolul 2 punctul 2 şi care, în ţara din care au venit, se află în întreţinerea sau sunt membri ai gospodăriei cetăţeanului Uniunii care beneficiază de dreptul de şedere cu titlu principal sau dacă din motive grave de sănătate este necesară în mod imperativ îngrijirea personală a membrului familiei de către cetăţeanul Uniuni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b) partenerul cu care cetăţeanul Uniunii are o relaţie durabilă, atestată corespunzător.</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Statul membru gazdă întreprinde o examinare amănunţită a situaţiei personale şi justifică refuzul acordării dreptului de intrare sau şedere acestor persoane</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14T07:45:00Z</dcterms:created>
  <dc:creator>Cristian Pup</dc:creator>
  <dc:description/>
  <dc:language>en-US</dc:language>
  <cp:lastModifiedBy>user</cp:lastModifiedBy>
  <dcterms:modified xsi:type="dcterms:W3CDTF">2016-07-14T09:46:20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