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F629C-9BBC-4CB1-8C26-F9B01E017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5D4B4-894D-4BBB-BE83-5B4A1F9E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5BE87-CD87-4F4B-9632-61343DD0C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B4841-9D9D-45A5-AC34-39D47FA0E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8BB1C-A445-471C-8185-12D7687F2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4D84A-39F3-43F9-890C-3EEE29A80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0813B-BFB3-4DCA-91FE-54758DF6B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97483-7036-49DE-A5E2-2E128537C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BAE03-FEC0-4B71-BBDE-002B85288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86887-C06A-4D3C-9116-AFE667821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3395A-B405-4C09-A610-F93B0F5B1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B1F1-36AC-4B9C-A60E-345AE71BB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FF53B-465E-4B3A-A054-4FEA4BD6F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FB263-F1E3-4D30-9D2C-B9F272D3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48F0C-3926-4EEB-83CA-77DBA393D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9F60E-192B-4C40-8D67-D369BEB11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E4C07-5C95-47BC-AEEA-E5885016A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823BD-71BF-4215-A10E-A48D0DB64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C8C14-5415-43D7-83C0-033F92B88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E867-B0E7-4F86-958C-DA26E14B3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EEF97-95E5-4DAC-847A-112C822A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8A16-4C40-4D6D-8B7E-C9BE369A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7AC2-9593-4EB6-A261-3422FAA1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3B70-D556-44F7-8B79-7887316B0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39ED-4C03-4EC5-9B45-45B675527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0F5B-B8BE-49FB-9C21-BA74D7AD7B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Jurisprudencija Europskog suda za ljudska prava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Direktiva 2004/38/CE  daje gra</a:t>
            </a:r>
            <a:r>
              <a:rPr b="1" lang="hr-HR" sz="2000" spc="-1" strike="noStrike">
                <a:solidFill>
                  <a:srgbClr val="ffffff"/>
                </a:solidFill>
                <a:latin typeface="Tahoma"/>
              </a:rPr>
              <a:t>đanima Unije, kao i članovima njihovih obitelji, pravo na slobodno kretanje i boravak na teritoriju država članica </a:t>
            </a:r>
            <a:r>
              <a:rPr b="0" lang="ro-RO"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ro-RO" sz="4400" spc="-1" strike="noStrike">
                <a:solidFill>
                  <a:srgbClr val="dbbd71"/>
                </a:solidFill>
                <a:latin typeface="Arial"/>
              </a:rPr>
              <a:t>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potvrđuje da, u okolnostima navedenim u predmetu </a:t>
            </a:r>
            <a:r>
              <a:rPr b="0" lang="ro-RO" sz="2400" spc="-1" strike="noStrike">
                <a:solidFill>
                  <a:srgbClr val="ffffff"/>
                </a:solidFill>
                <a:latin typeface="Tahoma"/>
              </a:rPr>
              <a:t> C-457/12,</a:t>
            </a:r>
            <a:r>
              <a:rPr b="0" lang="hr-HR" sz="2400" spc="-1" strike="noStrike">
                <a:solidFill>
                  <a:srgbClr val="ffffff"/>
                </a:solidFill>
                <a:latin typeface="Tahoma"/>
              </a:rPr>
              <a:t> građani Unije podliježu primjeni slobodnog kretanja radnika, zajamčeno člankom</a:t>
            </a:r>
            <a:r>
              <a:rPr b="0" lang="ro-RO" sz="2400" spc="-1" strike="noStrike">
                <a:solidFill>
                  <a:srgbClr val="ffffff"/>
                </a:solidFill>
                <a:latin typeface="Tahoma"/>
              </a:rPr>
              <a:t>  45 </a:t>
            </a:r>
            <a:r>
              <a:rPr b="0" lang="hr-HR" sz="2400" spc="-1" strike="noStrike">
                <a:solidFill>
                  <a:srgbClr val="ffffff"/>
                </a:solidFill>
                <a:latin typeface="Tahoma"/>
              </a:rPr>
              <a:t>U</a:t>
            </a:r>
            <a:r>
              <a:rPr b="0" lang="ro-RO" sz="2400" spc="-1" strike="noStrike">
                <a:solidFill>
                  <a:srgbClr val="ffffff"/>
                </a:solidFill>
                <a:latin typeface="Tahoma"/>
              </a:rPr>
              <a:t>FE</a:t>
            </a:r>
            <a:r>
              <a:rPr b="0" lang="hr-HR" sz="2400" spc="-1" strike="noStrike">
                <a:solidFill>
                  <a:srgbClr val="ffffff"/>
                </a:solidFill>
                <a:latin typeface="Tahoma"/>
              </a:rPr>
              <a:t>U-a</a:t>
            </a:r>
            <a:r>
              <a:rPr b="0" lang="ro-RO" sz="2400" spc="-1" strike="noStrike">
                <a:solidFill>
                  <a:srgbClr val="ffffff"/>
                </a:solidFill>
                <a:latin typeface="Tahoma"/>
              </a:rPr>
              <a:t>. </a:t>
            </a:r>
            <a:r>
              <a:rPr b="0" lang="hr-HR" sz="2400" spc="-1" strike="noStrike">
                <a:solidFill>
                  <a:srgbClr val="ffffff"/>
                </a:solidFill>
                <a:latin typeface="Tahoma"/>
              </a:rPr>
              <a:t>Stoga, bilo koji građanin Unije koji, u okviru svog radnog ugovora, obavlja profesionalne djelatnosti na području države članice različite od one u kojoj prebiva podliježe primjeni ove odredb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Arial"/>
              </a:rPr>
              <a:t>Predmet</a:t>
            </a:r>
            <a:r>
              <a:rPr b="1" lang="ro-RO" sz="4400" spc="-1" strike="noStrike">
                <a:solidFill>
                  <a:srgbClr val="dbbd71"/>
                </a:solidFill>
                <a:latin typeface="Arial"/>
              </a:rPr>
              <a:t> 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ovom kontekstu</a:t>
            </a:r>
            <a:r>
              <a:rPr b="0" lang="ro-RO" sz="2400" spc="-1" strike="noStrike">
                <a:solidFill>
                  <a:srgbClr val="ffffff"/>
                </a:solidFill>
                <a:latin typeface="Tahoma"/>
              </a:rPr>
              <a:t>, Raad van State</a:t>
            </a:r>
            <a:r>
              <a:rPr b="0" lang="hr-HR" sz="2400" spc="-1" strike="noStrike">
                <a:solidFill>
                  <a:srgbClr val="ffffff"/>
                </a:solidFill>
                <a:latin typeface="Tahoma"/>
              </a:rPr>
              <a:t> zahtijeva da se odredi, u biti, da li pravo Unije pruža pravo boravka državljaninu treće države, član obitelji građanina Unije, onda kada je dotični građanin državljanin dotične države članice i živi u toj državi, ali povremeno odlazi u drugu državu članicu zbog svojih profesionalnih aktivnosti. </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ro-RO"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ud objašnjava nadalje da koristan učinak prava na slobodno kretanje radnika može nametnuti, temeljem članka </a:t>
            </a:r>
            <a:r>
              <a:rPr b="0" lang="ro-RO" sz="1600" spc="-1" strike="noStrike">
                <a:solidFill>
                  <a:srgbClr val="ffffff"/>
                </a:solidFill>
                <a:latin typeface="Tahoma"/>
              </a:rPr>
              <a:t> 45 U</a:t>
            </a:r>
            <a:r>
              <a:rPr b="0" lang="hr-HR" sz="1600" spc="-1" strike="noStrike">
                <a:solidFill>
                  <a:srgbClr val="ffffff"/>
                </a:solidFill>
                <a:latin typeface="Tahoma"/>
              </a:rPr>
              <a:t>F</a:t>
            </a:r>
            <a:r>
              <a:rPr b="0" lang="ro-RO" sz="1600" spc="-1" strike="noStrike">
                <a:solidFill>
                  <a:srgbClr val="ffffff"/>
                </a:solidFill>
                <a:latin typeface="Tahoma"/>
              </a:rPr>
              <a:t>E</a:t>
            </a:r>
            <a:r>
              <a:rPr b="0" lang="hr-HR" sz="1600" spc="-1" strike="noStrike">
                <a:solidFill>
                  <a:srgbClr val="ffffff"/>
                </a:solidFill>
                <a:latin typeface="Tahoma"/>
              </a:rPr>
              <a:t>U-a</a:t>
            </a:r>
            <a:r>
              <a:rPr b="0" lang="ro-RO" sz="1600" spc="-1" strike="noStrike">
                <a:solidFill>
                  <a:srgbClr val="ffffff"/>
                </a:solidFill>
                <a:latin typeface="Tahoma"/>
              </a:rPr>
              <a:t>, </a:t>
            </a:r>
            <a:r>
              <a:rPr b="0" lang="hr-HR" sz="1600" spc="-1" strike="noStrike">
                <a:solidFill>
                  <a:srgbClr val="ffffff"/>
                </a:solidFill>
                <a:latin typeface="Tahoma"/>
              </a:rPr>
              <a:t>davanje izvedenog prava boravka državljaninu treće države, članu obitelji radnika građanina Unije, u državi članici čijie je državljanin</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toga, dužnost je suda.da provjeri, za svaku od predmetnih situacija u predmetu </a:t>
            </a:r>
            <a:r>
              <a:rPr b="0" lang="ro-RO" sz="1600" spc="-1" strike="noStrike">
                <a:solidFill>
                  <a:srgbClr val="ffffff"/>
                </a:solidFill>
                <a:latin typeface="Tahoma"/>
              </a:rPr>
              <a:t> C-457/12, </a:t>
            </a:r>
            <a:r>
              <a:rPr b="0" lang="hr-HR" sz="1600" spc="-1" strike="noStrike">
                <a:solidFill>
                  <a:srgbClr val="ffffff"/>
                </a:solidFill>
                <a:latin typeface="Tahoma"/>
              </a:rPr>
              <a:t>davanje izvedenog prava boravka državljaninu dotične treće države, član obitelji građanina Unije, potrebno  kako bi mu se jamčilo stvarno izvršenje temeljnog prava zajamčenog člankom </a:t>
            </a:r>
            <a:r>
              <a:rPr b="0" lang="ro-RO" sz="1600" spc="-1" strike="noStrike">
                <a:solidFill>
                  <a:srgbClr val="ffffff"/>
                </a:solidFill>
                <a:latin typeface="Tahoma"/>
              </a:rPr>
              <a:t>l 45 </a:t>
            </a:r>
            <a:r>
              <a:rPr b="0" lang="hr-HR" sz="1600" spc="-1" strike="noStrike">
                <a:solidFill>
                  <a:srgbClr val="ffffff"/>
                </a:solidFill>
                <a:latin typeface="Tahoma"/>
              </a:rPr>
              <a:t>U</a:t>
            </a:r>
            <a:r>
              <a:rPr b="0" lang="ro-RO" sz="1600" spc="-1" strike="noStrike">
                <a:solidFill>
                  <a:srgbClr val="ffffff"/>
                </a:solidFill>
                <a:latin typeface="Tahoma"/>
              </a:rPr>
              <a:t>FE</a:t>
            </a:r>
            <a:r>
              <a:rPr b="0" lang="hr-HR" sz="1600" spc="-1" strike="noStrike">
                <a:solidFill>
                  <a:srgbClr val="ffffff"/>
                </a:solidFill>
                <a:latin typeface="Tahoma"/>
              </a:rPr>
              <a:t>U-a</a:t>
            </a:r>
            <a:r>
              <a:rPr b="0" lang="ro-RO" sz="1600" spc="-1" strike="noStrike">
                <a:solidFill>
                  <a:srgbClr val="ffffff"/>
                </a:solidFill>
                <a:latin typeface="Tahoma"/>
              </a:rPr>
              <a:t>. </a:t>
            </a:r>
            <a:r>
              <a:rPr b="0" lang="hr-HR" sz="1600" spc="-1" strike="noStrike">
                <a:solidFill>
                  <a:srgbClr val="ffffff"/>
                </a:solidFill>
                <a:latin typeface="Tahoma"/>
              </a:rPr>
              <a:t> Prema mišljenju Suda, činjenica da se državljanin treće države skrbi o djetetu građanina Unije može biti oprezan čimbenik pri analiziranju aspekta da li odbijanje davanja prava boravku državljaninu treće države može imati odvaćajući karakter po pitanju stvarnog izvršenje prava koje građanin Unije ima na temelju članka </a:t>
            </a:r>
            <a:r>
              <a:rPr b="0" lang="ro-RO" sz="1600" spc="-1" strike="noStrike">
                <a:solidFill>
                  <a:srgbClr val="ffffff"/>
                </a:solidFill>
                <a:latin typeface="Tahoma"/>
              </a:rPr>
              <a:t> 45 </a:t>
            </a:r>
            <a:r>
              <a:rPr b="0" lang="hr-HR" sz="1600" spc="-1" strike="noStrike">
                <a:solidFill>
                  <a:srgbClr val="ffffff"/>
                </a:solidFill>
                <a:latin typeface="Tahoma"/>
              </a:rPr>
              <a:t>U</a:t>
            </a:r>
            <a:r>
              <a:rPr b="0" lang="ro-RO" sz="1600" spc="-1" strike="noStrike">
                <a:solidFill>
                  <a:srgbClr val="ffffff"/>
                </a:solidFill>
                <a:latin typeface="Tahoma"/>
              </a:rPr>
              <a:t>FE</a:t>
            </a:r>
            <a:r>
              <a:rPr b="0" lang="hr-HR" sz="1600" spc="-1" strike="noStrike">
                <a:solidFill>
                  <a:srgbClr val="ffffff"/>
                </a:solidFill>
                <a:latin typeface="Tahoma"/>
              </a:rPr>
              <a:t>U-a</a:t>
            </a:r>
            <a:r>
              <a:rPr b="0" lang="ro-RO" sz="1600" spc="-1" strike="noStrike">
                <a:solidFill>
                  <a:srgbClr val="ffffff"/>
                </a:solidFill>
                <a:latin typeface="Tahoma"/>
              </a:rPr>
              <a:t>. Stoga, činjenica da se moglo činiti poželjnim da takvu brigu preuzme državljanin treće zemlje, izravni srodnik bračnog druga građanina Unije, nije sama po sebi dovoljna da bi se zaključilo da postoji odvraćajući učinak.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Europski sud</a:t>
            </a:r>
            <a:r>
              <a:rPr b="0" lang="ro-RO" sz="4400" spc="-1" strike="noStrike">
                <a:solidFill>
                  <a:srgbClr val="dbbd71"/>
                </a:solidFill>
                <a:latin typeface="Arial"/>
              </a:rPr>
              <a:t> </a:t>
            </a:r>
            <a:r>
              <a:rPr b="1" lang="ro-RO"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t>
            </a:r>
            <a:r>
              <a:rPr b="0" lang="ro-RO" sz="2800" spc="-1" strike="noStrike">
                <a:solidFill>
                  <a:srgbClr val="ffffff"/>
                </a:solidFill>
                <a:latin typeface="Tahoma"/>
              </a:rPr>
              <a:t>lijedi</a:t>
            </a:r>
            <a:r>
              <a:rPr b="0" lang="hr-HR" sz="2800" spc="-1" strike="noStrike">
                <a:solidFill>
                  <a:srgbClr val="ffffff"/>
                </a:solidFill>
                <a:latin typeface="Tahoma"/>
              </a:rPr>
              <a:t>,</a:t>
            </a:r>
            <a:r>
              <a:rPr b="0" lang="ro-RO" sz="2800" spc="-1" strike="noStrike">
                <a:solidFill>
                  <a:srgbClr val="ffffff"/>
                </a:solidFill>
                <a:latin typeface="Tahoma"/>
              </a:rPr>
              <a:t> </a:t>
            </a:r>
            <a:r>
              <a:rPr b="0" lang="hr-HR" sz="2800" spc="-1" strike="noStrike">
                <a:solidFill>
                  <a:srgbClr val="ffffff"/>
                </a:solidFill>
                <a:latin typeface="Tahoma"/>
              </a:rPr>
              <a:t> dakle, </a:t>
            </a:r>
            <a:r>
              <a:rPr b="0" lang="ro-RO" sz="2800" spc="-1" strike="noStrike">
                <a:solidFill>
                  <a:srgbClr val="ffffff"/>
                </a:solidFill>
                <a:latin typeface="Tahoma"/>
              </a:rPr>
              <a:t>da</a:t>
            </a:r>
            <a:r>
              <a:rPr b="0" lang="hr-HR" sz="2800" spc="-1" strike="noStrike">
                <a:solidFill>
                  <a:srgbClr val="ffffff"/>
                </a:solidFill>
                <a:latin typeface="Tahoma"/>
              </a:rPr>
              <a:t> se</a:t>
            </a:r>
            <a:r>
              <a:rPr b="0" lang="ro-RO" sz="2800" spc="-1" strike="noStrike">
                <a:solidFill>
                  <a:srgbClr val="ffffff"/>
                </a:solidFill>
                <a:latin typeface="Tahoma"/>
              </a:rPr>
              <a:t> člank</a:t>
            </a:r>
            <a:r>
              <a:rPr b="0" lang="hr-HR" sz="2800" spc="-1" strike="noStrike">
                <a:solidFill>
                  <a:srgbClr val="ffffff"/>
                </a:solidFill>
                <a:latin typeface="Tahoma"/>
              </a:rPr>
              <a:t>om</a:t>
            </a:r>
            <a:r>
              <a:rPr b="0" lang="ro-RO" sz="2800" spc="-1" strike="noStrike">
                <a:solidFill>
                  <a:srgbClr val="ffffff"/>
                </a:solidFill>
                <a:latin typeface="Tahoma"/>
              </a:rPr>
              <a:t> 45. UFEU</a:t>
            </a:r>
            <a:r>
              <a:rPr b="0" lang="hr-HR" sz="2800" spc="-1" strike="noStrike">
                <a:solidFill>
                  <a:srgbClr val="ffffff"/>
                </a:solidFill>
                <a:latin typeface="Tahoma"/>
              </a:rPr>
              <a:t>-</a:t>
            </a:r>
            <a:r>
              <a:rPr b="0" lang="ro-RO" sz="2800" spc="-1" strike="noStrike">
                <a:solidFill>
                  <a:srgbClr val="ffffff"/>
                </a:solidFill>
                <a:latin typeface="Tahoma"/>
              </a:rPr>
              <a:t>a državljaninu treće zemlje koji je član obitelji građanina Unije daje izvedeno pravo boravka u državi članici čiji je taj građanin državljanin u slučaju kada taj građanin boravi u potonjoj državi, ali redovno odlazi u drugu državu članicu u svojstvu radnika u smislu spomenute odredbe, ako odbijanje da se odobri takvo pravo boravka ima odvraćajući učinak na učinkovito korištenje prava koja dotični radnik ima na temelju članka 45. UFEU</a:t>
            </a:r>
            <a:r>
              <a:rPr b="0" lang="hr-HR" sz="2800" spc="-1" strike="noStrike">
                <a:solidFill>
                  <a:srgbClr val="ffffff"/>
                </a:solidFill>
                <a:latin typeface="Tahoma"/>
              </a:rPr>
              <a:t>-</a:t>
            </a:r>
            <a:r>
              <a:rPr b="0" lang="ro-RO" sz="2800" spc="-1" strike="noStrike">
                <a:solidFill>
                  <a:srgbClr val="ffffff"/>
                </a:solidFill>
                <a:latin typeface="Tahoma"/>
              </a:rPr>
              <a:t>a, a na nacionalnom je sudu da to provjer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hr-HR" sz="4400" spc="-1" strike="noStrike">
                <a:solidFill>
                  <a:srgbClr val="dbbd71"/>
                </a:solidFill>
                <a:latin typeface="Arial"/>
              </a:rPr>
              <a:t>Predmet</a:t>
            </a:r>
            <a:r>
              <a:rPr b="0" lang="ro-RO" sz="4400" spc="-1" strike="noStrike">
                <a:solidFill>
                  <a:srgbClr val="dbbd71"/>
                </a:solidFill>
                <a:latin typeface="Arial"/>
              </a:rPr>
              <a:t>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thodni postupak </a:t>
            </a:r>
            <a:r>
              <a:rPr b="0" lang="ro-RO" sz="2800" spc="-1" strike="noStrike">
                <a:solidFill>
                  <a:srgbClr val="ffffff"/>
                </a:solidFill>
                <a:latin typeface="Tahoma"/>
              </a:rPr>
              <a:t>High Court Irlanda – Directiva 2004/38/CE – Članak 16. stavak 2. – Pravo stalnog boravišta članova obitelji građanina Unije koji su državljani trećih država – Okončanje zajedničkog života bračnih drugova – Useljavanje s drugim partnerima neposredno nakon okončanja zajedničkog života, a tijekom razdoblja neprekinutog petogodišnjeg boravka – Uredba (EEZ) br. 1612/68 – Članak 10. stavak 3. – Pretpostavke – Povreda prava Unije države članice – Ispitivanje naravi predmetne povrede – Nužnost upućivanja prethodnog pitanj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Arial"/>
              </a:rPr>
              <a:t>Pretpostavke za praktičan predmet</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ahoma"/>
              </a:rPr>
              <a:t>Zahtjev za prethodnu odluku odnosi se – s jedne strane – na tumačenje članka 16. stavka 2. Direktive 2004/38/EZ Europskog parlamenta i Vijeća od 29. travnja 2004. o pravu građana Unije i članova njihovih obitelji na slobodno kretanje i boravište na području države članice, kojom se izmjenjuje Uredba (EEZ) br. 1612/68 i stavljaju izvan snage direktive 64/221/EEZ, 68/360/EEZ, 72/194/EEZ, 73/148/EEZ, 75/34/EEZ, 75/35/EEZ, 90/364/EEZ, 90/365/EEZ i 93/96/EEZ (SL L 158, str. 77. te ispravci SL L 229, str. 35. i SL 2005, L 197, str. 34.) kao i članka 10. stavka 3. Uredbe Vijeća (EEZ) br. 1612/68 od 15. listopada 1968. o slobodi kretanja radnika unutar Zajednice (SL L 257, str. 2.) te – s druge strane – na utvrđivanje učinaka upućivanja zahtjeva za prethodnu odluku nacionalnog suda o meritornom pitanju prava stalnog boravišta u svrhu ocjenjivanja od tog suda postojanja očite povrede prava Unije predmetne države članice, u okviru tužbe za naknadu štete zbog te povrede prava Uni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Pretpostavke za</a:t>
            </a:r>
            <a:r>
              <a:rPr b="0" lang="hr-HR" sz="4000" spc="-1" strike="noStrike">
                <a:solidFill>
                  <a:srgbClr val="dbbd71"/>
                </a:solidFill>
                <a:latin typeface="Arial"/>
              </a:rPr>
              <a:t> praktičan predmet</a:t>
            </a: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  </a:t>
            </a:r>
            <a:r>
              <a:rPr b="0" lang="nb-NO" sz="2800" spc="-1" strike="noStrike">
                <a:solidFill>
                  <a:srgbClr val="ffffff"/>
                </a:solidFill>
                <a:latin typeface="Tahoma"/>
              </a:rPr>
              <a:t>Zahtjev je upućen u okviru spora između E. F. Ogieriakhija, s jedne strane, i Minister for Justice and Equality, Irske, Attorney General i An Post, s druge strane, povodom zahtjeva za naknadu štete koji je tužitelj podnio protiv Irske, sukladno sudskoj praksi koja se temelji na presudi Francovich i dr. (C‑6/90 i C‑9/90, EU:C:1991:428), zbog navodne povrede obveza Irske u vezi s prijenosom Direktive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4520"/>
            <a:ext cx="8229600" cy="14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dbbd71"/>
                </a:solidFill>
                <a:latin typeface="Arial"/>
              </a:rPr>
              <a:t> </a:t>
            </a:r>
            <a:r>
              <a:rPr b="1" lang="nb-NO" sz="2400" spc="-1" strike="noStrike">
                <a:solidFill>
                  <a:srgbClr val="dbbd71"/>
                </a:solidFill>
                <a:latin typeface="Arial"/>
              </a:rPr>
              <a:t>Pravni okvir</a:t>
            </a:r>
            <a:br>
              <a:rPr sz="2400"/>
            </a:br>
            <a:r>
              <a:rPr b="1" lang="nb-NO" sz="2400" spc="-1" strike="noStrike">
                <a:solidFill>
                  <a:srgbClr val="dbbd71"/>
                </a:solidFill>
                <a:latin typeface="Arial"/>
              </a:rPr>
              <a:t> Pravo Unije</a:t>
            </a:r>
            <a:br>
              <a:rPr sz="2400"/>
            </a:br>
            <a:r>
              <a:rPr b="1" lang="nb-NO"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 skladu s uvodnom izjavom 17. Direktive 2004/3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Uživanje prava na stalno boravište građana Unije koji su se odlučili dugotrajno nastaniti u državi članici domaćinu pojačalo bi osjećaj građanstva Unije i ključna je komponenta u promicanju socijalne kohezije kao jednog od temeljnih ciljeva Unije. Pravo na stalno boravište potrebno je zato utvrditi za sve građane Unije i članove njihovih obitelji koji su boravili u državi članici domaćinu sukladno uvjetima utvrđenima u ovoj Direktivi tijekom pet godina bez prekida i protiv kojih nije izrečena mjera protjerivan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Pod naslovom „Značenje pojmova“, članak 2. Direktive 2004/38 određuj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Za potrebe ove Direktiv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 ,građanin Unije’ znači svaka osoba s državljanstvom države članic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član obitelji’ znač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bračni drug;</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 ,država članica domaćin’ znači država članica u koju se useljava građanin Unije ostvarujući svoje pravo slobodnog kretanja i boravišt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Članak 3. navedene direktive, naslovljen „Nositelji prava“, u stavku 1. određuj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Ova se Direktiva primjenjuje na sve građane Unije koji se useljavaju ili borave u državi članici različitoj od one koje su državljani i na članove njihovih obitelji koji ih prate ili im se pridružuju, kako je određeno člankom 2. točkom 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dbbd71"/>
                </a:solidFill>
                <a:latin typeface="Arial"/>
              </a:rPr>
              <a:t>Direktiva 2004/38/CE </a:t>
            </a:r>
            <a:r>
              <a:rPr b="1" lang="hr-HR" sz="1800" spc="-1" strike="noStrike">
                <a:solidFill>
                  <a:srgbClr val="dbbd71"/>
                </a:solidFill>
                <a:latin typeface="Arial"/>
              </a:rPr>
              <a:t> pruža građanima Unije kao i članovima njihovih obitelji pravo na slobodu kretanja i boravak na teritoriju država članica </a:t>
            </a:r>
            <a:r>
              <a:rPr b="1" lang="ro-RO" sz="1800" spc="-1" strike="noStrike">
                <a:solidFill>
                  <a:srgbClr val="dbbd71"/>
                </a:solidFill>
                <a:latin typeface="Arial"/>
              </a:rPr>
              <a:t>[1]. </a:t>
            </a:r>
            <a:r>
              <a:rPr b="1" lang="hr-HR" sz="1800" spc="-1" strike="noStrike">
                <a:solidFill>
                  <a:srgbClr val="dbbd71"/>
                </a:solidFill>
                <a:latin typeface="Arial"/>
              </a:rPr>
              <a:t>U tom smislu</a:t>
            </a:r>
            <a:r>
              <a:rPr b="1" lang="ro-RO" sz="1800" spc="-1" strike="noStrike">
                <a:solidFill>
                  <a:srgbClr val="dbbd71"/>
                </a:solidFill>
                <a:latin typeface="Arial"/>
              </a:rPr>
              <a:t>, Raad van State </a:t>
            </a:r>
            <a:r>
              <a:rPr b="1" lang="hr-HR" sz="1800" spc="-1" strike="noStrike">
                <a:solidFill>
                  <a:srgbClr val="dbbd71"/>
                </a:solidFill>
                <a:latin typeface="Arial"/>
              </a:rPr>
              <a:t>iz Nizozemske </a:t>
            </a:r>
            <a:r>
              <a:rPr b="1" lang="ro-RO" sz="1800" spc="-1" strike="noStrike">
                <a:solidFill>
                  <a:srgbClr val="dbbd71"/>
                </a:solidFill>
                <a:latin typeface="Arial"/>
              </a:rPr>
              <a:t> (</a:t>
            </a:r>
            <a:r>
              <a:rPr b="1" lang="hr-HR" sz="1800" spc="-1" strike="noStrike">
                <a:solidFill>
                  <a:srgbClr val="dbbd71"/>
                </a:solidFill>
                <a:latin typeface="Arial"/>
              </a:rPr>
              <a:t>Državno vijeće</a:t>
            </a:r>
            <a:r>
              <a:rPr b="1" lang="ro-RO" sz="1800" spc="-1" strike="noStrike">
                <a:solidFill>
                  <a:srgbClr val="dbbd71"/>
                </a:solidFill>
                <a:latin typeface="Arial"/>
              </a:rPr>
              <a:t>) </a:t>
            </a:r>
            <a:r>
              <a:rPr b="1" lang="hr-HR" sz="1800" spc="-1" strike="noStrike">
                <a:solidFill>
                  <a:srgbClr val="dbbd71"/>
                </a:solidFill>
                <a:latin typeface="Arial"/>
              </a:rPr>
              <a:t>uputio je zahtjev Sudu za dvjema različitim prethodnim odlukama</a:t>
            </a:r>
            <a:r>
              <a:rPr b="1" lang="ro-RO" sz="1800" spc="-1" strike="noStrike">
                <a:solidFill>
                  <a:srgbClr val="dbbd71"/>
                </a:solidFill>
                <a:latin typeface="Arial"/>
              </a:rPr>
              <a:t>, </a:t>
            </a:r>
            <a:r>
              <a:rPr b="1" lang="hr-HR" sz="1800" spc="-1" strike="noStrike">
                <a:solidFill>
                  <a:srgbClr val="dbbd71"/>
                </a:solidFill>
                <a:latin typeface="Arial"/>
              </a:rPr>
              <a:t>s četiri predmeta o odbijanju nizozemskih vlasti da dodijele pravo boravka državljanu treće države, član obitelji građanina Unije, nizozemski državljanin. </a:t>
            </a:r>
            <a:endParaRPr b="0" lang="en-US" sz="18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Eurospki je sud objvio u srijedu</a:t>
            </a:r>
            <a:r>
              <a:rPr b="0" lang="ro-RO" sz="3200" spc="-1" strike="noStrike">
                <a:solidFill>
                  <a:srgbClr val="ffffff"/>
                </a:solidFill>
                <a:latin typeface="Tahoma"/>
              </a:rPr>
              <a:t>, 12</a:t>
            </a:r>
            <a:r>
              <a:rPr b="0" lang="hr-HR" sz="3200" spc="-1" strike="noStrike">
                <a:solidFill>
                  <a:srgbClr val="ffffff"/>
                </a:solidFill>
                <a:latin typeface="Tahoma"/>
              </a:rPr>
              <a:t>. ožujka 2014., presudu u predmetima  </a:t>
            </a:r>
            <a:r>
              <a:rPr b="0" lang="ro-RO" sz="3200" spc="-1" strike="noStrike">
                <a:solidFill>
                  <a:srgbClr val="ffffff"/>
                </a:solidFill>
                <a:latin typeface="Tahoma"/>
              </a:rPr>
              <a:t> C-456/12 i C-457/1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 </a:t>
            </a: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1" name="PlaceHolder 2"/>
          <p:cNvSpPr>
            <a:spLocks noGrp="1"/>
          </p:cNvSpPr>
          <p:nvPr>
            <p:ph/>
          </p:nvPr>
        </p:nvSpPr>
        <p:spPr>
          <a:xfrm>
            <a:off x="457200" y="1372680"/>
            <a:ext cx="8229600" cy="5637240"/>
          </a:xfrm>
          <a:prstGeom prst="rect">
            <a:avLst/>
          </a:prstGeom>
          <a:noFill/>
          <a:ln w="0">
            <a:noFill/>
          </a:ln>
        </p:spPr>
        <p:txBody>
          <a:bodyPr anchor="t">
            <a:normAutofit fontScale="99000"/>
          </a:bodyPr>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Članak 7. navedene direktive, naslovljen „Pravo boravišta dulje od tri mjeseca“, u svojim stavcima 1. i 2. određuje:</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1. Svi građani Unije imaju pravo boravišta na području druge države članice u razdoblju duljem od tri mjeseca ako:</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su radnici ili samozaposlene osobe u državi članici domaćinu [...]</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endParaRPr b="0" lang="en-US" sz="2400" spc="-1" strike="noStrike">
              <a:solidFill>
                <a:srgbClr val="ffffff"/>
              </a:solidFill>
              <a:latin typeface="Tahoma"/>
            </a:endParaRPr>
          </a:p>
          <a:p>
            <a:pPr marL="339480" indent="-33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Pravo boravišta utvrđeno stavkom 1. primjenjuje se na članove obitelji koji nisu državljani države članice, a koji su u pratnji građanina Unije ili mu se pridružuju u državi članici domaćinu, pod uvjetom da taj građanin Unije ispunjava uvjete iz stavka 1. točke (a), (b) ili (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Book Antiqua"/>
              </a:rPr>
              <a:t>Pravni okvir</a:t>
            </a:r>
            <a:br>
              <a:rPr sz="2400"/>
            </a:br>
            <a:r>
              <a:rPr b="0" lang="en-US" sz="2400" spc="-1" strike="noStrike">
                <a:solidFill>
                  <a:srgbClr val="dbbd71"/>
                </a:solidFill>
                <a:latin typeface="Book Antiqua"/>
              </a:rPr>
              <a:t> Pravo Unije</a:t>
            </a:r>
            <a:br>
              <a:rPr sz="2400"/>
            </a:br>
            <a:r>
              <a:rPr b="0" lang="en-US" sz="2400" spc="-1" strike="noStrike">
                <a:solidFill>
                  <a:srgbClr val="dbbd71"/>
                </a:solidFill>
                <a:latin typeface="Book Antiqua"/>
              </a:rPr>
              <a:t>Direktiva 2004/38</a:t>
            </a:r>
            <a:endParaRPr b="0" lang="en-US" sz="24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  </a:t>
            </a:r>
            <a:r>
              <a:rPr b="0" lang="ro-RO" sz="1200" spc="-1" strike="noStrike">
                <a:solidFill>
                  <a:srgbClr val="ffffff"/>
                </a:solidFill>
                <a:latin typeface="Book Antiqua"/>
              </a:rPr>
              <a:t>Sukladno članku 13. stavku 2. iste direktive:</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a:t>
            </a:r>
            <a:r>
              <a:rPr b="0" lang="ro-RO" sz="1200" spc="-1" strike="noStrike">
                <a:solidFill>
                  <a:srgbClr val="ffffff"/>
                </a:solidFill>
                <a:latin typeface="Book Antiqua"/>
              </a:rPr>
              <a:t>Ne dovodeći u pitanje drugi podstavak, razvod, poništenje braka ili prestanak registrirane zajednice iz članka 2. točke 2(b) nema za posljedicu gubitak prava boravišta članova obitelji građanina Unije koji nisu državljani države članice, ak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a)      su prije pokretanja postupka za razvod ili poništenje braka ili prestanak registrirane zajednice iz članka 2. točke 2(b), brak ili registrirana zajednica trajali najmanje tri godine, od toga jednu godinu u državi članici domaćinu;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b)      dogovorom između bračnih drugova ili registriranih partnera iz članka 2. točke 2(b) ove Direktive ili po nalogu suda, bračni drug ili partner koji nema državljanstvo države članice ostvaruje skrbništvo nad djecom građanina Unije;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c)      je to opravdano iznimno teškim okolnostima, na primjer ako je osoba bila žrtva nasilja u obitelji dok su brak ili registrirana zajednica postojali; ili</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Book Antiqua"/>
              </a:rPr>
              <a:t>0</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d)      dogovorom između bračnih partnera ili partnera iz članka 2. točke 2(b) ove Direktive ili po nalou suda, bračni drug ili partner koji nema državljanstvo države članice ima pravo posjetiti maloljetno dijete, ako je sud odlučio da se posjete moraju obaviti u državi članici domaćinu, i to toliko dugo koliko je to potrebno.</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Prije stjecanja prava stalnog boravišta, pravo boravišta tih osoba uvjetovano je dokazivanjem da su radnici ili samozaposlene osobe ili da imaju dostatna sredstava za sebe i članove svoje obitelji kako ne bi postali teret sustavu socijalne pomoći države članice domaćina tijekom svog boravišta te da imaju sveobuhvatno zdravstveno osiguranje u državi članici domaćinu ili da već imaju položaj člana obitelji osobe koja udovoljava tim zahtjevima u državi članici domaćinu. „Dostatna sredstva” utvrđena su u članku 8. stavku 4.</a:t>
            </a:r>
            <a:endParaRPr b="0" lang="en-US" sz="1200" spc="-1" strike="noStrike">
              <a:solidFill>
                <a:srgbClr val="ffffff"/>
              </a:solidFill>
              <a:latin typeface="Tahoma"/>
            </a:endParaRPr>
          </a:p>
          <a:p>
            <a:pPr marL="343080" indent="-343080">
              <a:lnSpc>
                <a:spcPct val="10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Ovi članovi obitelji zadržavaju svoje pravo boravišta isključivo na osobnoj osnovi”</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Book Antiqua"/>
              </a:rPr>
              <a:t>U poglavlju </a:t>
            </a:r>
            <a:r>
              <a:rPr b="0" lang="ro-RO" sz="1600" spc="-1" strike="noStrike">
                <a:solidFill>
                  <a:srgbClr val="ffffff"/>
                </a:solidFill>
                <a:latin typeface="Book Antiqua"/>
              </a:rPr>
              <a:t> IV</a:t>
            </a:r>
            <a:r>
              <a:rPr b="0" lang="hr-HR" sz="1600" spc="-1" strike="noStrike">
                <a:solidFill>
                  <a:srgbClr val="ffffff"/>
                </a:solidFill>
                <a:latin typeface="Book Antiqua"/>
              </a:rPr>
              <a:t>. </a:t>
            </a:r>
            <a:r>
              <a:rPr b="0" lang="ro-RO" sz="1600" spc="-1" strike="noStrike">
                <a:solidFill>
                  <a:srgbClr val="ffffff"/>
                </a:solidFill>
                <a:latin typeface="Book Antiqua"/>
              </a:rPr>
              <a:t> Dire</a:t>
            </a:r>
            <a:r>
              <a:rPr b="0" lang="hr-HR" sz="1600" spc="-1" strike="noStrike">
                <a:solidFill>
                  <a:srgbClr val="ffffff"/>
                </a:solidFill>
                <a:latin typeface="Book Antiqua"/>
              </a:rPr>
              <a:t>k</a:t>
            </a:r>
            <a:r>
              <a:rPr b="0" lang="ro-RO" sz="1600" spc="-1" strike="noStrike">
                <a:solidFill>
                  <a:srgbClr val="ffffff"/>
                </a:solidFill>
                <a:latin typeface="Book Antiqua"/>
              </a:rPr>
              <a:t>tiv</a:t>
            </a:r>
            <a:r>
              <a:rPr b="0" lang="hr-HR" sz="1600" spc="-1" strike="noStrike">
                <a:solidFill>
                  <a:srgbClr val="ffffff"/>
                </a:solidFill>
                <a:latin typeface="Book Antiqua"/>
              </a:rPr>
              <a:t>e</a:t>
            </a:r>
            <a:r>
              <a:rPr b="0" lang="ro-RO" sz="1600" spc="-1" strike="noStrike">
                <a:solidFill>
                  <a:srgbClr val="ffffff"/>
                </a:solidFill>
                <a:latin typeface="Book Antiqua"/>
              </a:rPr>
              <a:t> 2004/38, naslovljenom „Pravo stalnog boravišta“, </a:t>
            </a:r>
            <a:r>
              <a:rPr b="0" lang="hr-HR" sz="1600" spc="-1" strike="noStrike">
                <a:solidFill>
                  <a:srgbClr val="ffffff"/>
                </a:solidFill>
                <a:latin typeface="Book Antiqua"/>
              </a:rPr>
              <a:t>č</a:t>
            </a:r>
            <a:r>
              <a:rPr b="0" lang="ro-RO" sz="1600" spc="-1" strike="noStrike">
                <a:solidFill>
                  <a:srgbClr val="ffffff"/>
                </a:solidFill>
                <a:latin typeface="Book Antiqua"/>
              </a:rPr>
              <a:t>lanak 16. navedene Direktive 2004/38, naslovljen „Opće pravilo za građane Unije i članove njihovih obitelji“, određuj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t>
            </a:r>
            <a:r>
              <a:rPr b="0" lang="ro-RO" sz="1600" spc="-1" strike="noStrike">
                <a:solidFill>
                  <a:srgbClr val="ffffff"/>
                </a:solidFill>
                <a:latin typeface="Book Antiqua"/>
              </a:rPr>
              <a:t>1.      Građanin Unije koji je pet godina neprekidno zakonito boravio u državi članici domaćinu, ondje ima pravo stalnog boravišta. Ovo pravo nije podložno uvjetima iz Poglavlja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2.      Stavak 1. primjenjuje se i na članove obitelji koji nisu državljani države članice, a koji su zakonito boravili s građaninom Unije u državi članici domaćinu u neprekidnom razdoblju od 5 godina.</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3.      Na neprekinutost boravišta ne utječe privremena odsutnost koja ne prelazi ukupno šest mjeseci u godinu dana ili dulja odsutnost zbog obvezne vojne službe ili jedna odsutnost od najviše 12 uzastopnih mjeseci zbog važnih razloga poput trudnoće ili rođenja djeteta, ozbiljnih bolesti, školovanja ili strukovnog osposobljavanja ili premještaja u drugu državu članicu ili treću državu.</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4.      Kad je pravo stalnog boravišta jednom stečeno, može se izgubiti samo ako odsutnost iz države članice domaćina traje dulje od dvije uzastopne godin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Pravni okvir</a:t>
            </a:r>
            <a:br>
              <a:rPr sz="2400"/>
            </a:br>
            <a:r>
              <a:rPr b="0" lang="en-US" sz="2400" spc="-1" strike="noStrike">
                <a:solidFill>
                  <a:srgbClr val="dbbd71"/>
                </a:solidFill>
                <a:latin typeface="Arial"/>
              </a:rPr>
              <a:t> Pravo Unije</a:t>
            </a:r>
            <a:br>
              <a:rPr sz="2400"/>
            </a:br>
            <a:r>
              <a:rPr b="0" lang="en-US" sz="2400" spc="-1" strike="noStrike">
                <a:solidFill>
                  <a:srgbClr val="dbbd71"/>
                </a:solidFill>
                <a:latin typeface="Arial"/>
              </a:rPr>
              <a:t>Direktiva 2004/38</a:t>
            </a:r>
            <a:endParaRPr b="0" lang="en-US" sz="2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 skladu s člankom 18. navedene direkt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Ne dovodeći u pitanje članak 17., članovi obitelji građana Unije iz članka 12. stavka 2. i članka 13. stavka 2. koji ispunjavaju navedene uvjete stječu pravo stalnog boravišta nakon što su zakonito boravili u državi članici domaćinu pet uzastopnih godi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E. F. Ogieriakhi, državljanin Nigerije, u svibnju 1998. godine pristigao je u Irsku te je istoga dana predao zahtjev za odobravanje političkog azila. Tijekom svibnja 1999. oženio se francuskom državljankom gđom Georges. Nakon sklapanja braka, povukao je zahtjev za odobravanje političkog azila te je dobio dozvolu boravka za razdoblje od 11. listopada 1999. do 11. listopada 2000. Po isteku tog razdoblja, zatražio je produljenje dozvole boravka, koje mu je i odobreno za razdoblje od 11. listopada 2000. do 11. listopada 2004.</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Tijekom razdoblja od 1999. do 2001. godine E. F. Ogieriakhi živio je sa svojom suprugom u Dublinu (Irska), na različitim mjestima, u unajmljenim nekretninama za stanovanje.</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Ubrzo nakon kolovoza 2001. gđa Georges napustila je bračno domaćinstvo te počela živjeti s drugim muškarcem. E. F. Ogieriakhi potom je i sam napustio navedeno domaćinstvo i počeo živjeti s državljankom Irske gđom Madden, s kojom je u prosincu 2003. dobio i dijete. Nesporno je da od 2002. godine gđa Georges nije imala nikakvu ulogu u pribavljanju ili stavljanju na raspolaganje nekretnina za stanovanje za E. F. Ogieriakhija.</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Između listopada 1999. i listopada 2004., osim tijekom jednog mjeseca, gđa Georges radila je ili primala socijalne naknade uvjetovane traženjem posla. U listopadu 2004. napustila je Irsku te se definitivno vratila u Francusku</a:t>
            </a:r>
            <a:r>
              <a:rPr b="0" lang="hr-HR" sz="1400" spc="-1" strike="noStrike">
                <a:solidFill>
                  <a:srgbClr val="ffffff"/>
                </a:solidFill>
                <a:latin typeface="Tahoma"/>
              </a:rPr>
              <a:t>.</a:t>
            </a:r>
            <a:endParaRPr b="0" lang="en-US" sz="1400" spc="-1" strike="noStrike">
              <a:solidFill>
                <a:srgbClr val="ffffff"/>
              </a:solidFill>
              <a:latin typeface="Tahoma"/>
            </a:endParaRPr>
          </a:p>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rak između E. F. Ogieriakhija i gđe Georges razveden je u siječnju 2009. U srpnju iste godine E. F. Ogieriakhi oženio se gđom Madden. E. F. Ogieriakhi naknadno je, tijekom 2012. godine, stekao irsko državljanstvo prirođenjem</a:t>
            </a:r>
            <a:r>
              <a:rPr b="0" lang="hr-HR" sz="1400" spc="-1" strike="noStrike">
                <a:solidFill>
                  <a:srgbClr val="ffffff"/>
                </a:solidFill>
                <a:latin typeface="Tahoma"/>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Gospodin</a:t>
            </a:r>
            <a:r>
              <a:rPr b="0" lang="ro-RO" sz="1600" spc="-1" strike="noStrike">
                <a:solidFill>
                  <a:srgbClr val="ffffff"/>
                </a:solidFill>
                <a:latin typeface="Tahoma"/>
              </a:rPr>
              <a:t> Ogieriakhi u rujnu 2004. zatražio je produljenje svoje dozvole boravka. Taj je zahtjev, međutim, odbijen, uz obrazloženje da ne može dokazati da je u navedenom razdoblju gđa Georges izvršavala svoja prava iz UEU‑a radeći ili boraveći u Irskoj, a s obzirom na to da su dokazi koje je imao Minister for Justice and Equality pokazivali da se tijekom prosinca 2004. vratila u Pariz (Francuska) kako bi ondje radila.</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Sredinom 2007. godine, gospodin</a:t>
            </a:r>
            <a:r>
              <a:rPr b="0" lang="ro-RO" sz="1600" spc="-1" strike="noStrike">
                <a:solidFill>
                  <a:srgbClr val="ffffff"/>
                </a:solidFill>
                <a:latin typeface="Tahoma"/>
              </a:rPr>
              <a:t> Ogieriakhi</a:t>
            </a:r>
            <a:r>
              <a:rPr b="0" lang="hr-HR" sz="1600" spc="-1" strike="noStrike">
                <a:solidFill>
                  <a:srgbClr val="ffffff"/>
                </a:solidFill>
                <a:latin typeface="Tahoma"/>
              </a:rPr>
              <a:t>, </a:t>
            </a:r>
            <a:r>
              <a:rPr b="0" lang="ro-RO" sz="1600" spc="-1" strike="noStrike">
                <a:solidFill>
                  <a:srgbClr val="ffffff"/>
                </a:solidFill>
                <a:latin typeface="Tahoma"/>
              </a:rPr>
              <a:t> nakon isteka roka za prenošenje Direktive 2004/38, uputio je zahtjev za stjecanje dozvole stalnog boravka u Irskoj, uz obrazloženje da je neprekidno zakonito boravio u Irskoj tijekom pet godina, odnosno od 1999. do 2004., zbog toga što je tijekom tog razdoblja bio u braku s gđom Georges</a:t>
            </a:r>
            <a:endParaRPr b="0" lang="en-US" sz="16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Taj je zahtjev Minister for Justice and Equality odbio u rujnu 2007. jer je smatrao da E. F. Ogieriakhi – zbog nepostojanja dokaza da je njegova supruga tijekom navedenog razdoblja u Irskoj izvršavala prava iz Ugovora – na temelju odredaba uredbe iz 2006. nema pravo na boravište u Irsko</a:t>
            </a:r>
            <a:r>
              <a:rPr b="0" lang="hr-HR" sz="1600" spc="-1" strike="noStrike">
                <a:solidFill>
                  <a:srgbClr val="ffffff"/>
                </a:solidFill>
                <a:latin typeface="Tahoma"/>
              </a:rPr>
              <a:t>j.</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Činjenično stanje</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U listopadu 2007. E. F. Ogieriakhi dobio je otkaz na svojem radnom mjestu razvrstavača pošte kod An Post (državnog poštanskog poduzeća) zato što nije raspolagao nikakvim pravom boravišta u Irskoj.</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 F. Ogieriakhi – koji je smatrao da je u Irskoj stekao pravo stalnog boravišta – podnio je tužbu protiv odluke Minister for Justice and Equality, koju je High Court u siječnju 2008. odbio, uz obrazloženje da se uredba iz 2006. ne može primijeniti na boravke koji prethode njezinu stupanju na snagu.</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 F. Ogieriakhi nije odmah podnio žalbu na navedenu presudu. Međutim, nakon presude Lassal (C‑162/09, EU:C:2010:592) – iz koje proizlazi da se i za boravak prije 2006. godine u načelu može smatrati da ispunjava kriterij neprekinutog boravka u trajanju od pet godina – zahtijevao je od Supreme Court produljenje roka za ulaganje pravnog lijeka koji bi mu omogućio podnošenje žalbe. Supreme Court taj je zahtjev svojom odlukom od 18. veljače 2011. odbio, uz napomenu da je Minister for Justice and Equality pristao preispitati svoju prijašnju odluku i da E. F. Ogieriakhi ima pravo pokrenuti sve postupke koje smatra potrebnima, uključujući one koji proizlaze iz prava Unij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Nakon preispitivanja svoje odluke iz rujna 2007., Minister for Justice and Equality 7. studenoga 2011. odobrio je E. F. Ogieriakhiju pravo stalnog boravišta, uz obrazloženje da ispunjava sve relevantne uvjete predviđene uredbom iz 200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2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zivajući se na sudsku praksu na temelju presude Francovich i dr. (EU:C:1991:428), E. F. Ogieriakhi potom je podnio tužbu High Court za naknadu štete koju je pretrpio zbog navodno neispravnog prenošenja odredaba Direktive 2004/38 u nacionalno pravo. Taj se zahtjev osobito temelji na gubicima koje je E. F. Ogieriakhi pretrpio zbog otkazivanja ugovora o radu dana 24. listopada 2007. zato što je izgubio pravo boravišta u Irskoj.</a:t>
            </a:r>
            <a:r>
              <a:rPr b="0" lang="en-US" sz="1000" spc="-1" strike="noStrike">
                <a:solidFill>
                  <a:srgbClr val="ffffff"/>
                </a:solidFill>
                <a:latin typeface="Tahoma"/>
              </a:rPr>
              <a:t> </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d koji je uputio zahtjev</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ješavajući taj predmet, sud koji je uputio zahtjev ocijenio je da tužba koju je na temelju sudske prakse proizišle iz presude Francovich i dr. (EU:C:1991:428) podnio E. F. Ogieriakhi zbog pogrešnog prenošenja prava Unije (a koja se također pozivala na pogrešnu primjenu prava Unije) ovisi o dokazivanju E. F. Ogieriakhija da je na dan dobivanja otkaza kod An Post u listopadu 2007. uživao pravo boravišta tijekom neprekinutog razdoblja od najmanje pet godina (u cijelosti ili djelomično, prije ili poslije 2006. godine) te da je usto to pravo boravišta proizlazilo iz prava Un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bbd71"/>
                </a:solidFill>
                <a:latin typeface="Arial"/>
              </a:rPr>
              <a:t>High Court odlučio </a:t>
            </a:r>
            <a:r>
              <a:rPr b="0" lang="hr-HR" sz="2400" spc="-1" strike="noStrike">
                <a:solidFill>
                  <a:srgbClr val="dbbd71"/>
                </a:solidFill>
                <a:latin typeface="Arial"/>
              </a:rPr>
              <a:t>je </a:t>
            </a:r>
            <a:r>
              <a:rPr b="0" lang="ro-RO"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Može li se smatrati da je bračni drug građanina Unije koji sam u predmetnom razdoblju nije bio državljanin neke države članice ,zakonito boravio s građaninom Unije u državi članici domaćinu u neprekidnom razdoblju od 5 godina’, u smislu članka 16. stavka 2. Direktive 2004/38 [...], u slučaju kada je vjenčanje bilo u svibnju 1999., kada je pravo boravišta odobreno u listopadu 1999., kada su najkasnije početkom 2002. godine bračni drugovi odlučili živjeti razdvojeno i kada su – od kraja 2002. godine – bračni drugovi počeli živjeti s novim partneri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bbd71"/>
                </a:solidFill>
                <a:latin typeface="Arial"/>
              </a:rPr>
              <a:t>High Court odlučio </a:t>
            </a:r>
            <a:r>
              <a:rPr b="0" lang="hr-HR" sz="2400" spc="-1" strike="noStrike">
                <a:solidFill>
                  <a:srgbClr val="dbbd71"/>
                </a:solidFill>
                <a:latin typeface="Arial"/>
              </a:rPr>
              <a:t>je </a:t>
            </a:r>
            <a:r>
              <a:rPr b="0" lang="ro-RO"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U slučaju potvrdnog odgovora na prvo pitanje, a odričnog na drugo pitanje, treba li – radi ocjene je li država članica na pogrešan način prenijela uvjete iz članka 16. stavka 2. Direktive 2004/38 u nacionalno pravo ili je li ih općenito pogrešno primijenila – smatrati da je činjenica da nacionalni sud pred kojim se vodi postupak po tužbi za naknadu štete zbog povrede prava Unije smatra nužnim uputiti zahtjev za prethodnu odluku o meritornom pitanju koje se tiče prava stalnog boravišta tužitelja sama po sebi čimbenik o kojem navedeni sud mora voditi računa pri ocjenjivanju je li povreda prava Unije očit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prije svega navodi da članak  21 UFEU i odredbe Direktive </a:t>
            </a:r>
            <a:r>
              <a:rPr b="0" lang="ro-RO" sz="2400" spc="-1" strike="noStrike">
                <a:solidFill>
                  <a:srgbClr val="ffffff"/>
                </a:solidFill>
                <a:latin typeface="Tahoma"/>
              </a:rPr>
              <a:t> 2004/38 </a:t>
            </a:r>
            <a:r>
              <a:rPr b="0" lang="hr-HR" sz="2400" spc="-1" strike="noStrike">
                <a:solidFill>
                  <a:srgbClr val="ffffff"/>
                </a:solidFill>
                <a:latin typeface="Tahoma"/>
              </a:rPr>
              <a:t>ne daju nikakvo autonomno pravo građanima trećih država. Eventualna prava boravka dodijeljena takvim građanima prava su koja proizlaze iz izvršenja prava na slobodno kretanje građana Unije.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nadalje utvrđuje da Direktiva </a:t>
            </a:r>
            <a:r>
              <a:rPr b="0" lang="ro-RO" sz="2400" spc="-1" strike="noStrike">
                <a:solidFill>
                  <a:srgbClr val="ffffff"/>
                </a:solidFill>
                <a:latin typeface="Tahoma"/>
              </a:rPr>
              <a:t> 2004/38 n</a:t>
            </a:r>
            <a:r>
              <a:rPr b="0" lang="hr-HR" sz="2400" spc="-1" strike="noStrike">
                <a:solidFill>
                  <a:srgbClr val="ffffff"/>
                </a:solidFill>
                <a:latin typeface="Tahoma"/>
              </a:rPr>
              <a:t>e pridaje nikakvo izvedeno</a:t>
            </a:r>
            <a:r>
              <a:rPr b="0" lang="ro-RO" sz="2400" spc="-1" strike="noStrike">
                <a:solidFill>
                  <a:srgbClr val="ffffff"/>
                </a:solidFill>
                <a:latin typeface="Tahoma"/>
              </a:rPr>
              <a:t> </a:t>
            </a:r>
            <a:r>
              <a:rPr b="0" lang="hr-HR" sz="2400" spc="-1" strike="noStrike">
                <a:solidFill>
                  <a:srgbClr val="ffffff"/>
                </a:solidFill>
                <a:latin typeface="Tahoma"/>
              </a:rPr>
              <a:t>pravo boravka državljaninu treće države, član obitelji građanina Unije koji prebiva u državi članici u svojstvu državljanina.</a:t>
            </a:r>
            <a:r>
              <a:rPr b="0" lang="ro-RO" sz="2400" spc="-1" strike="noStrike">
                <a:solidFill>
                  <a:srgbClr val="ffffff"/>
                </a:solidFill>
                <a:latin typeface="Tahoma"/>
              </a:rPr>
              <a:t> </a:t>
            </a:r>
            <a:r>
              <a:rPr b="0" lang="hr-HR" sz="2400" spc="-1" strike="noStrike">
                <a:solidFill>
                  <a:srgbClr val="ffffff"/>
                </a:solidFill>
                <a:latin typeface="Tahoma"/>
              </a:rPr>
              <a:t>Stoga,</a:t>
            </a:r>
            <a:r>
              <a:rPr b="0" lang="ro-RO" sz="2400" spc="-1" strike="noStrike">
                <a:solidFill>
                  <a:srgbClr val="ffffff"/>
                </a:solidFill>
                <a:latin typeface="Tahoma"/>
              </a:rPr>
              <a:t> Dire</a:t>
            </a:r>
            <a:r>
              <a:rPr b="0" lang="hr-HR" sz="2400" spc="-1" strike="noStrike">
                <a:solidFill>
                  <a:srgbClr val="ffffff"/>
                </a:solidFill>
                <a:latin typeface="Tahoma"/>
              </a:rPr>
              <a:t>k</a:t>
            </a:r>
            <a:r>
              <a:rPr b="0" lang="ro-RO" sz="2400" spc="-1" strike="noStrike">
                <a:solidFill>
                  <a:srgbClr val="ffffff"/>
                </a:solidFill>
                <a:latin typeface="Tahoma"/>
              </a:rPr>
              <a:t>tiva 2004/38 </a:t>
            </a:r>
            <a:r>
              <a:rPr b="0" lang="hr-HR" sz="2400" spc="-1" strike="noStrike">
                <a:solidFill>
                  <a:srgbClr val="ffffff"/>
                </a:solidFill>
                <a:latin typeface="Tahoma"/>
              </a:rPr>
              <a:t>primjenjuje se samo onda kada građanin putuje ili živi u državi članici različitoj od one države čiji je državljan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bbd71"/>
                </a:solidFill>
                <a:latin typeface="Arial"/>
              </a:rPr>
              <a:t>High Court odlučio </a:t>
            </a:r>
            <a:r>
              <a:rPr b="0" lang="hr-HR" sz="2400" spc="-1" strike="noStrike">
                <a:solidFill>
                  <a:srgbClr val="dbbd71"/>
                </a:solidFill>
                <a:latin typeface="Arial"/>
              </a:rPr>
              <a:t>je </a:t>
            </a:r>
            <a:r>
              <a:rPr b="0" lang="ro-RO" sz="2400" spc="-1" strike="noStrike">
                <a:solidFill>
                  <a:srgbClr val="dbbd71"/>
                </a:solidFill>
                <a:latin typeface="Arial"/>
              </a:rPr>
              <a:t>prekinuti postupak i uputiti Sudu sljedeća prethodna pitanja:</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2)     U slučaju potvrdnog odgovora na prvo pitanje te s obzirom na to da državljanin treće države koji se poziva na posjedovanje prava na stalno boravište na temelju članka 16. stavka 2., po osnovi neprekinutog boravka u trajanju od pet godina prije 2006., mora dokazati i da je njegov boravak ispunjavao, među ostalim, uvjete iz članka 10. stavka 3. Uredbe br. 1612/68 [...], treba li smatrati da navedeni uvjeti iz članka 10. stavka 3. nisu ispunjeni ako je tijekom tog razdoblja od pet godina građanin Unije napustio obiteljsko domaćinstvo i ako je državljanin treće države odlučio živjeti s drugom osobom u novoj nekretnini za stanovanje koju mu nije pribavio ni stavio na raspolaganje (bivši) bračni drug građanin Unij</a:t>
            </a:r>
            <a:r>
              <a:rPr b="0" lang="hr-HR" sz="2400" spc="-1" strike="noStrike">
                <a:solidFill>
                  <a:srgbClr val="ffffff"/>
                </a:solidFill>
                <a:latin typeface="Tahoma"/>
              </a:rPr>
              <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d </a:t>
            </a:r>
            <a:r>
              <a:rPr b="0" lang="ro-RO" sz="4400" spc="-1" strike="noStrike">
                <a:solidFill>
                  <a:srgbClr val="dbbd71"/>
                </a:solidFill>
                <a:latin typeface="Arial"/>
              </a:rPr>
              <a:t>(</a:t>
            </a:r>
            <a:r>
              <a:rPr b="0" lang="hr-HR" sz="4400" spc="-1" strike="noStrike">
                <a:solidFill>
                  <a:srgbClr val="dbbd71"/>
                </a:solidFill>
                <a:latin typeface="Arial"/>
              </a:rPr>
              <a:t>Malo vijeće</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1)      </a:t>
            </a:r>
            <a:r>
              <a:rPr b="1" lang="hr-HR" sz="1400" spc="-1" strike="noStrike">
                <a:solidFill>
                  <a:srgbClr val="ffffff"/>
                </a:solidFill>
                <a:latin typeface="Tahoma"/>
              </a:rPr>
              <a:t>Članak </a:t>
            </a:r>
            <a:r>
              <a:rPr b="1" lang="ro-RO" sz="1400" spc="-1" strike="noStrike">
                <a:solidFill>
                  <a:srgbClr val="ffffff"/>
                </a:solidFill>
                <a:latin typeface="Tahoma"/>
              </a:rPr>
              <a:t>16 Direktive 2004/38/EZ Europskog parlamenta i Vijeća od 29. travnja 2004. o pravu građana Unije i članova njihovih obitelji na slobodno kretanje i boravište [boravak] na području države članice, kojom se izmjenjuje Uredba (EEZ) br. 1612/68 i stavljaju izvan snage direktive 64/221/EEZ, 68/360/EEZ, 72/194/EEZ, 73/148/EEZ, 75/34/EEZ, 75/35/EEZ, 90/364/EEZ, 90/365/EEZ i 93/96/EEZ, treba tumačiti u smislu</a:t>
            </a:r>
            <a:r>
              <a:rPr b="1" lang="hr-HR" sz="1400" spc="-1" strike="noStrike">
                <a:solidFill>
                  <a:srgbClr val="ffffff"/>
                </a:solidFill>
                <a:latin typeface="Tahoma"/>
              </a:rPr>
              <a:t> da se treba smatrati da državljanin treće države koji je, u kontinuiranom razdoblju od pet godine prethodno prijenosu ove direktive, imao boravište u jednoj državi članici u svojstvu supruga građanina Unije, radnik u dotičnoj državi, dobio je pravo stalnog boravka predviđen ovom odredbom, iako su se u dotičnom razdoblju supružnici odlučili rastati i počeli živjeti s drugim partnerima, a stan u kojem je boravio spomenuti državljanin više od tog trenutka nije ni osiguran a ni stavljen njemu na raspolaganje od strane svog supruga građanina Unije.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d </a:t>
            </a:r>
            <a:r>
              <a:rPr b="0" lang="ro-RO" sz="4400" spc="-1" strike="noStrike">
                <a:solidFill>
                  <a:srgbClr val="dbbd71"/>
                </a:solidFill>
                <a:latin typeface="Arial"/>
              </a:rPr>
              <a:t> (</a:t>
            </a:r>
            <a:r>
              <a:rPr b="0" lang="hr-HR" sz="4400" spc="-1" strike="noStrike">
                <a:solidFill>
                  <a:srgbClr val="dbbd71"/>
                </a:solidFill>
                <a:latin typeface="Arial"/>
              </a:rPr>
              <a:t>Malo vijeće</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    </a:t>
            </a:r>
            <a:r>
              <a:rPr b="1" lang="hr-HR" sz="2400" spc="-1" strike="noStrike">
                <a:solidFill>
                  <a:srgbClr val="ffffff"/>
                </a:solidFill>
                <a:latin typeface="Tahoma"/>
              </a:rPr>
              <a:t>Činjenicu da  je tijekom postupka obeštećenja zbog kršenja prava Unije, nacionalni  sud ocijenio potrebnim obratiti se prethodnim pitanjem o predmetnom pravu Unije u glavnom sporu ne treba smatrati odlučujućim faktorom da bi se odredilo da li je ili nije došlo do očitog kršenja tog prava u državi članici.</a:t>
            </a:r>
            <a:r>
              <a:rPr b="1"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Što se tiče pitanja da li članak 21 UFEU-a daje takvo izvedeno  pravo boravka, Sud tumači činjenicu da odbijanje priznavanja takvog izvedenog prava članu obitelji građana Unije, koji je član državljanin treće države, može kršiti pravo slobodnog kretanja dotičnog građanina, pravo koje je zajamčeno ovom odredbom u sporazumu. </a:t>
            </a: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Stoga, građanin bi Unije mogao biti obeshrabren napustiti državu članicu čiji je državljanin ako nema sigurnost da može nastaviti, pri svom povatku u tu državu članicu, obiteljski život koji je mogao započeti ili učvrstiti u drugoj državi članici. Unatoč tome, takva prepreka će postojati samo ako njegov boravak u zemlji domaćinu ima efektivni karakter, dugim riječima onda kada ispunjava uvjete Direktive </a:t>
            </a:r>
            <a:r>
              <a:rPr b="0" lang="ro-RO" sz="1400" spc="-1" strike="noStrike">
                <a:solidFill>
                  <a:srgbClr val="ffffff"/>
                </a:solidFill>
                <a:latin typeface="Tahoma"/>
              </a:rPr>
              <a:t> 2004/38</a:t>
            </a:r>
            <a:r>
              <a:rPr b="0" lang="hr-HR" sz="1400" spc="-1" strike="noStrike">
                <a:solidFill>
                  <a:srgbClr val="ffffff"/>
                </a:solidFill>
                <a:latin typeface="Tahoma"/>
              </a:rPr>
              <a:t> o pravu boravka na razdoblje dulje od tri mjeseca. </a:t>
            </a:r>
            <a:r>
              <a:rPr b="0" lang="ro-RO" sz="1400" spc="-1" strike="noStrike">
                <a:solidFill>
                  <a:srgbClr val="ffffff"/>
                </a:solidFill>
                <a:latin typeface="Tahoma"/>
              </a:rPr>
              <a:t> </a:t>
            </a: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Proizlazi da onda kada je, na temelju i uz poštivanje odredaba</a:t>
            </a:r>
            <a:r>
              <a:rPr b="0" lang="ro-RO" sz="1400" spc="-1" strike="noStrike">
                <a:solidFill>
                  <a:srgbClr val="ffffff"/>
                </a:solidFill>
                <a:latin typeface="Tahoma"/>
              </a:rPr>
              <a:t> Dire</a:t>
            </a:r>
            <a:r>
              <a:rPr b="0" lang="hr-HR" sz="1400" spc="-1" strike="noStrike">
                <a:solidFill>
                  <a:srgbClr val="ffffff"/>
                </a:solidFill>
                <a:latin typeface="Tahoma"/>
              </a:rPr>
              <a:t>k</a:t>
            </a:r>
            <a:r>
              <a:rPr b="0" lang="ro-RO" sz="1400" spc="-1" strike="noStrike">
                <a:solidFill>
                  <a:srgbClr val="ffffff"/>
                </a:solidFill>
                <a:latin typeface="Tahoma"/>
              </a:rPr>
              <a:t>tive 2004/38 </a:t>
            </a:r>
            <a:r>
              <a:rPr b="0" lang="hr-HR" sz="1400" spc="-1" strike="noStrike">
                <a:solidFill>
                  <a:srgbClr val="ffffff"/>
                </a:solidFill>
                <a:latin typeface="Tahoma"/>
              </a:rPr>
              <a:t>o pravu boravka za razdoblje dulje od tri mjeseci, građanin Unije boravio je u drugoj državi članici i tim povodom započeo ili učvrstio obiteljski život u ovoj državi članici, korisni učinak članka 21 UFEU-a nameće da se obiteljski život ovog građanina u državi članici domaćinu može nastaviti pri njegovom povratku u državu članicu čiji je državljanin, priznavanjem izvedenog prava boravka članu obitelji, odnosno državljaninu treće države.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vjeti dodijele takvog izvednog prava boravka na temelju članka 21 UFEU-a ne bi trebali biti, u načelu, stroži od onih predviđenih u Direktivi </a:t>
            </a:r>
            <a:r>
              <a:rPr b="0" lang="ro-RO" sz="2000" spc="-1" strike="noStrike">
                <a:solidFill>
                  <a:srgbClr val="ffffff"/>
                </a:solidFill>
                <a:latin typeface="Tahoma"/>
              </a:rPr>
              <a:t>2004/38 </a:t>
            </a:r>
            <a:r>
              <a:rPr b="0" lang="hr-HR" sz="2000" spc="-1" strike="noStrike">
                <a:solidFill>
                  <a:srgbClr val="ffffff"/>
                </a:solidFill>
                <a:latin typeface="Tahoma"/>
              </a:rPr>
              <a:t>za dodjelu takvog prava boravka državljaninu treće države, članu obitelji građanina Unije, koji je izvršio svoje pravo slobodnog kretanja nastanjujući se u državu članicu različitu od one čiji je državljani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toga, iako</a:t>
            </a:r>
            <a:r>
              <a:rPr b="0" lang="ro-RO" sz="2000" spc="-1" strike="noStrike">
                <a:solidFill>
                  <a:srgbClr val="ffffff"/>
                </a:solidFill>
                <a:latin typeface="Tahoma"/>
              </a:rPr>
              <a:t> Dire</a:t>
            </a:r>
            <a:r>
              <a:rPr b="0" lang="hr-HR" sz="2000" spc="-1" strike="noStrike">
                <a:solidFill>
                  <a:srgbClr val="ffffff"/>
                </a:solidFill>
                <a:latin typeface="Tahoma"/>
              </a:rPr>
              <a:t>k</a:t>
            </a:r>
            <a:r>
              <a:rPr b="0" lang="ro-RO" sz="2000" spc="-1" strike="noStrike">
                <a:solidFill>
                  <a:srgbClr val="ffffff"/>
                </a:solidFill>
                <a:latin typeface="Tahoma"/>
              </a:rPr>
              <a:t>tiva 2004/38 ne pokriva slu</a:t>
            </a:r>
            <a:r>
              <a:rPr b="0" lang="hr-HR" sz="2000" spc="-1" strike="noStrike">
                <a:solidFill>
                  <a:srgbClr val="ffffff"/>
                </a:solidFill>
                <a:latin typeface="Tahoma"/>
              </a:rPr>
              <a:t>čaj povratka građanina Unije u državu članicu čiji je državljanin, ona se mora primjeniti analogijom, i u tom slučaju, građanin Unje je onaj koji je referentna osoba da bi se državljaninu treće države, članu obitelji tog građanina Unije moglo dati izvedeno pravo boravk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ud ukazuje i na to, da s druge strane, gospodin B. dobio je svojstvo člana obitelji građanina Unije nakon boravka njegove partnerice u državi članici domaćinu. A, državljanin treće države, koji nije imao, barem djelomično tijekom boravka u državi članici domaćinu, svojstvo člana obitelji nije mogao uživati u toj državi članici  izvedno pravo boravka na temelju </a:t>
            </a:r>
            <a:r>
              <a:rPr b="0" lang="ro-RO" sz="2400" spc="-1" strike="noStrike">
                <a:solidFill>
                  <a:srgbClr val="ffffff"/>
                </a:solidFill>
                <a:latin typeface="Tahoma"/>
              </a:rPr>
              <a:t>Dire</a:t>
            </a:r>
            <a:r>
              <a:rPr b="0" lang="hr-HR" sz="2400" spc="-1" strike="noStrike">
                <a:solidFill>
                  <a:srgbClr val="ffffff"/>
                </a:solidFill>
                <a:latin typeface="Tahoma"/>
              </a:rPr>
              <a:t>k</a:t>
            </a:r>
            <a:r>
              <a:rPr b="0" lang="ro-RO" sz="2400" spc="-1" strike="noStrike">
                <a:solidFill>
                  <a:srgbClr val="ffffff"/>
                </a:solidFill>
                <a:latin typeface="Tahoma"/>
              </a:rPr>
              <a:t>tive 2004/38.</a:t>
            </a:r>
            <a:r>
              <a:rPr b="0" lang="hr-HR" sz="2400" spc="-1" strike="noStrike">
                <a:solidFill>
                  <a:srgbClr val="ffffff"/>
                </a:solidFill>
                <a:latin typeface="Tahoma"/>
              </a:rPr>
              <a:t> U tim okolnostima, strani državljanin ne može se pozivati na članak </a:t>
            </a:r>
            <a:r>
              <a:rPr b="0" lang="ro-RO" sz="2400" spc="-1" strike="noStrike">
                <a:solidFill>
                  <a:srgbClr val="ffffff"/>
                </a:solidFill>
                <a:latin typeface="Tahoma"/>
              </a:rPr>
              <a:t> 21 </a:t>
            </a:r>
            <a:r>
              <a:rPr b="0" lang="hr-HR" sz="2400" spc="-1" strike="noStrike">
                <a:solidFill>
                  <a:srgbClr val="ffffff"/>
                </a:solidFill>
                <a:latin typeface="Tahoma"/>
              </a:rPr>
              <a:t>U</a:t>
            </a:r>
            <a:r>
              <a:rPr b="0" lang="ro-RO" sz="2400" spc="-1" strike="noStrike">
                <a:solidFill>
                  <a:srgbClr val="ffffff"/>
                </a:solidFill>
                <a:latin typeface="Tahoma"/>
              </a:rPr>
              <a:t>FE</a:t>
            </a:r>
            <a:r>
              <a:rPr b="0" lang="hr-HR" sz="2400" spc="-1" strike="noStrike">
                <a:solidFill>
                  <a:srgbClr val="ffffff"/>
                </a:solidFill>
                <a:latin typeface="Tahoma"/>
              </a:rPr>
              <a:t>U-a za dobivanje izvedenog prava boravka pri povratku građanina Unije odnosno u državu članicu čiji je državljani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vezi činjenice da li kumulativni učinak različitih kratkoročnih boravaka u državi članici domaćinu može dovesti do stjecanja izvedenog prava boravka člana obitelji građanina Unije, državljanin treće države, pri povratku tog građanina u državu članicu čiji je državljanin, Sud spominje da samo boravak koji ispunjava uvjete predviđene odredbama Direktive </a:t>
            </a:r>
            <a:r>
              <a:rPr b="0" lang="ro-RO" sz="2000" spc="-1" strike="noStrike">
                <a:solidFill>
                  <a:srgbClr val="ffffff"/>
                </a:solidFill>
                <a:latin typeface="Tahoma"/>
              </a:rPr>
              <a:t> 2004/38 </a:t>
            </a:r>
            <a:r>
              <a:rPr b="0" lang="hr-HR" sz="2000" spc="-1" strike="noStrike">
                <a:solidFill>
                  <a:srgbClr val="ffffff"/>
                </a:solidFill>
                <a:latin typeface="Tahoma"/>
              </a:rPr>
              <a:t>može dovesti do stjecanja takvog prava boravka. Sud naglašava da kratkoročni boravci </a:t>
            </a:r>
            <a:r>
              <a:rPr b="0" lang="ro-RO" sz="2000" spc="-1" strike="noStrike">
                <a:solidFill>
                  <a:srgbClr val="ffffff"/>
                </a:solidFill>
                <a:latin typeface="Tahoma"/>
              </a:rPr>
              <a:t>(</a:t>
            </a:r>
            <a:r>
              <a:rPr b="0" lang="hr-HR" sz="2000" spc="-1" strike="noStrike">
                <a:solidFill>
                  <a:srgbClr val="ffffff"/>
                </a:solidFill>
                <a:latin typeface="Tahoma"/>
              </a:rPr>
              <a:t>kao što su vikendi ili godišnji odmori provedeni u državi članici različitoj od one čiji je državljanin taj građanin), čak ako se uzmu zajedno u obzir, ne udovoljavaju tom uvjetu.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raj</a:t>
            </a:r>
            <a:r>
              <a:rPr b="0" lang="ro-RO" sz="4400" spc="-1" strike="noStrike">
                <a:solidFill>
                  <a:srgbClr val="dbbd71"/>
                </a:solidFill>
                <a:latin typeface="Arial"/>
              </a:rPr>
              <a:t> 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majući u vidu sve što se prethodno uzima u obzir prethodno, </a:t>
            </a:r>
            <a:r>
              <a:rPr b="0" lang="ro-RO" sz="1800" spc="-1" strike="noStrike">
                <a:solidFill>
                  <a:srgbClr val="ffffff"/>
                </a:solidFill>
                <a:latin typeface="Tahoma"/>
              </a:rPr>
              <a:t> </a:t>
            </a:r>
            <a:r>
              <a:rPr b="0" lang="hr-HR" sz="1800" spc="-1" strike="noStrike">
                <a:solidFill>
                  <a:srgbClr val="ffffff"/>
                </a:solidFill>
                <a:latin typeface="Tahoma"/>
              </a:rPr>
              <a:t>Sud izjavljuje da, u situaciji kada je na temelju i uz poštivanje odredaba </a:t>
            </a:r>
            <a:r>
              <a:rPr b="0" lang="ro-RO" sz="1800" spc="-1" strike="noStrike">
                <a:solidFill>
                  <a:srgbClr val="ffffff"/>
                </a:solidFill>
                <a:latin typeface="Tahoma"/>
              </a:rPr>
              <a:t>Dire</a:t>
            </a:r>
            <a:r>
              <a:rPr b="0" lang="hr-HR" sz="1800" spc="-1" strike="noStrike">
                <a:solidFill>
                  <a:srgbClr val="ffffff"/>
                </a:solidFill>
                <a:latin typeface="Tahoma"/>
              </a:rPr>
              <a:t>k</a:t>
            </a:r>
            <a:r>
              <a:rPr b="0" lang="ro-RO" sz="1800" spc="-1" strike="noStrike">
                <a:solidFill>
                  <a:srgbClr val="ffffff"/>
                </a:solidFill>
                <a:latin typeface="Tahoma"/>
              </a:rPr>
              <a:t>tive 2004/38 </a:t>
            </a:r>
            <a:r>
              <a:rPr b="0" lang="hr-HR" sz="1800" spc="-1" strike="noStrike">
                <a:solidFill>
                  <a:srgbClr val="ffffff"/>
                </a:solidFill>
                <a:latin typeface="Tahoma"/>
              </a:rPr>
              <a:t>o pravu boravka za razdoblje dulje od tri mjeseca, građanin Unije započeo ili učvrstio svoj obiteljiski život s državljaninom treće države povodom stvarnog boravka u državi članici različitoj od one čiji je državljanin, odredbe iste direktive primjenjuju se analogijom onda kada se navedeni građanin Unije vraća, s dotičnim članom obitelji, u svoju državu članicu podrijet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hr-HR" sz="4400" spc="-1" strike="noStrike">
                <a:solidFill>
                  <a:srgbClr val="dbbd71"/>
                </a:solidFill>
                <a:latin typeface="Arial"/>
              </a:rPr>
              <a:t>Predmet</a:t>
            </a:r>
            <a:r>
              <a:rPr b="1" lang="ro-RO" sz="4400" spc="-1" strike="noStrike">
                <a:solidFill>
                  <a:srgbClr val="dbbd71"/>
                </a:solidFill>
                <a:latin typeface="Arial"/>
              </a:rPr>
              <a:t> C-457/12</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redmet </a:t>
            </a:r>
            <a:r>
              <a:rPr b="0" lang="ro-RO" sz="1800" spc="-1" strike="noStrike">
                <a:solidFill>
                  <a:srgbClr val="ffffff"/>
                </a:solidFill>
                <a:latin typeface="Tahoma"/>
              </a:rPr>
              <a:t> C-457/12 </a:t>
            </a:r>
            <a:r>
              <a:rPr b="0" lang="hr-HR" sz="1800" spc="-1" strike="noStrike">
                <a:solidFill>
                  <a:srgbClr val="ffffff"/>
                </a:solidFill>
                <a:latin typeface="Tahoma"/>
              </a:rPr>
              <a:t>odnosi se na odbijanje nizozemskih vlasti da dodijele pravo boravka članu obitelji nizozemskih državljana. Ipak, za razliku od situacije iz predmeta  </a:t>
            </a:r>
            <a:r>
              <a:rPr b="0" lang="ro-RO" sz="1800" spc="-1" strike="noStrike">
                <a:solidFill>
                  <a:srgbClr val="ffffff"/>
                </a:solidFill>
                <a:latin typeface="Tahoma"/>
              </a:rPr>
              <a:t> C-456/12, </a:t>
            </a:r>
            <a:r>
              <a:rPr b="0" lang="hr-HR" sz="1800" spc="-1" strike="noStrike">
                <a:solidFill>
                  <a:srgbClr val="ffffff"/>
                </a:solidFill>
                <a:latin typeface="Tahoma"/>
              </a:rPr>
              <a:t>dotični građani Unije nisu živjeli zajedno s članom njihove obitelji u državi članici različitoj od one čiji su državljani.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spođ</a:t>
            </a:r>
            <a:r>
              <a:rPr b="0" lang="ro-RO" sz="1800" spc="-1" strike="noStrike">
                <a:solidFill>
                  <a:srgbClr val="ffffff"/>
                </a:solidFill>
                <a:latin typeface="Tahoma"/>
              </a:rPr>
              <a:t>a S.</a:t>
            </a:r>
            <a:r>
              <a:rPr b="0" lang="hr-HR" sz="1800" spc="-1" strike="noStrike">
                <a:solidFill>
                  <a:srgbClr val="ffffff"/>
                </a:solidFill>
                <a:latin typeface="Tahoma"/>
              </a:rPr>
              <a:t> ukrajinska je državljanka. Ona želi živjeti sa svojim zetom, koji je nizozemski državljanin. Gospođa S. tvrdi da se brine o svom unuku. Njezin zet živi u Nizozemskoj, ali putuje u Belgiju barem </a:t>
            </a:r>
            <a:r>
              <a:rPr b="0" lang="ro-RO" sz="1800" spc="-1" strike="noStrike">
                <a:solidFill>
                  <a:srgbClr val="ffffff"/>
                </a:solidFill>
                <a:latin typeface="Tahoma"/>
              </a:rPr>
              <a:t> </a:t>
            </a:r>
            <a:r>
              <a:rPr b="0" lang="hr-HR" sz="1800" spc="-1" strike="noStrike">
                <a:solidFill>
                  <a:srgbClr val="ffffff"/>
                </a:solidFill>
                <a:latin typeface="Tahoma"/>
              </a:rPr>
              <a:t>jednom tjedno, poradi prirode svog posla obzirom da je zaposlen kod nizozemskog poslodavca.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Gospođa </a:t>
            </a:r>
            <a:r>
              <a:rPr b="0" lang="ro-RO" sz="1800" spc="-1" strike="noStrike">
                <a:solidFill>
                  <a:srgbClr val="ffffff"/>
                </a:solidFill>
                <a:latin typeface="Tahoma"/>
              </a:rPr>
              <a:t>G, </a:t>
            </a:r>
            <a:r>
              <a:rPr b="0" lang="hr-HR" sz="1800" spc="-1" strike="noStrike">
                <a:solidFill>
                  <a:srgbClr val="ffffff"/>
                </a:solidFill>
                <a:latin typeface="Tahoma"/>
              </a:rPr>
              <a:t>peruanski državljanin, udala se tijekom godine 2009. za nizozemskog državljanina. Ovaj potonji živi u Nizozemskoj, ali radi u belgijskoj tvrtki. Po prirodi svog posla, on svakodnevno putuje, odalazi i vraća se u Belgiju</a:t>
            </a:r>
            <a:r>
              <a:rPr b="0" lang="ro-RO"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Mihail Doran</cp:lastModifiedBy>
  <dcterms:modified xsi:type="dcterms:W3CDTF">2016-08-22T06:25:2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