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39D-C65B-4D89-88D3-01A7B550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D6F-3677-4556-AC9A-945DE4F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E4F-5820-4160-AD7C-C607B7B5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130-DBF8-48FA-803D-CE74BD1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1505-B26E-4BD2-A7F9-D366C4B5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7022-2602-44B0-ACFD-C37CC7B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14CB-BEBC-4CA0-A1A4-5A1FFB0E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2DD-D0E6-47CA-9FD2-123F19B7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FF2-56DD-42C6-9D4E-2691D05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5C5-9AAA-4D73-893D-500BC66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852A-B7EC-4584-84AB-393E6B3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795-0FF5-478E-9331-CDA7D98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5357-0DE9-4AAB-845F-0648262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CBD5-F52E-4387-9A51-23CA9829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AAEA-4870-4C3C-AAB3-3815471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FBC-1CEB-410C-AB85-EB265306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CEF-D7E3-4950-94A7-EFCC4FCD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B54-614C-4FD8-95F4-40911962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59C-B6CF-4155-9279-1821DFBB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5B9-3FF2-42A8-9ECE-590CA0C7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A68-D1A7-4D0A-BFDC-5461990C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0E9-455B-494B-88E1-1DE050F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BC9-6FEF-4B17-8781-8532507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524-3160-496E-BDA5-DB3C27B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328-3A65-4900-8F2B-602757573D1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361B-9263-4AC9-858C-45F08CCDC72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BAEA-C3B2-41AB-8CF5-78FCC6F6CE4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cc"/>
                </a:solidFill>
                <a:latin typeface="Tahoma"/>
              </a:rPr>
              <a:t>Primjena prava EU na nacionalnim sudovi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ahoma"/>
              </a:rPr>
              <a:t>postupak preliminarne odluke na Europskom sudu za ljudska pra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istian Pu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suda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Prizivni sud  u Temišvar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umunjsk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73F-BB16-46B5-A5CF-8F5881050D0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judska prava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ma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ku 51 stavak (1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arte temeljnih pra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jezine se od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be obr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ju d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ma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icama samo u sl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j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kad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te primjenjuju pravo Unije’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 temelju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ka 267 TFUE, Sud nije nadl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donijeti odluku u vezi tum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ja odr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ih m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rodnih pravnih odredbi koje su obvezne za d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ce izvan pravnog okvira Unij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-134/12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Nacionalni korpus policaja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173-A1D2-4445-9F91-F277E65219D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judska prava </a:t>
            </a:r>
            <a:r>
              <a:rPr b="0" lang="fr-FR" sz="44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…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ukladno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anku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vak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(1) TUE, U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 priznaje prava, slobod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a predv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a u Karti temeljnih prava Europske Unij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ja ima istu pravnu vrijednost kao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razumi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”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‑92/09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c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B03-B408-40CB-8B16-1171839ED21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2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Kada treba donijeti odluku upozorenja Europskog suda za ljudska prava u vezi preliminarne odluk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4E4-6182-44C6-A4F8-996DC3110C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0" lang="de-DE" sz="4800" spc="-1" strike="noStrike">
                <a:solidFill>
                  <a:srgbClr val="ffffcc"/>
                </a:solidFill>
                <a:latin typeface="Arial"/>
              </a:rPr>
              <a:t>lanak 267 TFEU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Europski sud za ljudska  prava nadlez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n je za dono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enje  nekih preliminarnih  odluka u predmetima  koji se odnose n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a) tuma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ja Sporazuma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b) </a:t>
            </a:r>
            <a:r>
              <a:rPr b="0" i="1" lang="ro-RO" sz="1800" spc="-1" strike="noStrike">
                <a:solidFill>
                  <a:srgbClr val="ffffff"/>
                </a:solidFill>
                <a:latin typeface="Tahoma"/>
              </a:rPr>
              <a:t>val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janost 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uma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je  dokumenata  koje su izdale institucije, strukture, uredi ili agencije  Unij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u slu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ju  kada se na takvu stvar poziva pred nekim sudom  u nekoj od dr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va clanica, taj sud moze, ako ocjeni  da  bi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mu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takva  odluka bila potrebna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 dono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je odluke, traziti Europskom sudu  za ljudska  prava da se o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tuje u vezi te stvari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Ukoliko se na takvu stvar poziva  </a:t>
            </a:r>
            <a:r>
              <a:rPr b="0" i="1" lang="hr-HR" sz="1600" spc="-1" strike="noStrike">
                <a:solidFill>
                  <a:srgbClr val="ffffff"/>
                </a:solidFill>
                <a:latin typeface="Tahoma"/>
              </a:rPr>
              <a:t>u postupku koji još traje  na nekom od nacionalnih sudova čije odluke ne podliježu nekom od pravnih lijekova prema internom pravu, taj je sud obvezan upozoriti Europski sud za ljudska prava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r-HR" sz="1600" spc="-1" strike="noStrike">
                <a:solidFill>
                  <a:srgbClr val="ffffff"/>
                </a:solidFill>
                <a:latin typeface="Tahoma"/>
              </a:rPr>
              <a:t>Ukoliko se na takvu stvar poziva u postupku koji je u tijeku na nekom od nacio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hr-HR" sz="1600" spc="-1" strike="noStrike">
                <a:solidFill>
                  <a:srgbClr val="ffffff"/>
                </a:solidFill>
                <a:latin typeface="Tahoma"/>
              </a:rPr>
              <a:t>alnih sudova, a odnosi se na osobu koja podliježe mjeri lišenja slobode, Europski sud za ljudska prava odlučuje u najkraćem roku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940E-AE61-4AE8-9787-3B183174EE3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Pravosudna arhitektura EU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vaki je nacionalni sud, sud E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čelo nacionalne postupovne autonomije obuhvaća načelo jednakosti i djelotvor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vaki je nacionalni sud čuvar pravosuđ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ED89-7DC2-4B32-9F18-08B8C10D734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Kada je</a:t>
            </a:r>
            <a:r>
              <a:rPr b="1" lang="hr-HR" sz="2800" spc="-1" strike="noStrike">
                <a:solidFill>
                  <a:srgbClr val="ffffcc"/>
                </a:solidFill>
                <a:latin typeface="Arial"/>
              </a:rPr>
              <a:t> obvezno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 podnošenje zahtjeva za preliminarnu odluku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Onda kada je valjanost prava Unije upitna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i.e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ada mislite da nije valjana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Onda kada jedan nacionalni sud odlučuje na zadnjem stupnju jurisdikcij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(i.e.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ada više ne postoji mogućnost podnošenja žalb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govor u vezi primjenjivog prava EU n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a)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čit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jasan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[acte clair]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b)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eć riješen prijašnjom odlukom Europskog suda za ljudska prava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[acte éclairé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NB: Köb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042-8A39-4D61-B00B-511644FA1A3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Kada je</a:t>
            </a: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i="1" lang="ro-RO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i="1" lang="hr-HR" sz="2800" spc="-1" strike="noStrike">
                <a:solidFill>
                  <a:srgbClr val="ffffcc"/>
                </a:solidFill>
                <a:latin typeface="Arial"/>
              </a:rPr>
              <a:t>guće 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podnijeti zahtjev Europskom sudu za ljudska prava </a:t>
            </a: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 svim predmetima koji se nalaze na nacionalnim sudovima, bez obzira na stupanj jurisdikcije, onda je uključeno pravo E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2F13-1EBC-4296-AC1A-5962C4A8F87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Kada </a:t>
            </a: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ro-RO" sz="2800" spc="-1" strike="noStrike" u="sng">
                <a:solidFill>
                  <a:srgbClr val="ffffcc"/>
                </a:solidFill>
                <a:uFillTx/>
                <a:latin typeface="Arial"/>
              </a:rPr>
              <a:t>e</a:t>
            </a:r>
            <a:r>
              <a:rPr b="1" i="1" lang="hr-HR" sz="2800" spc="-1" strike="noStrike" u="sng">
                <a:solidFill>
                  <a:srgbClr val="ffffcc"/>
                </a:solidFill>
                <a:uFillTx/>
                <a:latin typeface="Arial"/>
              </a:rPr>
              <a:t> preporuča 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 obraćanje Europskom sudu za ljudska prava</a:t>
            </a: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? 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Kada bi se trebao uključiti prvostupanjski sud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je neka pravna stvar EU odlučujuća u sporu i ne postoji zakonita sumnja po tom pitanju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no ‘educated guess’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is possibl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postoji razumljiv vremenski rok čekanja odgovora od strane Europskog suda za ljudska prava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strane inzistiraju na obraćanju Europskom sudu za ljudska prava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se pravna stvar Europske Unije  mora u jednom trenutku riješiti u okviru sporu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ne postoji sličan zahtjev na Europskom sudu za ljudska prava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!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je interno pravo vjerojatno neuskladivo s normama EU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je već utvrđeno činjenično stanje u sporu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– N.B.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željno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5EEF-57DD-4724-92C5-878689C1D21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3.</a:t>
            </a: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Kako sastaviti zahtjev? 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6C67-A372-44FA-A9EF-B259D9B0FA4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Cilj sastavljanja zahtjeva za Europski sud za ljudska prav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pušta državama članicama i europskim institucijama da izvrše svoje pravo dodijeljeno njima člankom 23 u Statutu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– (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a daju primjedbe i intervenirati u postupak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pušta Europskom sudu za ljudska prava da nacionalnom sudu da koristan odgovor za rješenj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-42/07 Liga Portuguesa, paras 40 and 4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5C0-AABC-43D9-A7F8-4D3512A86E5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grešaka koje treba izbjeć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primjećivanje činjenice da je pravo EU primjenjivo, obzirom da bi ga nacionalni sudac trebao primjenjivati po službenoj dužnosti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 off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lanje zahtjeva za preliminarnu odluku onda kada pravo EU nije nadležno za dotični predm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obavješćivanje Europskog suda za ljudska prava onda kada je takvo obavješćivanje potreb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E67-42DE-428E-84F1-9D5F5BB23C0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Pravni izvori koji se odnose na Europski sud za ljudska prav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67 TFEU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Sporazum u funkcioniranju Europske Uni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tatu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 Europskog suda za ljudska prav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Proto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ol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r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3  TFEU)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3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3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ila postupk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J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009 L24, p.8)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103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104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Information Note (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J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009 C297, p.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334-3D96-4A54-9A97-0FDAC27B6A5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Obvezni/bitni element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pisivanje činjeničnog stanj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ključujući pretpostavke i hipotez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cionalni primjenjivi zako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ključujući ciljeve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/preambul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 relevantnog nacionalnog zakonodavstva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elevantne pravne norme U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uključivši veze između istih i činjenica, ondosno interni zako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ajnje pitanje/pita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Model Euroquod -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http://www.euroquod.ro/dokuwiki/doku.ph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-202/11 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C675-1541-4E27-9EB2-48F921F43CE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Opcionalni elemen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rguments of the pa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uggested answer to the questions as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8FE-4B8A-4C44-B037-20B1B00C86B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Drugi primjeri zahtjev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4859280" y="1628640"/>
          <a:ext cx="321012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28640"/>
                    <a:ext cx="321012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4"/>
          <p:cNvGraphicFramePr/>
          <p:nvPr/>
        </p:nvGraphicFramePr>
        <p:xfrm>
          <a:off x="900000" y="1628640"/>
          <a:ext cx="3243240" cy="453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628640"/>
                    <a:ext cx="3243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6E91-EBC4-45AD-BCCE-D48471FBC65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Drugi primjeri zahtjeva</a:t>
            </a:r>
            <a:r>
              <a:rPr b="0" lang="fr-FR" sz="4400" spc="-1" strike="noStrike">
                <a:solidFill>
                  <a:srgbClr val="ffffcc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-5/11 Donner – Bundesgerichtshof (D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-202/11 Las – Arbeidsrechtsbank, Antwerpen (B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AB0-041C-4977-BDBE-B0C335DC02C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Sugesti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je u vezi sastavljanj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tražite od stranaka u sporu da sastave nacrt zahtjeva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redotočite se na osobitosti spora u tijeku i na ono što vam je potrebno da biste ga riješil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majte u vidu jurisdikcijske norme Europskog suda za ljudska prava u toj materij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majte u vidu činjenicu da će zahtjev biti preveden na sve službene jezike EU - 24 jezi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tirajte u potpunosti interno zakonodavstvo i objašnjenja/definirajte moguće iznenađujuće tumačenje nekih pojmova/koristite defini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D97-9F6E-4FD8-A7CF-B2475406CF4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Hitni slučajevi </a:t>
            </a: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4a RP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brzani postupa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04b RP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itni postupak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glavl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reće stra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FE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55(2) RP: priori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P: Pravilnik o procedu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0A0-5C39-4E85-9EB4-5BDAB4F035A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Što se događa nakon zahtjeva Europskom sudu za ljudska prav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toji li pravni lijek protiv pritužbe/dojav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htjevi u vezi dodatnih informacija od Europskog suda za ljudska prava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 (RP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54a, 104(5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prihvatljivost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 (RP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/Pravilnik o proceduri/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9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Jasan odgovor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lanak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04(3) 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-102/10 Be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povezivanja s drugim predmetom ili suspendiranja tijekom očekivanja rješenja slične pritužb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ADA-7D3D-4AE3-9048-67BACDF3FA1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DSCF4418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D6E5-96AF-4D21-8627-70F32904F1F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ag"/>
          <p:cNvPicPr/>
          <p:nvPr/>
        </p:nvPicPr>
        <p:blipFill>
          <a:blip r:embed="rId1"/>
          <a:stretch/>
        </p:blipFill>
        <p:spPr>
          <a:xfrm>
            <a:off x="250920" y="2924280"/>
            <a:ext cx="9144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61A-828D-4B1A-958B-A14043C5FA1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1.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Primjena prava EU na nacionalnim sudovim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79A-B3E6-45C2-97C1-A6C113859C6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Grande Salle"/>
          <p:cNvPicPr/>
          <p:nvPr/>
        </p:nvPicPr>
        <p:blipFill>
          <a:blip r:embed="rId1"/>
          <a:stretch/>
        </p:blipFill>
        <p:spPr>
          <a:xfrm>
            <a:off x="2666880" y="345960"/>
            <a:ext cx="416736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A834-A762-4D18-B3CE-BE828C442C0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57200" y="996840"/>
            <a:ext cx="8229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DC1-A750-4CC8-8AD5-DCC23BA64DB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cc"/>
                </a:solidFill>
                <a:latin typeface="Tahoma"/>
              </a:rPr>
              <a:t>Hva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cc"/>
                </a:solidFill>
                <a:latin typeface="Tahoma"/>
              </a:rPr>
              <a:t>Dank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cc"/>
                </a:solidFill>
                <a:latin typeface="Tahoma"/>
              </a:rPr>
              <a:t>Mulțumes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4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Cristian P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2BE-F07D-4F48-9276-A963399939A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Izvo</a:t>
            </a: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ri prava</a:t>
            </a: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 E</a:t>
            </a: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isani izvori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porazumi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: TEU, TFEU, Euratom, Accession, Association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EDO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moćno zakonodavstvo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vilnici, Direk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luke institucija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Jurispruden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j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(sudska praksa)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Europskog suda za ljudska prava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N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isani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pća nače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tavna praksa i tradicija država član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9675-E9E6-48FA-89B8-AD42B36FA92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Ključni aspekti  prava 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E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posredna primjenjivost najvećeg dijela zakonodavstva E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ravan učinak Direktiva koje su jasne, precizne i bezuvjet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vlast/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Priorit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prava EU u odnosu na nacionalno pra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Jednaka primjenjivost prava na cijelom teritoriju E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ED78-61EA-41D1-858E-4CFE3FBB6CF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Uloga nacionalnog su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jeniti pravo EU u svim slucajevima kada isti predstavlja pravni temelj postupka – ponekad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ex offici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zoriti Europski sud za ljudska prava, onda kada je potrebno, zahtjevom za preliminarnu odlu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57C8-AE38-4B4E-9FF4-48B65F47613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50920" y="189000"/>
            <a:ext cx="8713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Tumačenje internog prava u skladu s pravom E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Obveza je nacionalnog suca da odabere onu metodu tumačenja koja će internog pravo napraviti kompatibilno s pravom EU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ECJ:</a:t>
            </a:r>
            <a:r>
              <a:rPr b="0" i="1" lang="de-DE" sz="2800" spc="-1" strike="noStrike">
                <a:solidFill>
                  <a:srgbClr val="ffffff"/>
                </a:solidFill>
                <a:latin typeface="Tahoma"/>
              </a:rPr>
              <a:t>Pfeiffer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2004),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 to uključu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Obvezu obabira metode koja će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Tahoma"/>
              </a:rPr>
              <a:t> ”…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dopustiti sužavanje primjene interne norme u toj mjeri da je napravi kompatibilnom s normom EU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Tahoma"/>
              </a:rPr>
              <a:t>… ”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feif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r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D9C-6C58-4A3B-9DD0-656E6A78F37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Ograni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enja primjene prava </a:t>
            </a:r>
            <a:r>
              <a:rPr b="0" lang="fr-FR" sz="4000" spc="-1" strike="noStrike" u="sng">
                <a:solidFill>
                  <a:srgbClr val="ffffcc"/>
                </a:solidFill>
                <a:uFillTx/>
                <a:latin typeface="Arial"/>
              </a:rPr>
              <a:t>E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Vremens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Teritorijal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Materijal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-310/10 Agafit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Osob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30F-F11A-4D36-A261-036977D4ADB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50920" y="260280"/>
            <a:ext cx="864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cc"/>
                </a:solidFill>
                <a:latin typeface="Arial"/>
              </a:rPr>
              <a:t>Ob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eza uklanjanja interne norme koja je u sukobu s pravom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9528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melj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Europski sud za ljudska prava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J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immenthal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1978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acionalni je sud obezan dati pot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u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prevlas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pravnim normama EU, pa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k i dobrovoljnim odbijanjem po sl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u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enoj du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sti da u doti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m predmetu primjeni bilo koju internu normu koja  proturije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normi EU, …, i njie potrebno da nacionalni sud zatra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ili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ka ukidanje ili izmjenu takve nacionalne norme ustavnim put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6:21:44Z</dcterms:created>
  <dc:creator>dad</dc:creator>
  <dc:description/>
  <dc:language>en-US</dc:language>
  <cp:lastModifiedBy>Mihail Doran</cp:lastModifiedBy>
  <cp:lastPrinted>2003-03-11T21:46:58Z</cp:lastPrinted>
  <dcterms:modified xsi:type="dcterms:W3CDTF">2016-08-18T11:54:37Z</dcterms:modified>
  <cp:revision>218</cp:revision>
  <dc:subject/>
  <dc:title>Verfahren vor den Gerichten der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