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9925050" cy="6670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2A8C-ED51-4140-A8EB-289E228B0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7676-E3D9-45CC-97AD-638696A1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E721-4EA1-4BA5-9A2E-8CBAE40A2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563F-2174-410F-9C73-324C69C49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C884E-C652-4E05-A426-65C4DDEA5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0940-61D3-4F89-9CB3-1AA22034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56E0-2CEB-4A22-828E-D748CD7C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A3A7D-28B0-4350-9127-C302A828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868BC-DE4B-4DB9-A8E5-0E9C5D6D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D143-B0F7-469B-9992-8168E5FF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FC24-0CCF-4795-9CBE-4F674B95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7327-D4C0-4A4F-897A-27248127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7CDC2-A0A7-4F2F-B03C-DED42906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A7BB-E600-4E29-963A-0FE448FD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59A6-0422-49D2-AF0D-9C140942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25C2-81C9-4398-ACC5-FFD5F669A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63E6A-4672-4FB1-AC57-1D3A0D7A0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5066-B66C-48B0-89D6-16650024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CE1C-9D7F-458B-93BD-AEC37819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A393-EAC6-4A33-AE04-BC7C1765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C86C-6606-441E-AC7B-9E5E825C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3B6D-162D-4B5A-85DC-7F32F559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7C28-3BF0-4DFF-8059-B5033DBA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E242-2CDF-4BB8-8AC5-49549F34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7200"/>
              <a:ext cx="312840" cy="1616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880" y="1881360"/>
              <a:ext cx="74520" cy="7452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9200"/>
              <a:ext cx="104760" cy="1522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42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960"/>
              <a:ext cx="1581120" cy="19980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640"/>
              <a:ext cx="1542960" cy="38880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960"/>
              <a:ext cx="1514520" cy="14256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560"/>
              <a:ext cx="162000" cy="24588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3080"/>
              <a:ext cx="14292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92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6200"/>
              <a:ext cx="104760" cy="1522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700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700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72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8040" y="2814840"/>
              <a:ext cx="274320" cy="4030560"/>
            </a:xfrm>
            <a:prstGeom prst="rect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12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480"/>
              <a:ext cx="400320" cy="250164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5b32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4CF1-FA26-4E67-BC54-AD7369CD1C61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7200"/>
              <a:ext cx="312840" cy="1616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880" y="1881360"/>
              <a:ext cx="74520" cy="7452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9200"/>
              <a:ext cx="104760" cy="1522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42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960"/>
              <a:ext cx="1581120" cy="19980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640"/>
              <a:ext cx="1542960" cy="38880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960"/>
              <a:ext cx="1514520" cy="14256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560"/>
              <a:ext cx="162000" cy="24588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3080"/>
              <a:ext cx="14292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92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6200"/>
              <a:ext cx="104760" cy="1522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700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700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72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8040" y="2814840"/>
              <a:ext cx="274320" cy="4030560"/>
            </a:xfrm>
            <a:prstGeom prst="rect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12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480"/>
              <a:ext cx="400320" cy="250164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5b32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E331-EEFE-4930-A4D9-03D8D365D45A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1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C71A-5110-44C8-AD99-3F001388B788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323640" y="907560"/>
            <a:ext cx="8497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cc"/>
                </a:solidFill>
                <a:latin typeface="Tahoma"/>
              </a:rPr>
              <a:t>Primjena prava EU na nacionalnim sudovim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cc"/>
                </a:solidFill>
                <a:latin typeface="Tahoma"/>
              </a:rPr>
              <a:t>&amp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Tahoma"/>
              </a:rPr>
              <a:t>postupak preliminarne odluke na Europskom sudu za ljudska prav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ts val="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4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istian Pup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suda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Prizivni sud  u Temišvaru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umunjsk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5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7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ED3F-20E1-4A6F-BBE1-C918526C3E7B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judska prava 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…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ma 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nku 51 stavak (1)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arte temeljnih prav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njezine se od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be obra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ju dr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ama 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nicama samo u slu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ju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 kad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ste primjenjuju pravo Unije’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 temelju 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nka 267 TFUE, Sud nije nadle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donijeti odluku u vezi tuma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ja odre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đ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ih me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đ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arodnih pravnih odredbi koje su obvezne za dr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e 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č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ice izvan pravnog okvira Unije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-134/12 </a:t>
            </a: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Nacionalni korpus policajac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4BED-0312-4F9C-A3AA-F0C56D93B9EE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judska prava </a:t>
            </a:r>
            <a:r>
              <a:rPr b="0" lang="fr-FR" sz="4400" spc="-1" strike="noStrike">
                <a:solidFill>
                  <a:srgbClr val="ffffcc"/>
                </a:solidFill>
                <a:latin typeface="Arial"/>
              </a:rPr>
              <a:t>I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-3240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…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sukladno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lanku 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6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vak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 (1) TUE, Un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 priznaje prava, slobode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na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a predvi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đ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a u Karti temeljnih prava Europske Unije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 „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ja ima istu pravnu vrijednost kao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porazumi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”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C‑92/09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check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1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A175-3E43-4C23-9E8B-5C0BABC7C469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3529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fr-FR" sz="4000" spc="-1" strike="noStrike">
                <a:solidFill>
                  <a:srgbClr val="ffffcc"/>
                </a:solidFill>
                <a:latin typeface="Arial"/>
              </a:rPr>
              <a:t>2.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ffffcc"/>
                </a:solidFill>
                <a:latin typeface="Arial"/>
              </a:rPr>
              <a:t>Kada treba donijeti odluku upozorenja Europskog suda za ljudska prava u vezi preliminarne odluk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DDEB-10C9-4447-B583-07D6692E5878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ffffcc"/>
                </a:solidFill>
                <a:latin typeface="Arial"/>
              </a:rPr>
              <a:t>Č</a:t>
            </a:r>
            <a:r>
              <a:rPr b="0" lang="de-DE" sz="4800" spc="-1" strike="noStrike">
                <a:solidFill>
                  <a:srgbClr val="ffffcc"/>
                </a:solidFill>
                <a:latin typeface="Arial"/>
              </a:rPr>
              <a:t>lanak 267 TFEU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i="1" lang="de-DE" sz="1800" spc="-1" strike="noStrike">
                <a:solidFill>
                  <a:srgbClr val="ffffff"/>
                </a:solidFill>
                <a:latin typeface="Tahoma"/>
              </a:rPr>
              <a:t>Europski sud za ljudska  prava nadlez</a:t>
            </a:r>
            <a:r>
              <a:rPr b="0" i="1" lang="hr-HR" sz="18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i="1" lang="de-DE" sz="1800" spc="-1" strike="noStrike">
                <a:solidFill>
                  <a:srgbClr val="ffffff"/>
                </a:solidFill>
                <a:latin typeface="Tahoma"/>
              </a:rPr>
              <a:t>n je za dono</a:t>
            </a:r>
            <a:r>
              <a:rPr b="0" i="1" lang="hr-HR" sz="1800" spc="-1" strike="noStrike">
                <a:solidFill>
                  <a:srgbClr val="ffffff"/>
                </a:solidFill>
                <a:latin typeface="Tahoma"/>
              </a:rPr>
              <a:t>š</a:t>
            </a:r>
            <a:r>
              <a:rPr b="0" i="1" lang="de-DE" sz="1800" spc="-1" strike="noStrike">
                <a:solidFill>
                  <a:srgbClr val="ffffff"/>
                </a:solidFill>
                <a:latin typeface="Tahoma"/>
              </a:rPr>
              <a:t>enje  nekih preliminarnih  odluka u predmetima  koji se odnose na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(a) tuma</a:t>
            </a:r>
            <a:r>
              <a:rPr b="0" i="1" lang="hr-HR" sz="1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enja Sporazuma 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(b) </a:t>
            </a:r>
            <a:r>
              <a:rPr b="0" i="1" lang="ro-RO" sz="1800" spc="-1" strike="noStrike">
                <a:solidFill>
                  <a:srgbClr val="ffffff"/>
                </a:solidFill>
                <a:latin typeface="Tahoma"/>
              </a:rPr>
              <a:t>val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janost  </a:t>
            </a:r>
            <a:r>
              <a:rPr b="0" i="1" lang="hr-HR" sz="18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tuma</a:t>
            </a:r>
            <a:r>
              <a:rPr b="0" i="1" lang="hr-HR" sz="1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enje  dokumenata  koje su izdale institucije, strukture, uredi ili agencije  Unije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hr-HR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u slu</a:t>
            </a:r>
            <a:r>
              <a:rPr b="0" i="1" lang="hr-HR" sz="1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aju  kada se na takvu stvar poziva pred nekim sudom  u nekoj od dr</a:t>
            </a:r>
            <a:r>
              <a:rPr b="0" i="1" lang="hr-HR" sz="18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ava clanica, taj sud moze, ako ocjeni  da  bi </a:t>
            </a:r>
            <a:r>
              <a:rPr b="0" i="1" lang="hr-HR" sz="1800" spc="-1" strike="noStrike">
                <a:solidFill>
                  <a:srgbClr val="ffffff"/>
                </a:solidFill>
                <a:latin typeface="Tahoma"/>
              </a:rPr>
              <a:t>mu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takva  odluka bila potrebna </a:t>
            </a:r>
            <a:r>
              <a:rPr b="0" i="1" lang="hr-HR" sz="18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a dono</a:t>
            </a:r>
            <a:r>
              <a:rPr b="0" i="1" lang="hr-HR" sz="1800" spc="-1" strike="noStrike">
                <a:solidFill>
                  <a:srgbClr val="ffffff"/>
                </a:solidFill>
                <a:latin typeface="Tahoma"/>
              </a:rPr>
              <a:t>š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enje odluke, traziti Europskom sudu  za ljudska  prava da se o</a:t>
            </a:r>
            <a:r>
              <a:rPr b="0" i="1" lang="hr-HR" sz="1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ituje u vezi te stvari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Ukoliko se na takvu stvar poziva  </a:t>
            </a:r>
            <a:r>
              <a:rPr b="0" i="1" lang="hr-HR" sz="1600" spc="-1" strike="noStrike">
                <a:solidFill>
                  <a:srgbClr val="ffffff"/>
                </a:solidFill>
                <a:latin typeface="Tahoma"/>
              </a:rPr>
              <a:t>u postupku koji još traje  na nekom od nacionalnih sudova čije odluke ne podliježu nekom od pravnih lijekova prema internom pravu, taj je sud obvezan upozoriti Europski sud za ljudska prava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hr-HR" sz="1600" spc="-1" strike="noStrike">
                <a:solidFill>
                  <a:srgbClr val="ffffff"/>
                </a:solidFill>
                <a:latin typeface="Tahoma"/>
              </a:rPr>
              <a:t>Ukoliko se na takvu stvar poziva u postupku koji je u tijeku na nekom od nacio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i="1" lang="hr-HR" sz="1600" spc="-1" strike="noStrike">
                <a:solidFill>
                  <a:srgbClr val="ffffff"/>
                </a:solidFill>
                <a:latin typeface="Tahoma"/>
              </a:rPr>
              <a:t>alnih sudova, a odnosi se na osobu koja podliježe mjeri lišenja slobode, Europski sud za ljudska prava odlučuje u najkraćem roku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D2B5-8148-43A3-9A55-244FFF555851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cc"/>
                </a:solidFill>
                <a:latin typeface="Arial"/>
              </a:rPr>
              <a:t>Pravosudna arhitektura EU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Svaki je nacionalni sud, sud E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Načelo nacionalne postupovne autonomije obuhvaća načelo jednakosti i djelotvorno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Svaki je nacionalni sud čuvar pravosuđa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E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73C4-EBA2-4BA3-825D-BFA4FB268FE6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Arial"/>
              </a:rPr>
              <a:t>Kada je</a:t>
            </a:r>
            <a:r>
              <a:rPr b="1" lang="hr-HR" sz="2800" spc="-1" strike="noStrike">
                <a:solidFill>
                  <a:srgbClr val="ffffcc"/>
                </a:solidFill>
                <a:latin typeface="Arial"/>
              </a:rPr>
              <a:t> obvezno</a:t>
            </a:r>
            <a:r>
              <a:rPr b="0" lang="hr-HR" sz="2800" spc="-1" strike="noStrike">
                <a:solidFill>
                  <a:srgbClr val="ffffcc"/>
                </a:solidFill>
                <a:latin typeface="Arial"/>
              </a:rPr>
              <a:t> podnošenje zahtjeva za preliminarnu odluku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Onda kada je valjanost prava Unije upitna 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(i.e.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kada mislite da nije valjana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Onda kada jedan nacionalni sud odlučuje na zadnjem stupnju jurisdikcije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(i.e.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kada više ne postoji mogućnost podnošenja žalbe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Odgovor u vezi primjenjivog prava EU nij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(a)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očit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jasan 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[acte clair]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il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(b)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već riješen prijašnjom odlukom Europskog suda za ljudska prava 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[acte éclairé]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NB: Köbl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3D8D-CBEA-4753-833E-16E1F3F01269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Arial"/>
              </a:rPr>
              <a:t>Kada je</a:t>
            </a:r>
            <a:r>
              <a:rPr b="0" lang="ro-RO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hr-HR" sz="2800" spc="-1" strike="noStrike">
                <a:solidFill>
                  <a:srgbClr val="ffffcc"/>
                </a:solidFill>
                <a:latin typeface="Arial"/>
              </a:rPr>
              <a:t>m</a:t>
            </a:r>
            <a:r>
              <a:rPr b="1" i="1" lang="ro-RO" sz="2800" spc="-1" strike="noStrike">
                <a:solidFill>
                  <a:srgbClr val="ffffcc"/>
                </a:solidFill>
                <a:latin typeface="Arial"/>
              </a:rPr>
              <a:t>o</a:t>
            </a:r>
            <a:r>
              <a:rPr b="1" i="1" lang="hr-HR" sz="2800" spc="-1" strike="noStrike">
                <a:solidFill>
                  <a:srgbClr val="ffffcc"/>
                </a:solidFill>
                <a:latin typeface="Arial"/>
              </a:rPr>
              <a:t>guće </a:t>
            </a:r>
            <a:r>
              <a:rPr b="0" lang="hr-HR" sz="2800" spc="-1" strike="noStrike">
                <a:solidFill>
                  <a:srgbClr val="ffffcc"/>
                </a:solidFill>
                <a:latin typeface="Arial"/>
              </a:rPr>
              <a:t>podnijeti zahtjev Europskom sudu za ljudska prava </a:t>
            </a:r>
            <a:r>
              <a:rPr b="0" lang="fr-FR" sz="2800" spc="-1" strike="noStrike">
                <a:solidFill>
                  <a:srgbClr val="ffffcc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U svim predmetima koji se nalaze na nacionalnim sudovima, bez obzira na stupanj jurisdikcije, onda je uključeno pravo E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57E7-0FFB-4F24-B711-DBABA69E5F2F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Arial"/>
              </a:rPr>
              <a:t>Kada </a:t>
            </a:r>
            <a:r>
              <a:rPr b="0" lang="ro-RO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ffffcc"/>
                </a:solidFill>
                <a:latin typeface="Arial"/>
              </a:rPr>
              <a:t>s</a:t>
            </a:r>
            <a:r>
              <a:rPr b="1" i="1" lang="ro-RO" sz="2800" spc="-1" strike="noStrike" u="sng">
                <a:solidFill>
                  <a:srgbClr val="ffffcc"/>
                </a:solidFill>
                <a:uFillTx/>
                <a:latin typeface="Arial"/>
              </a:rPr>
              <a:t>e</a:t>
            </a:r>
            <a:r>
              <a:rPr b="1" i="1" lang="hr-HR" sz="2800" spc="-1" strike="noStrike" u="sng">
                <a:solidFill>
                  <a:srgbClr val="ffffcc"/>
                </a:solidFill>
                <a:uFillTx/>
                <a:latin typeface="Arial"/>
              </a:rPr>
              <a:t> preporuča </a:t>
            </a:r>
            <a:r>
              <a:rPr b="0" lang="hr-HR" sz="2800" spc="-1" strike="noStrike">
                <a:solidFill>
                  <a:srgbClr val="ffffcc"/>
                </a:solidFill>
                <a:latin typeface="Arial"/>
              </a:rPr>
              <a:t> obraćanje Europskom sudu za ljudska prava</a:t>
            </a:r>
            <a:r>
              <a:rPr b="0" lang="fr-FR" sz="2800" spc="-1" strike="noStrike">
                <a:solidFill>
                  <a:srgbClr val="ffffcc"/>
                </a:solidFill>
                <a:latin typeface="Arial"/>
              </a:rPr>
              <a:t>? </a:t>
            </a:r>
            <a:r>
              <a:rPr b="0" lang="fr-FR" sz="20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0" lang="hr-HR" sz="2000" spc="-1" strike="noStrike">
                <a:solidFill>
                  <a:srgbClr val="ffffcc"/>
                </a:solidFill>
                <a:latin typeface="Arial"/>
              </a:rPr>
              <a:t>Kada bi se trebao uključiti prvostupanjski sud</a:t>
            </a:r>
            <a:r>
              <a:rPr b="0" lang="fr-FR" sz="2000" spc="-1" strike="noStrike">
                <a:solidFill>
                  <a:srgbClr val="ffffcc"/>
                </a:solidFill>
                <a:latin typeface="Arial"/>
              </a:rPr>
              <a:t>?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Onda kada je neka pravna stvar EU odlučujuća u sporu i ne postoji zakonita sumnja po tom pitanju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fr-FR" sz="2000" spc="-1" strike="noStrike" u="sng">
                <a:solidFill>
                  <a:srgbClr val="ffffff"/>
                </a:solidFill>
                <a:uFillTx/>
                <a:latin typeface="Tahoma"/>
              </a:rPr>
              <a:t>no ‘educated guess’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is possible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Onda kada postoji razumljiv vremenski rok čekanja odgovora od strane Europskog suda za ljudska prava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Onda kada strane inzistiraju na obraćanju Europskom sudu za ljudska prava 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!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?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Onda kada se pravna stvar Europske Unije  mora u jednom trenutku riješiti u okviru sporu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Onda kada ne postoji sličan zahtjev na Europskom sudu za ljudska prava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(!?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Onda kada je interno pravo vjerojatno neuskladivo s normama EU 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(?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Onda kada je već utvrđeno činjenično stanje u sporu 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 – N.B.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poželjno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41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23BF-F170-4D2C-9871-C6378F352A38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2884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cc"/>
                </a:solidFill>
                <a:latin typeface="Arial"/>
              </a:rPr>
              <a:t>3.</a:t>
            </a:r>
            <a:br>
              <a:rPr sz="4000"/>
            </a:br>
            <a:br>
              <a:rPr sz="4000"/>
            </a:br>
            <a:r>
              <a:rPr b="0" lang="hr-HR" sz="4000" spc="-1" strike="noStrike">
                <a:solidFill>
                  <a:srgbClr val="ffffcc"/>
                </a:solidFill>
                <a:latin typeface="Arial"/>
              </a:rPr>
              <a:t>Kako sastaviti zahtjev? </a:t>
            </a:r>
            <a:r>
              <a:rPr b="0" lang="ro-RO" sz="4000" spc="-1" strike="noStrike">
                <a:solidFill>
                  <a:srgbClr val="ffffcc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4AE2-00C1-4A56-8837-FF66A9026984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cc"/>
                </a:solidFill>
                <a:latin typeface="Arial"/>
              </a:rPr>
              <a:t>Cilj sastavljanja zahtjeva za Europski sud za ljudska prava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Dopušta državama članicama i europskim institucijama da izvrše svoje pravo dodijeljeno njima člankom 23 u Statutu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– (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da daju primjedbe i intervenirati u postupak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Dopušta Europskom sudu za ljudska prava da nacionalnom sudu da koristan odgovor za rješenje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C-42/07 Liga Portuguesa, paras 40 and 4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88CB-9EF7-46AD-9902-450CBCD17B1E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3 </a:t>
            </a:r>
            <a:r>
              <a:rPr b="0" lang="hr-HR" sz="4000" spc="-1" strike="noStrike">
                <a:solidFill>
                  <a:srgbClr val="ffffcc"/>
                </a:solidFill>
                <a:latin typeface="Arial"/>
              </a:rPr>
              <a:t>grešaka koje treba izbjeći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eprimjećivanje činjenice da je pravo EU primjenjivo, obzirom da bi ga nacionalni sudac trebao primjenjivati po službenoj dužnosti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ex offi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Slanje zahtjeva za preliminarnu odluku onda kada pravo EU nije nadležno za dotični predme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Neobavješćivanje Europskog suda za ljudska prava onda kada je takvo obavješćivanje potrebn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AA05-5951-45DF-A2E0-599A7704B315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cc"/>
                </a:solidFill>
                <a:latin typeface="Arial"/>
              </a:rPr>
              <a:t>Pravni izvori koji se odnose na Europski sud za ljudska prava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Članak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267 TFEU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(Sporazum u funkcioniranju Europske Unij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Statu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t Europskog suda za ljudska prav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(Proto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ol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br.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3  TFEU):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Članak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23 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23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ravila postupk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JO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2009 L24, p.8):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Članak 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103 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104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Information Note (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JO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2009 C297, p.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B81D-D9A4-4B83-A384-A2F43EFDE7DF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cc"/>
                </a:solidFill>
                <a:latin typeface="Arial"/>
              </a:rPr>
              <a:t>Obvezni/bitni elementi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Opisivanje činjeničnog stanja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uključujući pretpostavke i hipoteze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Nacionalni primjenjivi zakon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uključujući ciljeve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/preambul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a relevantnog nacionalnog zakonodavstva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Relevantne pravne norme UE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 uključivši veze između istih i činjenica, ondosno interni zakon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Krajnje pitanje/pitanj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Model Euroquod -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http://www.euroquod.ro/dokuwiki/doku.ph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C-202/11 L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C45A-5951-4CF0-8D62-5D64A2D6FF4F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cc"/>
                </a:solidFill>
                <a:latin typeface="Arial"/>
              </a:rPr>
              <a:t>Opcionalni element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Arguments of the par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Suggested answer to the questions ask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6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B334-BF16-4D16-8DEE-F421D5BF38D2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cc"/>
                </a:solidFill>
                <a:latin typeface="Arial"/>
              </a:rPr>
              <a:t>Drugi primjeri zahtjev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17" name="Object 3"/>
          <p:cNvGraphicFramePr/>
          <p:nvPr/>
        </p:nvGraphicFramePr>
        <p:xfrm>
          <a:off x="4859280" y="1628640"/>
          <a:ext cx="3210120" cy="453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1628640"/>
                    <a:ext cx="3210120" cy="453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4"/>
          <p:cNvGraphicFramePr/>
          <p:nvPr/>
        </p:nvGraphicFramePr>
        <p:xfrm>
          <a:off x="900000" y="1628640"/>
          <a:ext cx="3243240" cy="453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1628640"/>
                    <a:ext cx="3243240" cy="453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A5BD-10AA-4D70-AEDA-1BF25F64CA78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cc"/>
                </a:solidFill>
                <a:latin typeface="Arial"/>
              </a:rPr>
              <a:t>Drugi primjeri zahtjeva</a:t>
            </a:r>
            <a:r>
              <a:rPr b="0" lang="fr-FR" sz="4400" spc="-1" strike="noStrike">
                <a:solidFill>
                  <a:srgbClr val="ffffcc"/>
                </a:solidFill>
                <a:latin typeface="Arial"/>
              </a:rPr>
              <a:t> I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C-5/11 Donner – Bundesgerichtshof (D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C-202/11 Las – Arbeidsrechtsbank, Antwerpen (B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3865-8B86-4834-9E38-305B888DE35F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cc"/>
                </a:solidFill>
                <a:latin typeface="Arial"/>
              </a:rPr>
              <a:t>Sugesti</a:t>
            </a:r>
            <a:r>
              <a:rPr b="0" lang="hr-HR" sz="4000" spc="-1" strike="noStrike">
                <a:solidFill>
                  <a:srgbClr val="ffffcc"/>
                </a:solidFill>
                <a:latin typeface="Arial"/>
              </a:rPr>
              <a:t>je u vezi sastavljanja</a:t>
            </a:r>
            <a:r>
              <a:rPr b="0" lang="ro-RO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Zatražite od stranaka u sporu da sastave nacrt zahtjeva 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(?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Usredotočite se na osobitosti spora u tijeku i na ono što vam je potrebno da biste ga riješil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Imajte u vidu jurisdikcijske norme Europskog suda za ljudska prava u toj materij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Imajte u vidu činjenicu da će zahtjev biti preveden na sve službene jezike EU - 24 jezik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Citirajte u potpunosti interno zakonodavstvo i objašnjenja/definirajte moguće iznenađujuće tumačenje nekih pojmova/koristite definicij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FE0B-CF47-4C6D-A489-7A59EAF9A7B6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cc"/>
                </a:solidFill>
                <a:latin typeface="Arial"/>
              </a:rPr>
              <a:t>Hitni slučajevi </a:t>
            </a:r>
            <a:r>
              <a:rPr b="0" lang="ro-RO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Članak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04a RP: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ubrzani postupa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Člana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104b RP: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hitni postupak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oglavlj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V 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Treće stran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FEU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Članak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55(2) RP: priori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RP: Pravilnik o procedu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8CA9-2A9A-4FEB-9320-0A941046DE6C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cc"/>
                </a:solidFill>
                <a:latin typeface="Arial"/>
              </a:rPr>
              <a:t>Što se događa nakon zahtjeva Europskom sudu za ljudska prava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ostoji li pravni lijek protiv pritužbe/dojave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Zahtjevi u vezi dodatnih informacija od Europskog suda za ljudska prava 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? (RP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članak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54a, 104(5)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Neprihvatljivost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? (RP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/Pravilnik o proceduri/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Članak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92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Jasan odgovor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?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Članak 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104(3) R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C-102/10 Bej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Mogućnost povezivanja s drugim predmetom ili suspendiranja tijekom očekivanja rješenja slične pritužb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3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E19E-7ED2-4150-9C12-C721070F1998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2" descr="DSCF4418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482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3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0C36-D636-4E15-8A50-9893D318178D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2" descr="ag"/>
          <p:cNvPicPr/>
          <p:nvPr/>
        </p:nvPicPr>
        <p:blipFill>
          <a:blip r:embed="rId1"/>
          <a:stretch/>
        </p:blipFill>
        <p:spPr>
          <a:xfrm>
            <a:off x="250920" y="2924280"/>
            <a:ext cx="9144000" cy="26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1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C3FB-8768-43A4-BBB2-8B981B9DE8B2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2740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cc"/>
                </a:solidFill>
                <a:latin typeface="Arial"/>
              </a:rPr>
              <a:t>1.</a:t>
            </a:r>
            <a:br>
              <a:rPr sz="3600"/>
            </a:br>
            <a:br>
              <a:rPr sz="3600"/>
            </a:br>
            <a:r>
              <a:rPr b="0" lang="hr-HR" sz="3600" spc="-1" strike="noStrike">
                <a:solidFill>
                  <a:srgbClr val="ffffcc"/>
                </a:solidFill>
                <a:latin typeface="Arial"/>
              </a:rPr>
              <a:t>Primjena prava EU na nacionalnim sudovima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4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C323-C835-4063-B618-B1FEA4891682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2" descr="Grande Salle"/>
          <p:cNvPicPr/>
          <p:nvPr/>
        </p:nvPicPr>
        <p:blipFill>
          <a:blip r:embed="rId1"/>
          <a:stretch/>
        </p:blipFill>
        <p:spPr>
          <a:xfrm>
            <a:off x="2666880" y="345960"/>
            <a:ext cx="4167360" cy="625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4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F918-3DDD-4AD2-BB12-5E19EEA9F6FA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457200" y="996840"/>
            <a:ext cx="82296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41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8389-71F9-4135-B502-335DAA280586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323640" y="907560"/>
            <a:ext cx="8497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600" spc="-1" strike="noStrike">
                <a:solidFill>
                  <a:srgbClr val="ffffcc"/>
                </a:solidFill>
                <a:latin typeface="Tahoma"/>
              </a:rPr>
              <a:t>Hval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600" spc="-1" strike="noStrike">
                <a:solidFill>
                  <a:srgbClr val="ffffcc"/>
                </a:solidFill>
                <a:latin typeface="Tahoma"/>
              </a:rPr>
              <a:t>Dank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600" spc="-1" strike="noStrike">
                <a:solidFill>
                  <a:srgbClr val="ffffcc"/>
                </a:solidFill>
                <a:latin typeface="Tahoma"/>
              </a:rPr>
              <a:t>Mulțumesc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ts val="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4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ahoma"/>
              </a:rPr>
              <a:t>Cristian Pu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862F-7D99-486F-9845-479C80A02989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cc"/>
                </a:solidFill>
                <a:latin typeface="Arial"/>
              </a:rPr>
              <a:t>Izvo</a:t>
            </a:r>
            <a:r>
              <a:rPr b="0" lang="hr-HR" sz="4400" spc="-1" strike="noStrike">
                <a:solidFill>
                  <a:srgbClr val="ffffcc"/>
                </a:solidFill>
                <a:latin typeface="Arial"/>
              </a:rPr>
              <a:t>ri prava</a:t>
            </a:r>
            <a:r>
              <a:rPr b="0" lang="ro-RO" sz="4400" spc="-1" strike="noStrike">
                <a:solidFill>
                  <a:srgbClr val="ffffcc"/>
                </a:solidFill>
                <a:latin typeface="Arial"/>
              </a:rPr>
              <a:t> E</a:t>
            </a:r>
            <a:r>
              <a:rPr b="0" lang="hr-HR" sz="4400" spc="-1" strike="noStrike">
                <a:solidFill>
                  <a:srgbClr val="ffffcc"/>
                </a:solidFill>
                <a:latin typeface="Arial"/>
              </a:rPr>
              <a:t>U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Pisani izvori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Sporazumi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: TEU, TFEU, Euratom, Accession, Association,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CEDO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,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omoćno zakonodavstvo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ravilnici, Direktiv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Odluke institucija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Jurispruden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cije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(sudska praksa)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Europskog suda za ljudska prava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Ne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pisani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Opća načel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Ustavna praksa i tradicija država članic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488D-F8AF-42A2-8C28-6191D5CC75F1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cc"/>
                </a:solidFill>
                <a:latin typeface="Arial"/>
              </a:rPr>
              <a:t>Ključni aspekti  prava </a:t>
            </a:r>
            <a:r>
              <a:rPr b="0" lang="ro-RO" sz="4000" spc="-1" strike="noStrike">
                <a:solidFill>
                  <a:srgbClr val="ffffcc"/>
                </a:solidFill>
                <a:latin typeface="Arial"/>
              </a:rPr>
              <a:t> E</a:t>
            </a:r>
            <a:r>
              <a:rPr b="0" lang="hr-HR" sz="4000" spc="-1" strike="noStrike">
                <a:solidFill>
                  <a:srgbClr val="ffffcc"/>
                </a:solidFill>
                <a:latin typeface="Arial"/>
              </a:rPr>
              <a:t>U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neposredna primjenjivost najvećeg dijela zakonodavstva E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izravan učinak Direktiva koje su jasne, precizne i bezuvjetn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revlast/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Priorit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prava EU u odnosu na nacionalno pra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Jednaka primjenjivost prava na cijelom teritoriju E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7584-751C-4A8C-9719-14792E155C31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cc"/>
                </a:solidFill>
                <a:latin typeface="Arial"/>
              </a:rPr>
              <a:t>Uloga nacionalnog suc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mjeniti pravo EU u svim slucajevima kada isti predstavlja pravni temelj postupka – ponekad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k </a:t>
            </a:r>
            <a:r>
              <a:rPr b="1" lang="fr-FR" sz="3200" spc="-1" strike="noStrike" u="sng">
                <a:solidFill>
                  <a:srgbClr val="ffffff"/>
                </a:solidFill>
                <a:uFillTx/>
                <a:latin typeface="Tahoma"/>
              </a:rPr>
              <a:t>ex officio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!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pozoriti Europski sud za ljudska prava, onda kada je potrebno, zahtjevom za preliminarnu odluk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C8CB-6CC0-4FA3-9E6E-1DDAABBF4539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250920" y="189000"/>
            <a:ext cx="87138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cc"/>
                </a:solidFill>
                <a:latin typeface="Arial"/>
              </a:rPr>
              <a:t>Tumačenje internog prava u skladu s pravom EU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0920" y="1413000"/>
            <a:ext cx="86421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ffffff"/>
                </a:solidFill>
                <a:uFillTx/>
                <a:latin typeface="Tahoma"/>
              </a:rPr>
              <a:t>Obveza je nacionalnog suca da odabere onu metodu tumačenja koja će internog pravo napraviti kompatibilno s pravom EU</a:t>
            </a:r>
            <a:r>
              <a:rPr b="0" lang="ro-RO" sz="2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(ECJ:</a:t>
            </a:r>
            <a:r>
              <a:rPr b="0" i="1" lang="de-DE" sz="2800" spc="-1" strike="noStrike">
                <a:solidFill>
                  <a:srgbClr val="ffffff"/>
                </a:solidFill>
                <a:latin typeface="Tahoma"/>
              </a:rPr>
              <a:t>Pfeiffer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 2004), 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a to uključuje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ffffff"/>
                </a:solidFill>
                <a:uFillTx/>
                <a:latin typeface="Tahoma"/>
              </a:rPr>
              <a:t>Obvezu obabira metode koja će</a:t>
            </a:r>
            <a:r>
              <a:rPr b="0" lang="ro-RO" sz="2800" spc="-1" strike="noStrike" u="sng">
                <a:solidFill>
                  <a:srgbClr val="ffffff"/>
                </a:solidFill>
                <a:uFillTx/>
                <a:latin typeface="Tahoma"/>
              </a:rPr>
              <a:t> ”…</a:t>
            </a:r>
            <a:r>
              <a:rPr b="0" lang="hr-HR" sz="2800" spc="-1" strike="noStrike" u="sng">
                <a:solidFill>
                  <a:srgbClr val="ffffff"/>
                </a:solidFill>
                <a:uFillTx/>
                <a:latin typeface="Tahoma"/>
              </a:rPr>
              <a:t>dopustiti sužavanje primjene interne norme u toj mjeri da je napravi kompatibilnom s normom EU </a:t>
            </a:r>
            <a:r>
              <a:rPr b="0" lang="ro-RO" sz="2800" spc="-1" strike="noStrike" u="sng">
                <a:solidFill>
                  <a:srgbClr val="ffffff"/>
                </a:solidFill>
                <a:uFillTx/>
                <a:latin typeface="Tahoma"/>
              </a:rPr>
              <a:t>… ”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feiff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p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ar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11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D017-53F0-4144-A47B-579CD22902DE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cc"/>
                </a:solidFill>
                <a:latin typeface="Arial"/>
              </a:rPr>
              <a:t>Ograni</a:t>
            </a:r>
            <a:r>
              <a:rPr b="0" lang="hr-HR" sz="4000" spc="-1" strike="noStrike">
                <a:solidFill>
                  <a:srgbClr val="ffffcc"/>
                </a:solidFill>
                <a:latin typeface="Arial"/>
              </a:rPr>
              <a:t>č</a:t>
            </a:r>
            <a:r>
              <a:rPr b="0" lang="fr-FR" sz="4000" spc="-1" strike="noStrike">
                <a:solidFill>
                  <a:srgbClr val="ffffcc"/>
                </a:solidFill>
                <a:latin typeface="Arial"/>
              </a:rPr>
              <a:t>enja primjene prava </a:t>
            </a:r>
            <a:r>
              <a:rPr b="0" lang="fr-FR" sz="4000" spc="-1" strike="noStrike" u="sng">
                <a:solidFill>
                  <a:srgbClr val="ffffcc"/>
                </a:solidFill>
                <a:uFillTx/>
                <a:latin typeface="Arial"/>
              </a:rPr>
              <a:t>EU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ahoma"/>
              </a:rPr>
              <a:t>Vremensk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ahoma"/>
              </a:rPr>
              <a:t>Teritorijaln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ahoma"/>
              </a:rPr>
              <a:t>Materijaln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C-310/10 Agafite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ahoma"/>
              </a:rPr>
              <a:t>Osobn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3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D168-AC4C-4A80-A5FB-2F5B8F8A6846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250920" y="260280"/>
            <a:ext cx="86421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cc"/>
                </a:solidFill>
                <a:latin typeface="Arial"/>
              </a:rPr>
              <a:t>Ob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veza uklanjanja interne norme koja je u sukobu s pravom E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95280" y="1700280"/>
            <a:ext cx="84247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Temeljn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Europski sud za ljudska prava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CJ)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immenthal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(1978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Nacionalni je sud obezan dati pot</a:t>
            </a:r>
            <a:r>
              <a:rPr b="0" i="1" lang="hr-HR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unu </a:t>
            </a:r>
            <a:r>
              <a:rPr b="0" i="1" lang="hr-HR" sz="2800" spc="-1" strike="noStrike">
                <a:solidFill>
                  <a:srgbClr val="ffffff"/>
                </a:solidFill>
                <a:latin typeface="Tahoma"/>
              </a:rPr>
              <a:t>prevlast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pravnim normama EU, pa </a:t>
            </a:r>
            <a:r>
              <a:rPr b="0" i="1" lang="hr-HR" sz="2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ak i dobrovoljnim odbijanjem po sl</a:t>
            </a:r>
            <a:r>
              <a:rPr b="0" i="1" lang="hr-HR" sz="2800" spc="-1" strike="noStrike">
                <a:solidFill>
                  <a:srgbClr val="ffffff"/>
                </a:solidFill>
                <a:latin typeface="Tahoma"/>
              </a:rPr>
              <a:t>už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benoj du</a:t>
            </a:r>
            <a:r>
              <a:rPr b="0" i="1" lang="hr-HR" sz="28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nosti da u doti</a:t>
            </a:r>
            <a:r>
              <a:rPr b="0" i="1" lang="hr-HR" sz="2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nom predmetu primjeni bilo koju internu normu koja  proturije</a:t>
            </a:r>
            <a:r>
              <a:rPr b="0" i="1" lang="hr-HR" sz="2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i normi EU, …, i njie potrebno da nacionalni sud zatra</a:t>
            </a:r>
            <a:r>
              <a:rPr b="0" i="1" lang="hr-HR" sz="28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i ili </a:t>
            </a:r>
            <a:r>
              <a:rPr b="0" i="1" lang="hr-HR" sz="28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eka ukidanje ili izmjenu takve nacionalne norme ustavnim putem.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16:21:44Z</dcterms:created>
  <dc:creator>dad</dc:creator>
  <dc:description/>
  <dc:language>en-US</dc:language>
  <cp:lastModifiedBy>Mihail Doran</cp:lastModifiedBy>
  <cp:lastPrinted>2003-03-11T21:46:58Z</cp:lastPrinted>
  <dcterms:modified xsi:type="dcterms:W3CDTF">2016-08-18T11:54:37Z</dcterms:modified>
  <cp:revision>218</cp:revision>
  <dc:subject/>
  <dc:title>Verfahren vor den Gerichten der E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5050</vt:lpwstr>
  </property>
</Properties>
</file>