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57B27-414F-436E-95A9-0C530E8D7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E5AE-83A2-4CF2-9320-26E4E2A36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6C109-090A-4A96-A2B0-99548BDAD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BA003-CC01-4848-A163-D200A736B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A8C72-2A37-42B6-B283-5D7917891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177B5-BB31-4E64-9386-D51F0BE21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B2C3E-6093-4118-A00B-5D79946E5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A17A6-EF52-4993-B979-F0C0C49CE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28510-40E1-4684-9D6B-57D097770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18FCA-8565-40EC-A256-70D047D14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457E-247E-41C0-A99C-37B9B242D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FF91-4934-42E0-A272-30FD6011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65D29-506B-4ED9-A1E4-BC35A450C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A0396-B461-43D1-B766-A03986C0F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58BCA-A591-4E2E-AF9E-2AE937642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9CE88-1B1B-4F44-8ED9-289FCF63C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F2401-BA71-4E88-A924-9EA49D2A9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788DD-25DA-41A1-A1AA-F15C5BCC1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4BA5E-E6B6-412D-A114-5434DDFB7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01AB-AD15-4939-8C77-69F38F457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1E3A-2B0C-4889-A1CD-0C02FDFA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7ABAC-D7A6-4FA1-A952-90D18D7A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3922-4057-42BE-B4BE-AD248791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A85BB-D8EE-44A6-9FF4-268996305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9699-E76D-41C6-9AAC-CC110B1BE0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151D-495E-4C27-97FE-6DD20ED6912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lex.europa.eu/legal-content/RO/AUTO/?uri=celex:32004L0038"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who.int/en/"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europarl.europa.eu/sides/getDoc.do?pubRef=-//EP//TEXT+REPORT+A6-2009-0186+0+DOC+XML+V0//RO#_part1_def12"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ur-lex.europa.eu/legal-content/DE/AUTO/?uri=celex:32014L0054" TargetMode="External"/><Relationship Id="rId2" Type="http://schemas.openxmlformats.org/officeDocument/2006/relationships/hyperlink" Target="http://eur-lex.europa.eu/legal-content/DE/AUTO/?uri=uriserv:OJ.L_.2014.128.01.0008.01.DEU" TargetMode="External"/><Relationship Id="rId3" Type="http://schemas.openxmlformats.org/officeDocument/2006/relationships/hyperlink" Target="http://eur-lex.europa.eu/legal-content/DE/AUTO/?uri=celex:52009DC0313" TargetMode="External"/><Relationship Id="rId4" Type="http://schemas.openxmlformats.org/officeDocument/2006/relationships/hyperlink" Target="http://eur-lex.europa.eu/legal-content/DE/AUTO/?uri=celex:52013DC0837" TargetMode="External"/><Relationship Id="rId5" Type="http://schemas.openxmlformats.org/officeDocument/2006/relationships/hyperlink" Target="http://eur-lex.europa.eu/legal-content/DE/AUTO/?uri=celex:52014DC0604"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81532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ffffcc"/>
                </a:solidFill>
                <a:latin typeface="Tahoma"/>
              </a:rPr>
              <a:t>Freiz</a:t>
            </a:r>
            <a:r>
              <a:rPr b="1" lang="de-DE" sz="4800" spc="-1" strike="noStrike">
                <a:solidFill>
                  <a:srgbClr val="ffffcc"/>
                </a:solidFill>
                <a:latin typeface="Tahoma"/>
              </a:rPr>
              <a:t>ügigkeit und Aufenthaltsrecht </a:t>
            </a:r>
            <a:br>
              <a:rPr sz="4800"/>
            </a:br>
            <a:r>
              <a:rPr b="1" lang="de-DE" sz="4800" spc="-1" strike="noStrike">
                <a:solidFill>
                  <a:srgbClr val="ffffcc"/>
                </a:solidFill>
                <a:latin typeface="Tahoma"/>
              </a:rPr>
              <a:t>in der EU</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ürger der Europäischen Union haben das Recht, sich vorbehaltlich der in den Verträgen der EU vorgesehenen Bedingungen frei zu bewegen und in einem anderen EU-Land zu leben. Diese Freizügigkeit von Personen stellt eine der Grundfreiheiten der EU dar.</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stian Pup</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echt auf Ausreise und Einreise</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AUSREISE</a:t>
            </a:r>
            <a:r>
              <a:rPr b="0" lang="ro-RO" sz="1400" spc="-1" strike="noStrike">
                <a:solidFill>
                  <a:srgbClr val="ffffff"/>
                </a:solidFill>
                <a:latin typeface="Tahoma"/>
              </a:rPr>
              <a:t>:</a:t>
            </a:r>
            <a:r>
              <a:rPr b="0" lang="de-DE" sz="1400" spc="-1" strike="noStrike">
                <a:solidFill>
                  <a:srgbClr val="ffffff"/>
                </a:solidFill>
                <a:latin typeface="Tahoma"/>
              </a:rPr>
              <a:t> alle Unionsbürger, die einen gültigen Personalausweis oder Reisepass mit sich führen, und ihre Familienangehörigen, die nicht die Staatsangehörigkeit eines Mitgliedstaats besitzen und die einen gültigen Reisepass mit sich führen, das Recht, das Hoheitsgebiet eines Mitgliedstaats zu verlassen und sich in einen anderen Mitgliedstaat zu begeben. (2) Für die Ausreise von Personen gemäß Absatz 1 darf weder ein Visum noch eine gleichartige Formalität verlangt werden</a:t>
            </a:r>
            <a:r>
              <a:rPr b="0" lang="ro-RO" sz="1400" spc="-1" strike="noStrike">
                <a:solidFill>
                  <a:srgbClr val="ffffff"/>
                </a:solidFill>
                <a:latin typeface="Tahoma"/>
              </a:rPr>
              <a: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REISE</a:t>
            </a:r>
            <a:r>
              <a:rPr b="0" lang="ro-RO" sz="1400" spc="-1" strike="noStrike">
                <a:solidFill>
                  <a:srgbClr val="ffffff"/>
                </a:solidFill>
                <a:latin typeface="Tahoma"/>
              </a:rPr>
              <a:t>:</a:t>
            </a:r>
            <a:r>
              <a:rPr b="0" lang="de-DE" sz="1400" spc="-1" strike="noStrike">
                <a:solidFill>
                  <a:srgbClr val="ffffff"/>
                </a:solidFill>
                <a:latin typeface="Tahoma"/>
              </a:rPr>
              <a:t> die Mitgliedstaaten gestatten Unionsbürgern, die einen gültigen Personalausweis oder Reisepass mit sich führen, und ihren Familienangehörigen, die nicht die Staatsangehörigkeit eines Mitgliedstaats besitzen und die einen gültigen Reisepass mit sich führen, die Einreise.</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Von den Unionsbürgern darf weder ein Ausreisevisum noch eine gleichartige Formalität verlangt werden</a:t>
            </a:r>
            <a:r>
              <a:rPr b="0" lang="ro-RO" sz="1400" spc="-1" strike="noStrike">
                <a:solidFill>
                  <a:srgbClr val="ffffff"/>
                </a:solidFill>
                <a:latin typeface="Tahoma"/>
              </a:rPr>
              <a: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Von Familienangehörigen, die nicht die Staatsangehörigkeit eines Mitgliedstaats besitzen, ist gemäß der Verordnung (EG) Nr. 539/2001 oder gegebenenfalls den einzelstaatlichen Rechtsvorschriften lediglich ein Einreisevisum zu fordern. Für die Zwecke dieser Richtlinie entbindet der Besitz einer gültigen Aufenthaltskarte gemäß Artikel 10 diese Familienangehörigen von der Visumspflicht</a:t>
            </a:r>
            <a:r>
              <a:rPr b="0" lang="ro-RO" sz="1400" spc="-1" strike="noStrike">
                <a:solidFill>
                  <a:srgbClr val="ffffff"/>
                </a:solidFill>
                <a:latin typeface="Tahoma"/>
              </a:rPr>
              <a: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Die Mitgliedstaaten treffen alle erforderlichen Maßnahmen, um diesen Personen die Beschaffung der erforderlichen Visa zu erleichtern. Die Visa werden so bald wie möglich nach einem beschleunigten Verfahren unentgeltlich erteil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Der Aufnahmemitgliedstaat bringt im Reisepass eines Familienangehörigen, der nicht die Staatsangehörigkeit eines Mitgliedstaats besitzt, keinen Einreise- oder Ausreisestempel an, wenn der Betroffene die Aufenthaltskarte gemäß Artikel 10 mit sich führ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Verfügt ein Unionsbürger oder ein Familienangehöriger, der nicht die Staatsangehörigkeit eines Mitgliedstaats besitzt, nicht über die erforderlichen Reisedokumente oder gegebenenfalls die erforderlichen Visa, so gewährt der betreffende Mitgliedstaat dieser Person jede angemessene Möglichkeit, sich die erforderlichen Dokumente in einer angemessenen Frist zu beschaffen oder übermitteln zu lassen oder sich mit anderen Mitteln bestätigen zu lassen oder nachzuweisen, dass sie das Recht auf Freizügigkeit und Aufenthalt genießt</a:t>
            </a:r>
            <a:r>
              <a:rPr b="0" lang="ro-RO" sz="1400" spc="-1" strike="noStrike">
                <a:solidFill>
                  <a:srgbClr val="ffffff"/>
                </a:solidFill>
                <a:latin typeface="Tahoma"/>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Aufenthaltsrecht</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de-DE" sz="2800" spc="-1" strike="noStrike">
                <a:solidFill>
                  <a:srgbClr val="ffffff"/>
                </a:solidFill>
                <a:latin typeface="Tahoma"/>
              </a:rPr>
              <a:t>Recht auf Aufenthalt bis zu drei Monaten </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1) </a:t>
            </a:r>
            <a:r>
              <a:rPr b="0" lang="ro-RO" sz="2800" spc="-1" strike="noStrike">
                <a:solidFill>
                  <a:srgbClr val="ffffff"/>
                </a:solidFill>
                <a:latin typeface="Tahoma"/>
              </a:rPr>
              <a:t>Jeder </a:t>
            </a:r>
            <a:r>
              <a:rPr b="0" lang="de-DE" sz="2800" spc="-1" strike="noStrike">
                <a:solidFill>
                  <a:srgbClr val="ffffff"/>
                </a:solidFill>
                <a:latin typeface="Tahoma"/>
              </a:rPr>
              <a:t>Unionsbürger hat das Recht auf Aufenthalt im Hoheitsgebiet eines anderen Mitgliedstaats für einen Zeitraum von bis zu drei Monaten, wobei er lediglich im Besitz eines gültigen Personalausweises oder Reisepasses sein muss und ansonsten keine weiteren Bedingungen zu erfüllen oder Formalitäten zu erledigen braucht. </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2) Absatz 1 gilt auch für Familienangehörige im Besitz eines gültigen Reisepasses, die nicht die Staatsangehörigkeit eines Mitgliedstaats besitzen und die den Unionsbürger begleiten oder ihm nachziehen.</a:t>
            </a:r>
            <a:r>
              <a:rPr b="0" lang="ro-RO"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Aufenthaltsrecht</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Recht auf Aufenthalt für mehr als drei Monate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1) Jeder Unionsbürger hat das Recht auf Aufenthalt im Hoheitsgebiet eines anderen Mitgliedstaats für einen Zeitraum von über drei Monaten, wenn er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a) Arbeitnehmer oder Selbstständiger im Aufnahmemitgliedstaat ist oder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 für sich und seine Familienangehörigen über ausreichende Existenzmittel verfügt, so dass sie während ihres Aufenthalts keine Sozialhilfeleistungen des Aufnahmemitgliedstaats in Anspruch nehmen müssen, und er und seine Familienangehörigen über einen umfassenden Krankenversicherungsschutz im Aufnahmemitgliedstaat verfügen oder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c) - bei einer privaten oder öffentlichen Einrichtung, die von dem Aufnahmemitgliedstaat aufgrund seiner Rechtsvorschriften oder seiner Verwaltungspraxis anerkannt oder finanziert wird, zur Absolvierung einer Ausbildung einschließlich einer Berufsausbildung als Hauptzweck eingeschrieben ist und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über einen umfassenden Krankenversicherungsschutz im Aufnahmemitgliedstaat verfügt und der zuständigen nationalen Behörde durch eine Erklärung oder durch jedes andere gleichwertige Mittel seiner Wahl glaubhaft macht, dass er für sich und seine Familienangehörigen über ausreichende Existenzmittel verfügt, so dass sie während ihres Aufenthalts keine Sozialhilfeleistungen des Aufnahmemitgliedstaats in Anspruch nehmen müssen, oder</a:t>
            </a:r>
            <a:r>
              <a:rPr b="0" lang="ro-RO" sz="1400" spc="-1" strike="noStrike">
                <a:solidFill>
                  <a:srgbClr val="ffffff"/>
                </a:solidFill>
                <a:latin typeface="Tahoma"/>
              </a:rPr>
              <a:t>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d) ein Familienangehöriger ist, der den Unionsbürger, der die Voraussetzungen des Buchstaben (a), (b) oder (c) erfüllt, begleitet oder ihm nachzieht.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2) Das Aufenthaltsrecht nach Absatz (1) gilt auch für Familienangehörige, die nicht die Staatsangehörigkeit eines Mitgliedstaats besitzen und die den Unionsbürger in den Aufnahmemitgliedstaat begleiten oder ihm nachziehen, sofern der Unionsbürger die Voraussetzungen des Absatzes (1) Buchstabe (a), (b) oder (c) erfüll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Aufenthaltsrecht</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Für die Zwecke des Absatzes (1) Buchstabe (a) bleibt die Erwerbstätigeneigenschaft dem Unionsbürger, der seine Erwerbstätigkeit als Arbeitnehmer oder Selbstständiger nicht mehr ausübt, in folgenden Fällen erhalten: </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a) er ist wegen einer Krankheit oder eines Unfalls vorübergehend arbeitsunfähig; </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b) er stellt sich bei ordnungsgemäß bestätigter unfreiwilliger Arbeitslosigkeit nach mehr als einjähriger Beschäftigung dem zuständigen Arbeitsamt zur Verfügung; </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c) er stellt sich bei ordnungsgemäß bestätigter unfreiwilliger Arbeitslosigkeit nach Ablauf seines auf weniger als ein Jahr befristeten Arbeitsvertrags oder bei im Laufe der ersten zwölf Monate eintretender unfreiwilliger Arbeitslosigkeit dem zuständigen Arbeitsamt zur Verfügung; in diesem Fall bleibt die Erwerbstätigeneigenschaft während mindestens sechs Monaten aufrechterhalten;</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d) er beginnt eine Berufsausbildung; die Aufrechterhaltung der Erwerbstätigeneigenschaft setzt voraus, dass zwischen dieser Ausbildung und der früheren beruflichen Tätigkeit ein Zusammenhang besteht, es sei denn, der Betroffene hat zuvor seinen Arbeitsplatz unfreiwillig verloren. </a:t>
            </a:r>
            <a:endParaRPr b="0" lang="en-US" sz="1400" spc="-1" strike="noStrike">
              <a:solidFill>
                <a:srgbClr val="ffffff"/>
              </a:solidFill>
              <a:latin typeface="Tahoma"/>
            </a:endParaRPr>
          </a:p>
          <a:p>
            <a:pPr lvl="1"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ro-RO" sz="1400" spc="-1" strike="noStrike">
                <a:solidFill>
                  <a:srgbClr val="ffffff"/>
                </a:solidFill>
                <a:latin typeface="Tahoma"/>
              </a:rPr>
              <a:t> </a:t>
            </a:r>
            <a:r>
              <a:rPr b="0" lang="de-DE" sz="1400" spc="-1" strike="noStrike">
                <a:solidFill>
                  <a:srgbClr val="ffffff"/>
                </a:solidFill>
                <a:latin typeface="Tahoma"/>
              </a:rPr>
              <a:t>(4) Abweichend von Absatz (1) Buchstabe (d) und Absatz (2) haben nur der Ehegatte, der eingetragene Lebenspartner im Sinne von Artikel (2) Nummer (2) Buchstabe (b) und Kinder, denen Unterhalt gewährt wird, das Recht auf Aufenthalt als Familienangehörige eines Unionsbürgers, der die Voraussetzungen des Absatzes (1) Buchstabe (c) erfüllt. Artikel (3) Absatz (2) findet Anwendung auf die Verwandten in gerader aufsteigernder Linie des Unionsbürgers und des Ehegatten oder eingetragenen Lebenspartners, denen Unterhalt gewährt wird.</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320" y="228240"/>
            <a:ext cx="869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nmeldung auf dem Gebiet eines Mitgliedstaates</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beschadet von Artikel 5 Absatz (5) kann der Aufnahmemitgliedstaat von Unionsbürgern für Aufenthalte von über drei Monaten verlangen, dass sie sich bei den zuständigen Behörden anmelden. </a:t>
            </a:r>
            <a:endParaRPr b="0" lang="en-US" sz="2800" spc="-1" strike="noStrike">
              <a:solidFill>
                <a:srgbClr val="ffffff"/>
              </a:solidFill>
              <a:latin typeface="Tahoma"/>
            </a:endParaRPr>
          </a:p>
          <a:p>
            <a:pPr marL="315360" indent="-3153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Frist für die Anmeldung muss mindestens drei Monate ab dem Zeitpunkt der Einreise betragen. Eine Anmeldebescheinigung wird unverzüglich ausgestellt; darin werden Name und Anschrift der die Anmeldung vornehmenden Person sowie der Zeitpunkt der Anmeldung angegeben. Die Nichterfüllung der Anmeldepflicht kann mit verhältnismäßigen und nicht diskriminierenden Sanktionen geahndet wer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ahoma"/>
              </a:rPr>
              <a:t>Verwaltungsformalitäten für Familienangehörige, die nicht die Staatsangehörigkeit eines Mitgliedstaats besitzen</a:t>
            </a:r>
            <a:endParaRPr b="0" lang="en-US" sz="28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0000"/>
          </a:bodyPr>
          <a:p>
            <a:pPr marL="308520" indent="-308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itgliedstaaten stellen den Familienangehörigen eines Unionsbürgers, die nicht die Staatsangehörigkeit eines Mitgliedstaats besitzen, eine Aufenthaltskarte aus, wenn ein Aufenthalt von über drei Monaten geplant ist. </a:t>
            </a:r>
            <a:endParaRPr b="0" lang="en-US" sz="2800" spc="-1" strike="noStrike">
              <a:solidFill>
                <a:srgbClr val="ffffff"/>
              </a:solidFill>
              <a:latin typeface="Tahoma"/>
            </a:endParaRPr>
          </a:p>
          <a:p>
            <a:pPr marL="308520" indent="-308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Frist für die Einreichung des Antrags auf Ausstellung der Aufenthaltskarte muss mindestens drei Monate ab dem Zeitpunkt der Einreise betragen. </a:t>
            </a:r>
            <a:endParaRPr b="0" lang="en-US" sz="2800" spc="-1" strike="noStrike">
              <a:solidFill>
                <a:srgbClr val="ffffff"/>
              </a:solidFill>
              <a:latin typeface="Tahoma"/>
            </a:endParaRPr>
          </a:p>
          <a:p>
            <a:pPr marL="308520" indent="-308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Nichterfüllung der Pflicht zur Beantragung einer Aufenthaltskarte kann mit verhältnismäßigen und nicht diskriminierenden Sanktionen geahndet werd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usstellung der Aufenthaltskarten</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anchor="t">
            <a:normAutofit fontScale="88000"/>
          </a:bodyPr>
          <a:p>
            <a:pPr marL="301680" indent="-301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Zum Nachweis des Aufenthaltsrechts der Familienangehörigen eines Unionsbürgers, die nicht die Staatsangehörigkeit eines Mitgliedstaats besitzen, wird spätestens sechs Monate nach Einreichung des betreffenden Antrags eine "Aufenthaltskarte für Familienangehörige eines Unionsbürgers" ausgestellt. Eine Bescheinigung über die Einreichung des Antrags auf Ausstellung einer Aufenthaltskarte wird unverzüglich ausgestell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ültigkeit der Aufenthaltskarte</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ufenthaltskarte gemäß Artikel 10 Absatz (1) gilt für fünf Jahre ab dem Zeitpunkt der Ausstellung oder für die geplante Aufenthaltsdauer des Unionsbürgers, wenn diese weniger als fünf Jahre beträgt.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Die Gültigkeit der Aufenthaltskarte wird weder durch vorübergehende Abwesenheiten von bis zu sechs Monaten im Jahr, noch durch längere Abwesenheiten wegen der Erfüllung militärischer Pflichten, noch durch eine einzige Abwesenheit von höchstens zwölf aufeinander folgenden Monaten aus wichtigen Gründen wie Schwangerschaft und Niederkunft, schwere Krankheit, Studium oder Berufsausbildung oder berufliche Entsendung in einen anderen Mitgliedstaat oder einen Drittstaat berüh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ahoma"/>
              </a:rPr>
              <a:t>Aufrechterhaltung des Aufenthaltsrechts der Familienangehörigen bei Tod oder Wegzug des Unionsbürgers</a:t>
            </a:r>
            <a:endParaRPr b="0" lang="en-US" sz="3600" spc="-1" strike="noStrike">
              <a:solidFill>
                <a:srgbClr val="ffffcc"/>
              </a:solidFill>
              <a:latin typeface="Tahoma"/>
            </a:endParaRPr>
          </a:p>
        </p:txBody>
      </p:sp>
      <p:sp>
        <p:nvSpPr>
          <p:cNvPr id="41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beschadet von Unterabsatz 2 berührt der Tod des Unionsbürgers oder sein Wegzug aus dem Aufnahmemitgliedstaat nicht das Aufenthaltsrecht seiner Familienangehörigen, die die Staatsangehörigkeit eines Mitgliedstaats besitzen.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evor die Betroffenen das Recht auf Daueraufenthalt erwerben, müssen sie die Voraussetzungen des Artikels 7 Absatz (1) Buchstabe (a), (b), (c) oder (d) erfüllen.</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beschadet von Unterabsatz 2 führt der Tod des Unionsbürgers für Familienangehörige, die nicht die Staatsangehörigkeit eines Mitgliedstaats besitzen und die sich im Aufnahmemitgliedstaat als Familienangehörige vor dem Tod des Unionsbürgers mindestens ein Jahr lang aufgehalten haben, nicht zum Verlust des Aufenthaltsrechts.</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evor die Betroffenen das Recht auf Daueraufenthalt erwerben, bleibt ihr Aufenthaltsrecht an die Voraussetzung geknüpft, dass sie nachweisen können, dass sie Arbeitnehmer oder Selbstständige sind oder für sich und ihre Familienangehörigen über ausreichende Existenzmittel verfügen, so dass sie während ihres Aufenthalts keine Sozialhilfeleistungen des Aufnahmemitgliedstaats in Anspruch nehmen müssen, und dass sie über einen umfassenden Krankenversicherungsschutz im Aufnahmemitgliedstaat verfügen oder dass sie bereits im Aufnahmemitgliedstaat als Familienangehörige einer Person gelten, die diese Voraussetzungen erfüllt. Als ausreichende Existenzmittel gelten die in Artikel 8 Absatz (4) vorgesehenen Beträge.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ie betreffenden Familienangehörigen behalten ihr Aufenthaltsrecht ausschließlich auf persönlicher Grundlage.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er Wegzug des Unionsbürgers aus dem Aufnahmemitgliedstaat oder sein Tod führt weder für seine Kinder noch für den Elternteil, der die elterliche Sorge für die Kinder tatsächlich wahrnimmt, ungeachtet ihrer Staatsangehörigkeit, bis zum Abschluss der Ausbildung zum Verlust des Aufenthaltsrechts, wenn sich die Kinder im Aufnahmemitgliedstaat aufhalten und in einer Bildungseinrichtung zu Ausbildungszwecken eingeschrieben sind</a:t>
            </a:r>
            <a:r>
              <a:rPr b="0" lang="ro-RO" sz="1400" spc="-1" strike="noStrike">
                <a:solidFill>
                  <a:srgbClr val="ffffff"/>
                </a:solidFill>
                <a:latin typeface="Tahoma"/>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Aufrechterhaltung des Aufenthaltsrechts der Familienangehörigen bei Scheidung oder Aufhebung der Ehe oder bei Beendigung der eingetragenen Partnerschaft</a:t>
            </a:r>
            <a:endParaRPr b="0" lang="en-US" sz="2400" spc="-1" strike="noStrike">
              <a:solidFill>
                <a:srgbClr val="ffffcc"/>
              </a:solidFill>
              <a:latin typeface="Tahoma"/>
            </a:endParaRPr>
          </a:p>
        </p:txBody>
      </p:sp>
      <p:sp>
        <p:nvSpPr>
          <p:cNvPr id="421" name="PlaceHolder 2"/>
          <p:cNvSpPr>
            <a:spLocks noGrp="1"/>
          </p:cNvSpPr>
          <p:nvPr>
            <p:ph/>
          </p:nvPr>
        </p:nvSpPr>
        <p:spPr>
          <a:xfrm>
            <a:off x="457200" y="1600200"/>
            <a:ext cx="8229600" cy="5029200"/>
          </a:xfrm>
          <a:prstGeom prst="rect">
            <a:avLst/>
          </a:prstGeom>
          <a:noFill/>
          <a:ln w="0">
            <a:noFill/>
          </a:ln>
        </p:spPr>
        <p:txBody>
          <a:bodyPr anchor="t">
            <a:normAutofit fontScale="96000"/>
          </a:bodyPr>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Unbeschadet von Unterabsatz 2 berührt die Scheidung oder Aufhebung der Ehe des Unionsbürgers oder die Beendigung seiner eingetragenen Partnerschaft im Sinne von Artikel 2 Nummer 2 Buchstabe (b) nicht das Aufenthaltsrecht seiner Familienangehörigen, die die Staatsangehörigkeit eines Mitgliedstaats besitzen.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vor die Betroffenen das Recht auf Daueraufenthalt erwerben, müssen sie die Voraussetzungen des Artikels 7 Absatz (1) Buchstabe (a), (b), (c) oder (d) erfüllen.</a:t>
            </a:r>
            <a:r>
              <a:rPr b="0" lang="ro-RO" sz="1200" spc="-1" strike="noStrike">
                <a:solidFill>
                  <a:srgbClr val="ffffff"/>
                </a:solidFill>
                <a:latin typeface="Tahoma"/>
              </a:rPr>
              <a:t>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Unbeschadet von Unterabsatz 2 führt die Scheidung oder Aufhebung der Ehe oder die Beendigung der eingetragenen Partnerschaft im Sinne von Artikel 2 Nummer 2 Buchstabe (b) für Familienangehörige eines Unionsbürgers, die nicht die Staatsangehörigkeit eines Mitgliedstaats besitzen, nicht zum Verlust des Aufenthaltsrechts, wenn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a) die Ehe oder die eingetragene Partnerschaft im Sinne von Artikel 2 Nummer 2 Buchstabe (b) bis zur Einleitung des gerichtlichen Scheidungs- oder Aufhebungsverfahrens oder bis zur Beendigung der eingetragenen Partnerschaft mindestens drei Jahre bestanden hat, davon mindestens ein Jahr im Aufnahmemitgliedstaat, oder</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b) dem Ehegatten oder dem Lebenspartner im Sinne von Artikel 2 Nummer 2 Buchstabe (b), der nicht die Staatsangehörigkeit eines Mitgliedstaats besitzt, aufgrund einer Vereinbarung der Ehegatten oder der Lebenspartner oder durch gerichtliche Entscheidung das Sorgerecht für die Kinder des Unionsbürgers übertragen wird oder</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c) es aufgrund besonders schwieriger Umstände erforderlich ist, wie etwa bei Opfern von Gewalt im häuslichen Bereich während der Ehe oder der eingetragenen Partnerschaft, oder</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d) dem Ehegatten oder dem Lebenspartner im Sinne von Artikel 2 Nummer 2 Buchstabe (b), der nicht die Staatsangehörigkeit eines Mitgliedstaats besitzt, aufgrund einer Vereinbarung der Ehegatten oder der Lebenspartner oder durch gerichtliche Entscheidung das Recht zum persönlichen Umgang mit dem minderjährigen Kind zugesprochen wird, sofern das Gericht zu der Auffassung gelangt ist, dass der Umgang - solange er für nötig erachtet wird - ausschließlich im Aufnahmemitgliedstaat erfolgen darf.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vor die Betroffenen das Recht auf Daueraufenthalt erwerben, bleibt ihr Aufenthaltsrecht an die Voraussetzung geknüpft, dass sie nachweisen können, dass sie Arbeitnehmer oder Selbstständige sind oder für sich und ihre Familienangehörigen über ausreichende Existenzmittel verfügen, so dass sie während ihres Aufenthalts keine Sozialhilfeleistungen des Aufnahmemitgliedstaats in Anspruch nehmen müssen, und dass sie über einen umfassenden Krankenversicherungsschutz im Aufnahmemitgliedstaat verfügen oder dass sie bereits im Aufnahmemitgliedstaat als Familienangehörige einer Person gelten, die diese Voraussetzungen erfüllt. Als ausreichende Existenzmittel gelten die in Artikel 8 Absatz (4) vorgesehenen Beträge.</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Die betreffenden Familienangehörigen behalten ihr Aufenthaltsrecht ausschließlich auf persönlicher Grundlag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CHTSAKT</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Richtlinie </a:t>
            </a:r>
            <a:r>
              <a:rPr b="0" lang="de-DE" sz="2800" spc="-1" strike="noStrike" u="sng">
                <a:solidFill>
                  <a:srgbClr val="a3c145"/>
                </a:solidFill>
                <a:uFillTx/>
                <a:latin typeface="Tahoma"/>
                <a:hlinkClick r:id="rId1"/>
              </a:rPr>
              <a:t>2004/38/EG</a:t>
            </a:r>
            <a:r>
              <a:rPr b="0" lang="de-DE" sz="2800" spc="-1" strike="noStrike">
                <a:solidFill>
                  <a:srgbClr val="ffffff"/>
                </a:solidFill>
                <a:latin typeface="Tahoma"/>
              </a:rPr>
              <a:t> </a:t>
            </a:r>
            <a:r>
              <a:rPr b="0" lang="de-DE" sz="2800" spc="-1" strike="noStrike">
                <a:solidFill>
                  <a:srgbClr val="ffffff"/>
                </a:solidFill>
                <a:latin typeface="Tahoma"/>
              </a:rPr>
              <a:t>des Europäischen Parlaments und des Rates vom 29. April 2004 über das Recht der Unionsbürger und ihrer Familienangehörigen, sich im Hoheitsgebiet der Mitgliedstaaten frei zu bewegen und aufzuhalten, zur Änderung der Verordnung (EWG) Nr. 1612/68 und zur Aufhebung der Richtlinien 64/221/EWG, 68/360/EWG, 72/194/EWG, 73/148/EWG, 75/34/EWG, 75/35/EWG, 90/364/EWG, 90/365/EWG und 93/96/EW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frechterhaltung des Aufenthaltsrechts</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Unionsbürgern und ihren Familienangehörigen steht das Aufenthaltsrecht nach Artikel 6 zu, solange sie die Sozialhilfeleistungen des Aufnahmemitgliedstaats nicht unangemessen in Anspruch nehme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Unionsbürgern und ihren Familienangehörigen steht das Aufenthaltsrecht nach den Artikeln 7, 12 und 13 zu, solange sie die dort genannten Voraussetzungen erfüllen. In bestimmten Fällen, in denen begründete Zweifel bestehen, ob der Unionsbürger oder seine Familienangehörigen die Voraussetzungen der Artikel 7, 12 und 13 erfüllen, können die Mitgliedstaaten prüfen, ob diese Voraussetzungen erfüllt sind. </a:t>
            </a:r>
            <a:r>
              <a:rPr b="1" i="1" lang="de-DE" sz="1600" spc="-1" strike="noStrike">
                <a:solidFill>
                  <a:srgbClr val="ffffff"/>
                </a:solidFill>
                <a:latin typeface="Tahoma"/>
              </a:rPr>
              <a:t>Diese Prüfung wird nicht systematisch durchgeführt.</a:t>
            </a:r>
            <a:r>
              <a:rPr b="1" i="1"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Tahoma"/>
              </a:rPr>
              <a:t>Die Inanspruchnahme von Sozialhilfeleistungen durch einen Unionsbürger oder einen seiner Familienangehörigen im Aufnahmemitgliedstaat darf nicht automatisch zu einer Ausweisung führen</a:t>
            </a:r>
            <a:r>
              <a:rPr b="0" lang="de-DE"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bweichend von den Absätzen (1) und (2) und unbeschadet der Bestimmungen des Kapitels VI darf gegen Unionsbürger oder ihre Familienangehörigen auf keinen Fall eine Ausweisung verfügt werden, wen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 die Unionsbürger Arbeitnehmer oder Selbstständige sind oder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b) die Unionsbürger in das Hoheitsgebiet des Aufnahmemitgliedstaats eingereist sind, um Arbeit zu suchen. In diesem Fall dürfen die Unionsbürger und ihre Familienangehörigen nicht ausgewiesen werden, solange die Unionsbürger nachweisen können, dass sie weiterhin Arbeit suchen und dass sie eine begründete Aussicht haben, eingestellt zu werde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Verfahrensgarantien </a:t>
            </a:r>
            <a:r>
              <a:rPr b="0" lang="ro-RO" sz="4000" spc="-1" strike="noStrike">
                <a:solidFill>
                  <a:srgbClr val="ffffcc"/>
                </a:solidFill>
                <a:latin typeface="Tahoma"/>
              </a:rPr>
              <a:t>– </a:t>
            </a:r>
            <a:r>
              <a:rPr b="0" lang="de-DE" sz="4000" spc="-1" strike="noStrike">
                <a:solidFill>
                  <a:srgbClr val="ffffcc"/>
                </a:solidFill>
                <a:latin typeface="Tahoma"/>
              </a:rPr>
              <a:t>Artikel</a:t>
            </a:r>
            <a:r>
              <a:rPr b="0" lang="ro-RO" sz="4000" spc="-1" strike="noStrike">
                <a:solidFill>
                  <a:srgbClr val="ffffcc"/>
                </a:solidFill>
                <a:latin typeface="Tahoma"/>
              </a:rPr>
              <a:t>15</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Verfahren der Artikel 30 und 31 finden sinngemäß auf jede Entscheidung Anwendung, die die Freizügigkeit von Unionsbürgern und ihren Familienangehörigen beschränkt und nicht aus Gründen der öffentlichen Ordnung, Sicherheit oder Gesundheit erlassen wird. </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ird der Personalausweis oder Reisepass, der die Einreise des Betroffenen in den Aufnahmemitgliedstaat sowie die Ausstellung der Anmeldebescheinigung oder der Aufenthaltskarte ermöglicht hat, ungültig, so rechtfertigt dies keine Ausweisung aus dem Aufnahmemitgliedsta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e Entscheidung gemäß Absatz (1), mit der die Ausweisung verfügt wird, darf nicht mit einem Einreiseverbot des Aufnahmemitgliedstaats einhergeh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Recht auf Daueraufenthalt </a:t>
            </a:r>
            <a:br>
              <a:rPr sz="4000"/>
            </a:br>
            <a:r>
              <a:rPr b="0" lang="de-DE" sz="4000" spc="-1" strike="noStrike">
                <a:solidFill>
                  <a:srgbClr val="ffffcc"/>
                </a:solidFill>
                <a:latin typeface="Tahoma"/>
              </a:rPr>
              <a:t>Erwerb</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llgemeine Regel für Unionsbürger und ihre Familienangehörigen besteht darin, dass jeder Unionsbürger, der sich rechtmäßig fünf Jahre lang ununterbrochen im Aufnahmemitgliedstaat aufgehalten hat, hat das Recht, sich dort auf Dauer aufzuhalten. Dieses Recht ist nicht an die Voraussetzungen des Kapitels III geknüpf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Regel gilt auch für Familienangehörige, die nicht die Staatsangehörigkeit eines Mitgliedstaats besitzen und die sich rechtmäßig fünf Jahre lang ununterbrochen mit dem Unionsbürger im Aufnahmemitgliedstaat aufgehalten hab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Recht auf Daueraufenthalt </a:t>
            </a:r>
            <a:br>
              <a:rPr sz="4000"/>
            </a:br>
            <a:r>
              <a:rPr b="0" lang="de-DE" sz="4000" spc="-1" strike="noStrike">
                <a:solidFill>
                  <a:srgbClr val="ffffcc"/>
                </a:solidFill>
                <a:latin typeface="Tahoma"/>
              </a:rPr>
              <a:t>Erwerb</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Kontinuität des Aufenthalts wird weder durch vorübergehende Abwesenheiten von bis zu insgesamt sechs Monaten im Jahr, noch durch längere Abwesenheiten wegen der Erfüllung militärischer Pflichten, noch durch eine einzige Abwesenheit von höchstens zwölf aufeinander folgenden Monaten aus wichtigen Gründen wie Schwangerschaft und Niederkunft, schwere Krankheit, Studium oder Berufsausbildung oder berufliche Entsendung in einen anderen Mitgliedstaat oder einen Drittstaat berühr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das Recht auf Daueraufenthalt erworben wurde, führt nur die Abwesenheit vom Aufnahmemitgliedstaat, die zwei aufeinander folgende Jahre überschreitet, zu seinem Verlu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usnahmeregelungen</a:t>
            </a:r>
            <a:endParaRPr b="0" lang="en-US" sz="4400" spc="-1" strike="noStrike">
              <a:solidFill>
                <a:srgbClr val="ffffcc"/>
              </a:solidFill>
              <a:latin typeface="Tahom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Abweichend von Artikel 16 haben folgende Personen vor Ablauf des ununterbrochenen Zeitraums von fünf Jahren das Recht auf Daueraufenthalt im Aufnahmemitgliedstaa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a) Arbeitnehmer oder Selbstständige, die zum Zeitpunkt des Ausscheidens aus dem Erwerbsleben das in dem betreffenden Mitgliedstaat für die Geltendmachung einer Altersrente gesetzlich vorgesehene Alter erreicht haben, oder Arbeitnehmer, die ihre abhängige Erwerbstätigkeit im Rahmen einer Vorruhestandsregelung beenden, sofern sie diese Erwerbstätigkeit in dem betreffenden Mitgliedstaat mindestens während der letzten zwölf Monate ausgeübt und sich dort seit mindestens drei Jahren ununterbrochen aufgehalten hab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Haben bestimmte Kategorien von Selbstständigen nach den Rechtsvorschriften des Aufnahmemitgliedstaats keinen Anspruch auf eine Altersrente, so gilt die Altersvoraussetzung als erfüllt, wenn der Betroffene das 60. Lebensjahr vollendet ha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b) Arbeitnehmer oder Selbstständige, die sich seit mindestens zwei Jahren ununterbrochen im Aufnahmemitgliedstaat aufgehalten haben und ihre Erwerbstätigkeit infolge einer dauernden Arbeitsunfähigkeit aufgeben.</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Ist die Arbeitsunfähigkeit durch einen Arbeitsunfall oder eine Berufskrankheit eingetreten, aufgrund deren ein Anspruch auf eine Rente entsteht, die ganz oder teilweise zulasten eines Trägers des Aufnahmemitgliedstaats geht, entfällt die Voraussetzung der Aufenthaltsdaue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c) Arbeitnehmer oder Selbstständige, die nach drei Jahren ununterbrochener Erwerbstätigkeit und ununterbrochenen Aufenthalts im Aufnahmemitgliedstaat eine abhängige oder selbstständige Erwerbstätigkeit in einem anderen Mitgliedstaat ausüben, ihren Wohnsitz jedoch im Aufnahmemitgliedstaat beibehalten und in der Regel jeden Tag oder mindestens einmal in der Woche dorthin zurückkehr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Für den Erwerb der in den Buchstaben a und b genannten Rechte gelten die Zeiten der Erwerbstätigkeit in dem Mitgliedstaat, in dem der Betroffene seine Erwerbstätigkeit ausübt, als im Aufnahmemitgliedstaat abgeleiste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Zeiten unfreiwilliger Arbeitslosigkeit, die vom zuständigen Arbeitsamt ordnungsgemäß festgestellt werden, oder vom Willen des Betroffenen unabhängige Arbeitsunterbrechungen sowie krankheitsoder unfallbedingte Fehlzeiten oder Unterbrechungen gelten als Zeiten der Erwerbstätigkei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usnahmeregelungen</a:t>
            </a:r>
            <a:endParaRPr b="0" lang="en-US" sz="4400" spc="-1" strike="noStrike">
              <a:solidFill>
                <a:srgbClr val="ffffcc"/>
              </a:solidFill>
              <a:latin typeface="Tahoma"/>
            </a:endParaRPr>
          </a:p>
        </p:txBody>
      </p:sp>
      <p:sp>
        <p:nvSpPr>
          <p:cNvPr id="43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ie Voraussetzungen der Dauer des Aufenthalts und der Dauer der Erwerbstätigkeit in Absatz (1) Buchstabe a sowie der Aufenthaltsdauer in Absatz (1) Buchstabe (b) entfallen, wenn der Ehegatte oder der Lebenspartner im Sinne von Artikel 2 Nummer 2 Buchstabe (b) des Arbeitnehmers oder des Selbstständigen die Staatsangehörigkeit des Aufnahmemitgliedstaats besitzt oder die Staatsangehörigkeit jenes Mitgliedstaats durch Eheschließung mit dem Arbeitnehmer oder Selbstständigen verloren hat.</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ie Familienangehörigen eines Arbeitnehmers oder eines Selbstständigen, die sich mit ihm im Hoheitsgebiet des Aufnahmemitgliedstaats aufhalten, haben ungeachtet ihrer Staatsangehö- rigkeit das Recht auf Daueraufenthalt in diesem Mitgliedstaat, wenn der Arbeitnehmer oder Selbstständige für sich das Recht auf Daueraufenthalt gemäß Absatz 1 in diesem Mitgliedstaat erworben hat.</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Ist der Arbeitnehmer oder Selbstständige jedoch im Laufe seines Erwerbslebens verstorben, bevor er gemäß Absatz (1) das Recht auf Daueraufenthalt im Aufnahmemitgliedstaat erworben hat, so erwerben seine Familienangehörigen, die sich mit ihm in dem Aufnahmemitgliedstaat aufgehalten haben, das Recht, sich dort dauerhaft aufzuhalten, sofern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a) der Arbeitnehmer oder Selbstständige sich zum Zeitpunkt seines Todes seit zwei Jahren im Hoheitsgebiet dieses Mitgliedstaats ununterbrochen aufgehalten hat oder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b) der Tod infolge eines Arbeitsunfalls oder einer Berufskrankheit eingetreten ist oder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c) sein überlebender Ehegatte die Staatsangehörigkeit dieses Mitgliedstaats durch Eheschließung mit dem Arbeitnehmer oder dem Selbstständigen verloren h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Erwerb des Rechts auf Daueraufenthalt durch bestimmte Familienangehörige, die nicht die Staatsangehörigkeit eines Mitgliedstaats besitzen</a:t>
            </a:r>
            <a:endParaRPr b="0" lang="en-US" sz="2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anchor="t">
            <a:normAutofit fontScale="90000"/>
          </a:bodyPr>
          <a:p>
            <a:pPr marL="308520" indent="-3085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de-DE" sz="3200" spc="-1" strike="noStrike">
                <a:solidFill>
                  <a:srgbClr val="ffffff"/>
                </a:solidFill>
                <a:latin typeface="Tahoma"/>
              </a:rPr>
              <a:t>Unbeschadet des Artikels 17 erwerben die Familienangehörigen eines Unionsbürgers, auf die Artikel 12 Absatz (2) und Artikel 13 Absatz (2) Anwendung finden und die die dort genannten Voraussetzungen erfüllen, das Recht auf Daueraufenthalt, wenn sie sich rechtmäßig fünf Jahre lang ununterbrochen im Aufnahmemitgliedstaat aufgehalten habe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ontinuität des Aufenthalts</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Kontinuität des Aufenthalts wird durch eines der im Aufenthaltsmitgliedstaat üblichen Beweismittel nachgewiesen. Jede rechtmäßig vollstreckte Ausweisungsverfügung gegen den Betroffenen stellt eine Unterbrechung des Aufenthalts d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Räumlicher Geltungsbereich</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Recht auf Aufenthalt und das Recht auf Daueraufenthalt erstrecken sich auf das gesamte Hoheitsgebiet des Aufnahmemitgliedstaats. Die Mitgliedstaaten können das Aufenthaltsrecht und das Recht auf Daueraufenthalt nur in den Fällen räumlich beschränken, in denen sie dieselben Beschränkungen auch für ihre eigenen Ansässigen vorseh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Verbundene Rechte</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Familienangehörigen eines Unionsbürgers, die das Recht auf Aufenthalt oder das Recht auf Daueraufenthalt in einem Mitgliedstaat genießen, sind ungeachtet ihrer Staatsangehörigkeit berechtigt, dort eine Erwerbstätigkeit als Arbeitnehmer oder Selbstständiger aufzunehm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ahoma"/>
              </a:rPr>
              <a:t>ZUSAMMENFASSUNG</a:t>
            </a:r>
            <a:br>
              <a:rPr sz="2400"/>
            </a:br>
            <a:r>
              <a:rPr b="1" lang="de-DE" sz="2400" spc="-1" strike="noStrike">
                <a:solidFill>
                  <a:srgbClr val="ffffcc"/>
                </a:solidFill>
                <a:latin typeface="Tahoma"/>
              </a:rPr>
              <a:t>WAS IST DER ZWECK DER RICHTLINIE</a:t>
            </a:r>
            <a:r>
              <a:rPr b="1" lang="en-US" sz="2400" spc="-1" strike="noStrike">
                <a:solidFill>
                  <a:srgbClr val="ffffcc"/>
                </a:solidFill>
                <a:latin typeface="Tahoma"/>
              </a:rPr>
              <a:t>?</a:t>
            </a:r>
            <a:endParaRPr b="0" lang="en-US" sz="2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Richtlinie:</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ereint zahlreiche bestehende Rechtsinstrumente in einem einzigen Rechtsakt;</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legtt die Bedingungen für das Recht auf Freizügigkeit und das Aufenthaltsrecht (sowohl vorübergehend wie auch dauerhaft) für EU-Bürger* und ihre Familienangehörigen* fest;</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gelt die Beschränkungen der genannten Rechte aus Gründen der öffentlichen Ordnung, Sicherheit oder Gesundheit;</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gelt den Status von Personen, die beschäftigt, selbstständig, Studenten oder nicht gegen Bezahlung beschäftigt si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Gleichbehandlung</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Vorbehaltlich spezifischer und ausdrücklich im Vertrag und im abgeleiteten Recht vorgesehener Bestimmungen genießt jeder Unionsbürger, der sich aufgrund dieser Richtlinie im Hoheitsgebiet des Aufnahmemitgliedstaats aufhält, im Anwendungsbereich des Vertrags die gleiche Behandlung wie die Staatsangehörigen dieses Mitgliedstaats. Das Recht auf Gleichbehandlung erstreckt sich auch auf Familienangehörige, die nicht die Staatsangehörigkeit eines Mitgliedstaats besitzen und das Recht auf Aufenthalt oder das Recht auf Daueraufenthalt genieß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bweichend von Absatz (1) ist der Aufnahmemitgliedstaat jedoch nicht verpflichtet, anderen Personen als Arbeitnehmern oder Selbstständigen, Personen, denen dieser Status erhalten bleibt, und ihren Familienangehörigen während der ersten drei Monate des Aufenthalts oder gegebenenfalls während des längeren Zeitraums nach Artikel 14 Absatz (4) Buchstabe (b) einen Anspruch auf Sozialhilfe oder vor Erwerb des Rechts auf Daueraufenthalt Studienbeihilfen, einschließlich Beihilfen zur Berufsausbildung, in Form eines Stipendiums oder Studiendarlehens, zu gewähr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Beschränkungen des Einreise- und Aufenthaltsrechts aus Gründen der öffentlichen Ordnung, Sicherheit oder Gesundheit</a:t>
            </a:r>
            <a:endParaRPr b="0" lang="en-US" sz="2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Mitgliedstaaten dürfen die Freizügigkeit und das Aufenthaltsrecht eines Unionsbürgers oder seiner Familienangehörigen, ungeachtet ihrer Staatsangehörigkeit, aus Gründen der öffentlichen Ordnung, Sicherheit oder Gesundheit beschränken. Diese Gründe dürfen nicht zu wirtschaftlichen Zwecken geltend gemacht werd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llgemeine Grundsätze</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i Maßnahmen aus Gründen der öffentlichen Ordnung oder Sicherheit ist der Grundsatz der Verhältnismäßigkeit zu wahren und darf ausschließlich das persönliche Verhalten des Betroffenen ausschlaggebend sein. Strafrechtliche Verurteilungen allein können ohne Weiteres diese Maßnahmen nicht begründen. </a:t>
            </a:r>
            <a:endParaRPr b="0" lang="en-US" sz="28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as persönliche Verhalten muss eine tatsächliche, gegenwärtige und erhebliche Gefahr darstellen, die ein Grundinteresse der Gesellschaft berührt. Vom Einzelfall losgelöste oder auf Generalprävention verweisende Begründungen sind nicht zulässi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llgemeine Grundsätze</a:t>
            </a:r>
            <a:endParaRPr b="0" lang="en-US" sz="4400" spc="-1" strike="noStrike">
              <a:solidFill>
                <a:srgbClr val="ffffcc"/>
              </a:solidFill>
              <a:latin typeface="Tahoma"/>
            </a:endParaRPr>
          </a:p>
        </p:txBody>
      </p:sp>
      <p:sp>
        <p:nvSpPr>
          <p:cNvPr id="44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m festzustellen, ob der Betroffene eine Gefahr für die öffentliche Ordnung oder Sicherheit darstellt, kann der Aufnahmemitgliedstaat bei der Ausstellung der Anmeldebescheinigung oder - wenn es kein Anmeldesystem gibt - spätestens drei Monate nach dem Zeitpunkt der Einreise des Betroffenen in das Hoheitsgebiet oder nach dem Zeitpunkt, zu dem der Betroffene seine Anwesenheit im Hoheitsgebiet gemäß Artikel 5 Absatz 5 gemeldet hat, oder bei Ausstellung der Aufenthaltskarte den Herkunftsmitgliedstaat und erforderlichenfalls andere Mitgliedstaaten um Auskünfte über das Vorleben des Betroffenen in strafrechtlicher Hinsicht ersuchen, wenn er dies für unerlässlich hält. Diese Anfragen dürfen nicht systematisch erfolgen. Der ersuchte Mitgliedstaat muss seine Antwort binnen zwei Monaten erteile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Mitgliedstaat, der den Reisepass oder Personalausweis ausgestellt hat, lässt den Inhaber des Dokuments, der aus Gründen der öffentlichen Ordnung, Sicherheit oder Gesundheit aus einem anderen Mitgliedstaat ausgewiesen wurde, ohne jegliche Formalitäten wieder einreisen, selbst wenn der Personalausweis oder Reisepass ungültig geworden ist oder die Staatsangehörigkeit des Inhabers bestritten wir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chutz vor Ausweisung</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evor der Aufnahmemitgliedstaat eine Ausweisung aus Gründen der öffentlichen Ordnung oder Sicherheit verfügt, berücksichtigt er insbesondere die Dauer des Aufenthalts des Betroffenen im Hoheitsgebiet, sein Alter, seinen Gesundheitszustand, seine familiäre und wirtschaftliche Lage, seine soziale und kulturelle Integration im Aufnahmemitgliedstaat und das Ausmaß seiner Bindungen zum Herkunftsstaat. </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Aufnahmemitgliedstaat darf gegen Unionsbürger oder ihre Familienangehörigen, ungeachtet ihrer Staatsangehörigkeit, die das Recht auf Daueraufenthalt in seinem Hoheitsgebiet genießen, eine Ausweisung nur aus schwerwiegenden Gründen der öffentlichen Ordnung oder Sicherheit verfügen. </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Gegen Unionsbürger darf eine Ausweisung nicht verfügt werden, es sei denn, die Entscheidung beruht auf zwingenden Gründen der öffentlichen Sicherheit, die von den Mitgliedstaaten festgelegt wurden, wenn sie</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de-DE" sz="1800" spc="-1" strike="noStrike">
                <a:solidFill>
                  <a:srgbClr val="ffffff"/>
                </a:solidFill>
                <a:latin typeface="Tahoma"/>
              </a:rPr>
              <a:t>(a) ihren Aufenthalt in den letzten zehn Jahren im Aufnahmemitgliedstaat gehabt haben oder</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de-DE" sz="1800" spc="-1" strike="noStrike">
                <a:solidFill>
                  <a:srgbClr val="ffffff"/>
                </a:solidFill>
                <a:latin typeface="Tahoma"/>
              </a:rPr>
              <a:t>(b) minderjährig sind, es sei denn, die Ausweisung ist zum Wohl des Kindes notwendig, wie es im Übereinkommen der Vereinten Nationen vom 20. November 1989 über die Rechte des Kindes vorgesehen is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Öffentliche Gesundheit</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s Krankheiten, die eine die Freizügigkeit beschränkende Maßnahme rechtfertigen, gelten ausschließlich die Krankheiten mit epidemischem Potenzial im Sinne der einschlägigen Rechtsinstrumente der Weltgesundheitsorganisation und sonstige übertragbare, durch Infektionserreger oder Parasiten verursachte Krankheiten, sofern gegen diese Krankheiten Maßnahmen zum Schutz der Staatsangehörigen des Aufnahmemitgliedstaats getroffen werden.</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Krankheiten, die nach Ablauf einer Frist von drei Monaten ab dem Zeitpunkt der Einreise auftreten, stellen keinen Ausweisungsgrund dar.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rnsthafte Anhaltspunkte dies rechtfertigen, können die Mitgliedstaaten für die Personen, die zum Aufenthalt berechtigt sind, binnen drei Monaten nach der Einreise eine kostenlose ärztliche Untersuchung anordnen, um feststellen zu lassen, dass sie nicht an einer Krankheit im Sinne von Absatz (1) leiden.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Tahoma"/>
              </a:rPr>
              <a:t>Diese ärztlichen Untersuchungen dürfen nicht systematisch angeordnet werde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Mitteilung der Entscheidungen</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ntscheidungen nach Artikel 27 Absatz (1) müssen dem Betroffenen schriftlich in einer Weise mitgeteilt werden, dass er deren Inhalt und Wirkung nachvollziehen kan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m Betroffenen sind die Gründe der öffentlichen Ordnung, Sicherheit oder Gesundheit, die der ihn betreffenden Entscheidung zugrunde liegen, genau und umfassend mitzuteilen, es sei denn, dass Gründe der Sicherheit des Staates dieser Mitteilung entgegensteh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 der Mitteilung ist anzugeben, bei welchem Gericht oder bei welcher Verwaltungsbehörde der Betroffene einen Rechtsbehelf einlegen kann, innerhalb welcher Frist der Rechtsbehelf einzulegen ist und gegebenenfalls binnen welcher Frist er das Hoheitsgebiet des Mitgliedstaats zu verlassen hat. Außer in ordnungsgemäß begründeten dringenden Fällen muss die Frist zum Verlassen des Hoheitsgebiets mindestens einen Monat, gerechnet ab dem Zeitpunkt der Mitteilung, betra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Verfahrensgarantien</a:t>
            </a:r>
            <a:endParaRPr b="0" lang="en-US" sz="4400" spc="-1" strike="noStrike">
              <a:solidFill>
                <a:srgbClr val="ffffcc"/>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egen eine Entscheidung aus Gründen der öffentlichen Ordnung, Sicherheit oder Gesundheit müssen die Betroffenen einen Rechtsbehelf bei einem Gericht und gegebenenfalls bei einer Behörde des Aufnahmemitgliedstaats einlegen könn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Verfahrensgarantien</a:t>
            </a: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rd neben dem Rechtsbehelf gegen die Entscheidung, mit der die Ausweisung verfügt wurde, auch ein Antrag auf vorläufigen Rechtsschutz gestellt, um die Vollstreckung dieser Entscheidung auszusetzen, so darf die Abschiebung aus dem Hoheitsgebiet nicht erfolgen, solange nicht über den Antrag auf vorläufigen Rechtsschutz entschieden wurde, es sei denn, </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de-DE" sz="2000" spc="-1" strike="noStrike">
                <a:solidFill>
                  <a:srgbClr val="ffffff"/>
                </a:solidFill>
                <a:latin typeface="Tahoma"/>
              </a:rPr>
              <a:t>- die Entscheidung, mit der die Ausweisung verfügt wird, stützt sich auf eine frühere gerichtliche Entscheidung, oder</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de-DE" sz="2000" spc="-1" strike="noStrike">
                <a:solidFill>
                  <a:srgbClr val="ffffff"/>
                </a:solidFill>
                <a:latin typeface="Tahoma"/>
              </a:rPr>
              <a:t>- die Betroffenen hatten bereits früher die Möglichkeit, eine gerichtliche Überprüfung zu beantragen, oder</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de-DE" sz="2000" spc="-1" strike="noStrike">
                <a:solidFill>
                  <a:srgbClr val="ffffff"/>
                </a:solidFill>
                <a:latin typeface="Tahoma"/>
              </a:rPr>
              <a:t>- die Entscheidung, mit der die Ausweisung verfügt wird, beruht auf zwingenden Gründen der öffentlichen Sicherheit nach Artikel 28 Absatz (3).</a:t>
            </a:r>
            <a:r>
              <a:rPr b="0" lang="ro-RO" sz="2000" spc="-1" strike="noStrike">
                <a:solidFill>
                  <a:srgbClr val="ffffff"/>
                </a:solidFill>
                <a:latin typeface="Tahoma"/>
              </a:rPr>
              <a:t> </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m Rechtsbehelfsverfahren sind die Rechtmäßigkeit der Entscheidung sowie die Tatsachen und die Umstände, auf denen die Entscheidung beruht, zu überprüfen. Es gewährleistet, dass die Entscheidung insbesondere im Hinblick auf die Erfordernisse gemäß Artikel 28 nicht unverhältnismäßig is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Verfahrensgarantien </a:t>
            </a:r>
            <a:r>
              <a:rPr b="0" lang="ro-RO" sz="4000" spc="-1" strike="noStrike">
                <a:solidFill>
                  <a:srgbClr val="ffffcc"/>
                </a:solidFill>
                <a:latin typeface="Tahoma"/>
              </a:rPr>
              <a:t>- </a:t>
            </a:r>
            <a:r>
              <a:rPr b="0" lang="de-DE" sz="4000" spc="-1" strike="noStrike">
                <a:solidFill>
                  <a:srgbClr val="ffffcc"/>
                </a:solidFill>
                <a:latin typeface="Tahoma"/>
              </a:rPr>
              <a:t>Besonderheit</a:t>
            </a:r>
            <a:endParaRPr b="0" lang="en-US" sz="40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itgliedstaaten können dem Betroffenen verbieten, sich während des anhängigen Rechtsbehelfsverfahrens in ihrem Hoheitsgebiet aufzuhalten, dürfen ihn jedoch nicht daran hindern, sein Verfahren selbst zu führen, es sei denn, die öffentliche Ordnung oder Sicherheit können durch sein persönliches Erscheinen ernsthaft gestört werden oder der Rechtsbehelf richtet sich gegen die Verweigerung der Einreise in das Hoheitsgebi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ICHTIGE ECKPUNKT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mit ihren Familienangehörigen, egal ob diese EU-Bürger sind oder nicht, in ein anderes EU-Land einreisen, ohne bei Einreise oder Ausreise ein Visum zu benötigen.</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für einen Zeitraum von bis zu drei Monaten in einem anderen EU-Land leben, ohne dass weitere Bedingungen oder Formalitäten zu erfüllen sind.</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vorbehaltlich bestimmter Bedingungen, in Abhängigkeit von ihrem Status im Aufnahmeland, für einen Zeitraum von über drei Monaten in einem anderen EU-Land leben. Arbeitnehmer oder Selbstständige müssen keinerlei weitere Bedingungen erfüllen. Studenten und andere Personen, die nicht gegen Bezahlung arbeiten, z. B. jene im Ruhestand, müssen für sich und ihre Familienangehörigen über ausreichende Existenzmittel verfügen, sodass sie während ihres Aufenthalts keine Sozialhilfeleistungen des Aufnahmelandes in Anspruch nehmen müssen, und über einen umfassenden Krankenversicherungsschutz verfügen.</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üssen sich für Aufenthalte von über drei Monaten bei den zuständigen Behörden anmelden. Ihre Familienangehörigen, sofern sie nicht die Staatsangehörigkeit eines EU-Landes besitzen, benötigen eine Aufenthaltskarte, die für fünf Jahre gültig ist.</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nach einem rechtmäßigen ununterbrochenen Aufenthalt von fünf Jahren in einem anderen EU-Land das Recht auf Daueraufenthalt erlangen. Dies gilt ebenso für Familienangehörige.</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aben das Recht auf gleiche Behandlung wie die Staatsangehörigen des Aufnahmelandes. Die Behörden im Aufnahmeland sind jedoch nicht verpflichtet, nicht erwerbstätigen EU-Bürgern während der ersten drei Monate ihres Aufenthalts Leistungen zu gewähren.</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en-US" sz="4000" spc="-1" strike="noStrike">
                <a:solidFill>
                  <a:srgbClr val="ffffcc"/>
                </a:solidFill>
                <a:latin typeface="Tahoma"/>
              </a:rPr>
              <a:t>Zeitliche Wirkung eines Einreiseverbots</a:t>
            </a:r>
            <a:endParaRPr b="0" lang="en-US" sz="40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a:t>
            </a:r>
            <a:r>
              <a:rPr b="0" lang="de-DE" sz="2000" spc="-1" strike="noStrike">
                <a:solidFill>
                  <a:srgbClr val="ffffff"/>
                </a:solidFill>
                <a:latin typeface="Tahoma"/>
              </a:rPr>
              <a:t>rsonen, gegen die aus Gründen der öffentlichen Ordnung oder Sicherheit ein Aufenthaltsverbot verhängt worden ist, können nach einem entsprechend den Umständen angemessenen Zeitraum, in jedem Fall aber drei Jahre nach Vollstreckung des nach dem Gemeinschaftsrecht ordnungsgemäß erlassenen endgültigen Aufenthaltsverbots einen Antrag auf Aufhebung des Aufenthaltsverbots unter Hinweis darauf einreichen, dass eine materielle Änderung der Umstände eingetreten ist, die das Aufenthaltsverbot gerechtfertigt hab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r betreffende Mitgliedstaat muss binnen sechs Monaten nach Einreichung des Antrags eine Entscheidung treff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Personen gemäß Absatz (1) sind nicht berechtigt, während der Prüfung ihres Antrags in das Hoheitsgebiet des betreffenden Mitgliedstaats einzureis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Ausweisung als Strafe oder Nebenstrafe</a:t>
            </a:r>
            <a:endParaRPr b="0" lang="en-US" sz="4000" spc="-1" strike="noStrike">
              <a:solidFill>
                <a:srgbClr val="ffffcc"/>
              </a:solidFill>
              <a:latin typeface="Tahoma"/>
            </a:endParaRPr>
          </a:p>
        </p:txBody>
      </p:sp>
      <p:sp>
        <p:nvSpPr>
          <p:cNvPr id="4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Aufnahmemitgliedstaat kann eine Ausweisungsverfügung als Strafe oder Nebenstrafe zu einer Freiheitsstrafe nur erlassen, wenn die Voraussetzungen der Artikel 27, 28 und 29 eingehalten werden</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ird eine Ausweisungsverfügung nach Absatz </a:t>
            </a:r>
            <a:r>
              <a:rPr b="0" lang="ro-RO" sz="2400" spc="-1" strike="noStrike">
                <a:solidFill>
                  <a:srgbClr val="ffffff"/>
                </a:solidFill>
                <a:latin typeface="Tahoma"/>
              </a:rPr>
              <a:t>(</a:t>
            </a:r>
            <a:r>
              <a:rPr b="0" lang="de-DE" sz="2400" spc="-1" strike="noStrike">
                <a:solidFill>
                  <a:srgbClr val="ffffff"/>
                </a:solidFill>
                <a:latin typeface="Tahoma"/>
              </a:rPr>
              <a:t>1</a:t>
            </a:r>
            <a:r>
              <a:rPr b="0" lang="ro-RO" sz="2400" spc="-1" strike="noStrike">
                <a:solidFill>
                  <a:srgbClr val="ffffff"/>
                </a:solidFill>
                <a:latin typeface="Tahoma"/>
              </a:rPr>
              <a:t>)</a:t>
            </a:r>
            <a:r>
              <a:rPr b="0" lang="de-DE" sz="2400" spc="-1" strike="noStrike">
                <a:solidFill>
                  <a:srgbClr val="ffffff"/>
                </a:solidFill>
                <a:latin typeface="Tahoma"/>
              </a:rPr>
              <a:t> mehr als zwei Jahre nach ihrem Erlass vollstreckt, so muss der Mitgliedstaat überprüfen, ob von dem Betroffenen eine gegenwärtige und tatsächliche Gefahr für die öffentliche Ordnung oder Sicherheit ausgeht, und beurteilen, ob seit dem Erlass der Ausweisungsverfügung eine materielle Änderung der Umstände eingetreten 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rbreitung von Informationen</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Mitgliedstaaten verbreiten die Informationen hinsichtlich der Rechte und Pflichten der Unionsbürger und ihrer Familienangehörigen in den von dieser Richtlinie erfassten Bereichen, insbesondere durch Sensibilisierungskampagnen über nationale und lokale Medien und andere Kommunikationsmitt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htsmissbrauch </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anchor="t">
            <a:normAutofit fontScale="90000"/>
          </a:bodyPr>
          <a:p>
            <a:pPr marL="308520" indent="-3085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Mitgliedstaaten können die Maßnahmen erlassen, die notwendig sind, um die durch diese Richtlinie verliehenen Rechte im Falle von Rechtsmissbrauch oder Betrug - wie z.B. durch Eingehung von Scheinehen - zu verweigern, aufzuheben oder zu widerrufen. Solche Maßnahmen müssen verhältnismäßig sein und unterliegen den Verfahrensgarantien nach den Artikeln 30 und 3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anktione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de-DE" sz="3200" spc="-1" strike="noStrike">
                <a:solidFill>
                  <a:srgbClr val="ffffff"/>
                </a:solidFill>
                <a:latin typeface="Tahoma"/>
              </a:rPr>
              <a:t>Die Mitgliedstaaten legen Bestimmungen über Sanktionen fest, die bei einem Verstoß gegen die einzelstaatlichen Vorschriften zur Umsetzung dieser Richtlinie zu verhängen sind, und treffen die zu ihrer Durchsetzung erforderlichen Maßnahmen. Die Sanktionen müssen wirksam und verhältnismäßig sein. Die Mitgliedstaaten teilen diese Bestimmungen der Kommission spätestens am </a:t>
            </a:r>
            <a:r>
              <a:rPr b="0" lang="ro-RO" sz="3200" spc="-1" strike="noStrike">
                <a:solidFill>
                  <a:srgbClr val="ffffff"/>
                </a:solidFill>
                <a:latin typeface="Tahoma"/>
              </a:rPr>
              <a:t>30 April 2006 </a:t>
            </a:r>
            <a:r>
              <a:rPr b="0" lang="de-DE" sz="3200" spc="-1" strike="noStrike">
                <a:solidFill>
                  <a:srgbClr val="ffffff"/>
                </a:solidFill>
                <a:latin typeface="Tahoma"/>
              </a:rPr>
              <a:t>und eventuelle spätere Änderungen so rasch wie möglich m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ünstigere innerstaatliche Rechtsvorschriften </a:t>
            </a:r>
            <a:endParaRPr b="0" lang="en-US" sz="4000" spc="-1" strike="noStrike">
              <a:solidFill>
                <a:srgbClr val="ffffcc"/>
              </a:solidFill>
              <a:latin typeface="Tahoma"/>
            </a:endParaRPr>
          </a:p>
        </p:txBody>
      </p:sp>
      <p:sp>
        <p:nvSpPr>
          <p:cNvPr id="47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se Richtlinie lässt Rechts- und Verwaltungsvorschriften der Mitgliedstaaten, die für die in den Anwendungsbereich dieser Richtlinie fallenden Personen günstiger sind, unberührt</a:t>
            </a:r>
            <a:r>
              <a:rPr b="0" lang="ro-RO"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Umsetzung</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e Mitgliedstaaten set</a:t>
            </a:r>
            <a:r>
              <a:rPr b="0" lang="de-DE" sz="2400" spc="-1" strike="noStrike">
                <a:solidFill>
                  <a:srgbClr val="ffffff"/>
                </a:solidFill>
                <a:latin typeface="Tahoma"/>
              </a:rPr>
              <a:t>zen Rechts- und Verwaltungsvorschriften in Kraft, die erfoerderlich sind um dieser Richtlinie bis zum 30 April 2006 nachzukommen. Die Mitgliedstaaten unterrichten die Kommission unverzüglich davon. </a:t>
            </a:r>
            <a:endParaRPr b="0" lang="en-US" sz="2400" spc="-1" strike="noStrike">
              <a:solidFill>
                <a:srgbClr val="ffffff"/>
              </a:solidFill>
              <a:latin typeface="Tahoma"/>
            </a:endParaRPr>
          </a:p>
          <a:p>
            <a:pPr marL="312120" indent="-31212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die Mitgliedstaaten diese Vorschriften erlassen, nehmen sie in den Vorschriften selbst oder durch einen Hinweis bei der amtlichen Veröffentlichung auf diese Richtlinie Bezug. Die Mitgliedstaaten regeln die Einzelheiten der Bezugnahme.</a:t>
            </a:r>
            <a:endParaRPr b="0" lang="en-US" sz="2400" spc="-1" strike="noStrike">
              <a:solidFill>
                <a:srgbClr val="ffffff"/>
              </a:solidFill>
              <a:latin typeface="Tahoma"/>
            </a:endParaRPr>
          </a:p>
          <a:p>
            <a:pPr marL="312120" indent="-31212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Mitgliedstaaten teilen der Kommission den Wortlaut der innerstaatlichen Rechtsvorschriften mit, die sie auf dem unter diese Richtlinie fallenden Gebiet erlassen und übermitteln ihr eine Entsprechungstabelle zwischen den Bestimmungen dieser Richtlinie und den von ihnen erlassenen innerstaatlichen Vorschrif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Umsetzung der Richtlinie in Rumänien</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ILVERORDNUNG </a:t>
            </a:r>
            <a:r>
              <a:rPr b="0" lang="ro-RO" sz="2000" spc="-1" strike="noStrike">
                <a:solidFill>
                  <a:srgbClr val="ffffff"/>
                </a:solidFill>
                <a:latin typeface="Tahoma"/>
              </a:rPr>
              <a:t>Nr. 102 </a:t>
            </a:r>
            <a:r>
              <a:rPr b="0" lang="de-DE" sz="2000" spc="-1" strike="noStrike">
                <a:solidFill>
                  <a:srgbClr val="ffffff"/>
                </a:solidFill>
                <a:latin typeface="Tahoma"/>
              </a:rPr>
              <a:t>vom </a:t>
            </a:r>
            <a:r>
              <a:rPr b="0" lang="ro-RO" sz="2000" spc="-1" strike="noStrike">
                <a:solidFill>
                  <a:srgbClr val="ffffff"/>
                </a:solidFill>
                <a:latin typeface="Tahoma"/>
              </a:rPr>
              <a:t>14 </a:t>
            </a:r>
            <a:r>
              <a:rPr b="0" lang="de-DE" sz="2000" spc="-1" strike="noStrike">
                <a:solidFill>
                  <a:srgbClr val="ffffff"/>
                </a:solidFill>
                <a:latin typeface="Tahoma"/>
              </a:rPr>
              <a:t>Juli </a:t>
            </a:r>
            <a:r>
              <a:rPr b="0" lang="ro-RO" sz="2000" spc="-1" strike="noStrike">
                <a:solidFill>
                  <a:srgbClr val="ffffff"/>
                </a:solidFill>
                <a:latin typeface="Tahoma"/>
              </a:rPr>
              <a:t>2005    *** </a:t>
            </a:r>
            <a:r>
              <a:rPr b="0" lang="de-DE" sz="2000" spc="-1" strike="noStrike">
                <a:solidFill>
                  <a:srgbClr val="ffffff"/>
                </a:solidFill>
                <a:latin typeface="Tahoma"/>
              </a:rPr>
              <a:t>in der wiederveröffentlichen Fassung, über das Recht der Staatsbürger der EU-Mitgliedstaaten, des Europäischen Wirtschaftsraums und der Staatsbürger der Schweizerischen Eindgenossenschaft sich auf dem Hoheitsgebiet Rumäniens frei zu beweg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liegende Eilverordnung setzt </a:t>
            </a:r>
            <a:r>
              <a:rPr b="0" lang="de-DE" sz="2000" spc="-1" strike="noStrike" u="sng">
                <a:solidFill>
                  <a:srgbClr val="ffffff"/>
                </a:solidFill>
                <a:uFillTx/>
                <a:latin typeface="Tahoma"/>
              </a:rPr>
              <a:t>Richtlinie </a:t>
            </a:r>
            <a:r>
              <a:rPr b="0" lang="ro-RO" sz="2000" spc="-1" strike="noStrike">
                <a:solidFill>
                  <a:srgbClr val="ffffff"/>
                </a:solidFill>
                <a:latin typeface="Tahoma"/>
              </a:rPr>
              <a:t>38/2004/CE </a:t>
            </a:r>
            <a:r>
              <a:rPr b="0" lang="de-DE" sz="2000" spc="-1" strike="noStrike">
                <a:solidFill>
                  <a:srgbClr val="ffffff"/>
                </a:solidFill>
                <a:latin typeface="Tahoma"/>
              </a:rPr>
              <a:t> des Europäichen Parlaments und des Rates über das Recht der Unionsbürger und ihrer Familienangehörigen, sich im Hoheitsgebiet der Mitgliedstaaten frei zu bewegen und aufzuhalten, zur Änderung der </a:t>
            </a:r>
            <a:r>
              <a:rPr b="0" lang="de-DE" sz="2000" spc="-1" strike="noStrike" u="sng">
                <a:solidFill>
                  <a:srgbClr val="ffffff"/>
                </a:solidFill>
                <a:uFillTx/>
                <a:latin typeface="Tahoma"/>
              </a:rPr>
              <a:t>Verordnung (EWG) Nr. 1612/68</a:t>
            </a:r>
            <a:r>
              <a:rPr b="0" lang="de-DE" sz="2000" spc="-1" strike="noStrike">
                <a:solidFill>
                  <a:srgbClr val="ffffff"/>
                </a:solidFill>
                <a:latin typeface="Tahoma"/>
              </a:rPr>
              <a:t> und zur Aufhebung der Richtlinien 64/221/EWG, 68/360/EWG, 72/194/EWG, 73/148/EWG, 75/34/EWG, 75/35/EWG, 90/364/EWG, 90/365/EWG und 93/96/EWG, veröffentlicht im Amtsblatt der Europäischen Union Nr. 158 vom 30 April 2004.</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Bericht der Kommission: Die Umsetzung der Richtlinie über d</a:t>
            </a:r>
            <a:r>
              <a:rPr b="0" lang="de-DE" sz="2400" spc="-1" strike="noStrike">
                <a:solidFill>
                  <a:srgbClr val="ffffcc"/>
                </a:solidFill>
                <a:latin typeface="Tahoma"/>
              </a:rPr>
              <a:t>as Recht der Unionsbürger und ihrer Familienangehörigen, sich im Hoheitsgebiet der Mitgliedstaaten frei zu bewegen und aufzuhalten, ist eher enttäuschend</a:t>
            </a:r>
            <a:br>
              <a:rPr sz="2400"/>
            </a:br>
            <a:r>
              <a:rPr b="0" lang="en-US" sz="2400" spc="-1" strike="noStrike">
                <a:solidFill>
                  <a:srgbClr val="ffffcc"/>
                </a:solidFill>
                <a:latin typeface="Tahoma"/>
              </a:rPr>
              <a:t>Veröffentlicht: 11 Dezember 2008</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79" name="PlaceHolder 2"/>
          <p:cNvSpPr>
            <a:spLocks noGrp="1"/>
          </p:cNvSpPr>
          <p:nvPr>
            <p:ph/>
          </p:nvPr>
        </p:nvSpPr>
        <p:spPr>
          <a:xfrm>
            <a:off x="380520" y="2590560"/>
            <a:ext cx="8541000" cy="4498920"/>
          </a:xfrm>
          <a:prstGeom prst="rect">
            <a:avLst/>
          </a:prstGeom>
          <a:noFill/>
          <a:ln w="0">
            <a:noFill/>
          </a:ln>
        </p:spPr>
        <p:txBody>
          <a:bodyPr anchor="t">
            <a:normAutofit/>
          </a:bodyPr>
          <a:p>
            <a:pPr marL="343080" indent="-343080">
              <a:lnSpc>
                <a:spcPct val="90000"/>
              </a:lnSpc>
              <a:spcBef>
                <a:spcPts val="5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ahoma"/>
              </a:rPr>
              <a:t>Die Kommission hat einen Bericht über die Umsetzung der Richtlinie 2004/38/EG über das Recht der Unionsbürger und ihrer Familienangehörigen, sich im Hoheitsgebiet der Mitgliedstaaten frei zu bewegen und aufzuhalten, angenommen. Die Schlußfolgerung der Kommision ist, dass die Umsetzung dieser Richtlinie eher enttäuschend ist.</a:t>
            </a:r>
            <a:endParaRPr b="0" lang="en-US" sz="2200" spc="-1" strike="noStrike">
              <a:solidFill>
                <a:srgbClr val="ffffff"/>
              </a:solidFill>
              <a:latin typeface="Tahoma"/>
            </a:endParaRPr>
          </a:p>
          <a:p>
            <a:pPr marL="343080" indent="-343080">
              <a:lnSpc>
                <a:spcPct val="90000"/>
              </a:lnSpc>
              <a:spcBef>
                <a:spcPts val="5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ahoma"/>
              </a:rPr>
              <a:t>Des Weiteren führt der Bericht jene Maßnahmen auf, die die Kommission einleiten wird um sicherzustellen, dass die Mitgliedstaaten ihre Rechtsgebung und Verwaltungskaten verbessern, sodass die Rechte der Unionsbürger nicht beeinträchtigt sind.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Vizepräsident der Europäischen Kommission, Herr Jacques Barrot </a:t>
            </a:r>
            <a:endParaRPr b="0" lang="en-US" sz="40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de-DE" sz="2000" spc="-1" strike="noStrike">
                <a:solidFill>
                  <a:srgbClr val="ffffff"/>
                </a:solidFill>
                <a:latin typeface="Tahoma"/>
              </a:rPr>
              <a:t> </a:t>
            </a:r>
            <a:r>
              <a:rPr b="0" lang="de-DE" sz="2000" spc="-1" strike="noStrike">
                <a:solidFill>
                  <a:srgbClr val="ffffff"/>
                </a:solidFill>
                <a:latin typeface="Tahoma"/>
              </a:rPr>
              <a:t>Der freie Personenverkehr ist eine der Grundfreiheiten des Binnenmarktes, zum Nutzen der EU-Bürger, der Mitgliedstaaten und der Wettbewerbsfähigkeit der europäischen Wirtschaft. Mängel bei der Durchführung des Gemeinschaftsrechts in diesem Bereich können auf einen Verstoß gegen die Grundsätze hinauslaufen, die das Fundament Europas bilden. Deshalb will sich die Kommission verstärkt darum bemühen, sicherzustellen, dass EU-Bürger und ihre Familien ihre Rechte aufgrund der Richtlinie tatsächlich uneingeschränkt wahrnehmen können. Um dieses Ergebnis zu erreichen, wird die Kommission die ihr durch den Vertrag übertragenen Befugnisse voll ausschöpfen, d.h. gegebenenfalls Vertragsverletzungsverfahren einleiten, Leitlinien für die Mitgliedstaaten bereitstellen und gewährleisten, dass die Unionsbürger über ihre Rechte informiert werden</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ICHTIGE ECKPUNKT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 Weiteren:</a:t>
            </a:r>
            <a:endParaRPr b="0" lang="en-US" sz="2400" spc="-1" strike="noStrike">
              <a:solidFill>
                <a:srgbClr val="ffffff"/>
              </a:solidFill>
              <a:latin typeface="Tahoma"/>
            </a:endParaRPr>
          </a:p>
          <a:p>
            <a:pPr marL="325800" indent="-32580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ter bestimmten Bedingungen können Familienangehörige das Recht behalten, im betreffenden Land zu leben, wenn der EU-Bürger verstirbt oder das Land verlässt.</a:t>
            </a:r>
            <a:endParaRPr b="0" lang="en-US" sz="2400" spc="-1" strike="noStrike">
              <a:solidFill>
                <a:srgbClr val="ffffff"/>
              </a:solidFill>
              <a:latin typeface="Tahoma"/>
            </a:endParaRPr>
          </a:p>
          <a:p>
            <a:pPr marL="325800" indent="-32580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U-Bürger oder Familienangehörige können ausgewiesen werden, wenn ihr Verhalten das Grundinteresse der Gesellschaft bedroht.</a:t>
            </a:r>
            <a:endParaRPr b="0" lang="en-US" sz="2400" spc="-1" strike="noStrike">
              <a:solidFill>
                <a:srgbClr val="ffffff"/>
              </a:solidFill>
              <a:latin typeface="Tahoma"/>
            </a:endParaRPr>
          </a:p>
          <a:p>
            <a:pPr marL="325800" indent="-32580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s Krankheiten, die eine die Freizügigkeit beschränkende Maßnahme rechtfertigen, gelten ausschließlich die Krankheiten mit epidemischem Potenzial im Sinne der </a:t>
            </a:r>
            <a:r>
              <a:rPr b="0" lang="de-DE" sz="2400" spc="-1" strike="noStrike" u="sng">
                <a:solidFill>
                  <a:srgbClr val="a3c145"/>
                </a:solidFill>
                <a:uFillTx/>
                <a:latin typeface="Tahoma"/>
                <a:hlinkClick r:id="rId1"/>
              </a:rPr>
              <a:t>Weltgesundheitsorganisation</a:t>
            </a:r>
            <a:r>
              <a:rPr b="0" lang="de-DE"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ericht </a:t>
            </a:r>
            <a:r>
              <a:rPr b="0" lang="ro-RO" sz="4400" spc="-1" strike="noStrike">
                <a:solidFill>
                  <a:srgbClr val="ffffcc"/>
                </a:solidFill>
                <a:latin typeface="Tahoma"/>
              </a:rPr>
              <a:t>200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 der Richtlinie 2004/38/EG steht ein einziges Rechtsinstrument für die Freizügigkeit der Unionsbürger und ihrer Familienangehörigen zur Verfügung. Sie legt einfache Verwaltungsformalitäten fest und räumt Unionsbürgern und ihren Familien nach fünfjährigem Aufenthalt im Aufnahmemitgliedstaat das Recht auf Daueraufenthalt ein. Unter bestimmten Voraussetzungen erweitert die Richtlinie  das Recht auf Familienzusammenführung auf eingetragene Lebenspartner.</a:t>
            </a:r>
            <a:r>
              <a:rPr b="0" lang="en-US"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ie Mitgliedstaaten hatten die erforderlichen Rechts- und Verwaltungsvorschriften zu erlassen, um diese Richtlinie bis zum 30. April 2006 umzusetzen. Eine der Aufgaben der Kommission besteht darin, dafür zu sorgen, dass die Rechtsvorschriften der EU auf nationaler und lokaler Ebene im Interesse der Unionsbürger tatsächlich umgesetzt werden. Nach zweieinhalb Jahren ist es an der Zeit, Bilanz zu ziehen und zu prüfen, wie die Mitgliedstaaten ihrer Verpflichtung nachgekommen sind.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lle Mitgliedstaaten haben einzelstaatliche Rechtsvorschriften zum Schutz des Rechts der Unionsbürger und ihrer Familien, sich in der EU frei zu bewege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U-Bürger und ihre Familien werden zwar in nationalen Rechtsvorschriften auf manchen Gebieten besser behandelt als vom Gemeinschaftsrecht gefordert, aber kein einziger Mitgliedstaat hat die gesamte Richtlinie tatsächlich korrekt umgesetzt. Kein einziger Artikel der Richtlinie wurde von allen Mitgliedstaaten korrekt und wirksam umgesetzt</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ericht </a:t>
            </a:r>
            <a:r>
              <a:rPr b="0" lang="ro-RO" sz="4400" spc="-1" strike="noStrike">
                <a:solidFill>
                  <a:srgbClr val="ffffcc"/>
                </a:solidFill>
                <a:latin typeface="Tahoma"/>
              </a:rPr>
              <a:t>2008</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sgesamt ist die Umsetzung der Richtlinie eher enttäuschend.</a:t>
            </a: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ur Zypern, Griechenland, Finnland, Portugal, Malta, Luxemburg und Spanien haben mehr als 85% der Bestimmungen der Richtlinie korrekt übernommen. </a:t>
            </a: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derenseits  haben Österreich, Dänemark, Estland, Slowenien und die Slowakei weniger als 60% der Bestimmungen der Richtlinie übernommen. </a:t>
            </a: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Situation wird dadurch relativiert, dass unsachgemäß umgesetzte Bestimmungen der Richtlinie, zumindest in einigen Fällen, anscheinend von den nationalen Gerichten und Behörden korrekt angewandt werden, auch wenn keine eindeutigen schriftlichen Leitlinien für den gerichtlichen und administrativen Ermessensspielraum auf diesem Gebiet vorhanden sind</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Die Probleme, die eine anhaltende Verletzung der wichtigsten Rechte von Unionsbürgern bei der Ausübung ihres Freizügigkeitsrechts offenbaren, betreffen hauptsächlich:</a:t>
            </a:r>
            <a:endParaRPr b="0" lang="en-US" sz="2400" spc="-1" strike="noStrike">
              <a:solidFill>
                <a:srgbClr val="ffffcc"/>
              </a:solidFill>
              <a:latin typeface="Tahoma"/>
            </a:endParaRPr>
          </a:p>
        </p:txBody>
      </p:sp>
      <p:sp>
        <p:nvSpPr>
          <p:cNvPr id="48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de-DE" sz="2000" spc="-1" strike="noStrike">
                <a:solidFill>
                  <a:srgbClr val="ffffff"/>
                </a:solidFill>
                <a:latin typeface="Tahoma"/>
              </a:rPr>
              <a:t> </a:t>
            </a:r>
            <a:r>
              <a:rPr b="0" lang="de-DE" sz="2000" spc="-1" strike="noStrike">
                <a:solidFill>
                  <a:srgbClr val="ffffff"/>
                </a:solidFill>
                <a:latin typeface="Tahoma"/>
              </a:rPr>
              <a:t>das Recht auf Einreise und Aufenthalt von Familienangehörigen aus Drittstaaten (Probleme mit Einreisevisa oder beim Grenzübertritt, nicht in der Richtlinie vorgesehene Bedingungen für das Aufenthaltsrecht und verspätete Ausstellung von Aufenthaltskart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de-DE" sz="2000" spc="-1" strike="noStrike">
                <a:solidFill>
                  <a:srgbClr val="ffffff"/>
                </a:solidFill>
                <a:latin typeface="Tahoma"/>
              </a:rPr>
              <a:t>die Anforderung an Unionsbürger, mit dem Antrag auf Aufenthaltsgenehmigung zusätzliche Dokumente einzureichen, die in der Richtlinie nicht vorgesehen werd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Mitgliedstaaten sind dafür verantwortlich, dass die Rechte der Unionsbürger garantiert und die Unionsbürger korrekt über ihre Rechte informiert werd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Kommission wird auf fachlicher Ebene weiter mit den Mitgliedstaaten zusammenarbeiten. Im Rahmen dieser Arbeit wurden bereits einige Aspekte, insbesondere im Hinblick auf Kriminalität und Missbrauch, herauskristallisiert, die weiterer Diskussion und Klärung bedürfe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5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Die Rechtsprechung des EuGH </a:t>
            </a:r>
            <a:r>
              <a:rPr b="0" lang="en-US" sz="2400" spc="-1" strike="noStrike">
                <a:solidFill>
                  <a:srgbClr val="ffffcc"/>
                </a:solidFill>
                <a:latin typeface="Tahoma"/>
              </a:rPr>
              <a:t>in Sachen zur Freizügigkeit, insbesondere Rechtssachen Metock, Jipa und Huber, hat folgende Grundsätze hervorgehobe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89" name="PlaceHolder 2"/>
          <p:cNvSpPr>
            <a:spLocks noGrp="1"/>
          </p:cNvSpPr>
          <p:nvPr>
            <p:ph/>
          </p:nvPr>
        </p:nvSpPr>
        <p:spPr>
          <a:xfrm>
            <a:off x="457200" y="1981080"/>
            <a:ext cx="8229600" cy="453096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in Drittstaatsangehöriger, der als Ehegatte eines Unionsbürgers den Unionsbürger begleitet oder ihm nachzieht, kann sich unabhängig von dem Ort und dem Zeitpunkt der Eheschließung und ohne einen vorherigen legalen Wohnsitz nachweisen zu müssen, auf die Bestimmungen dieser Richtlinie berufen </a:t>
            </a:r>
            <a:r>
              <a:rPr b="0" lang="de-DE" sz="3200" spc="-1" strike="noStrike">
                <a:solidFill>
                  <a:srgbClr val="ffffff"/>
                </a:solidFill>
                <a:latin typeface="Tahoma"/>
              </a:rPr>
              <a:t>-</a:t>
            </a:r>
            <a:r>
              <a:rPr b="0" lang="ro-RO" sz="3200" spc="-1" strike="noStrike">
                <a:solidFill>
                  <a:srgbClr val="ffffff"/>
                </a:solidFill>
                <a:latin typeface="Tahoma"/>
              </a:rPr>
              <a:t>Met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echtssache</a:t>
            </a:r>
            <a:r>
              <a:rPr b="0" lang="ro-RO" sz="4400" spc="-1" strike="noStrike">
                <a:solidFill>
                  <a:srgbClr val="ffffcc"/>
                </a:solidFill>
                <a:latin typeface="Tahoma"/>
              </a:rPr>
              <a:t>Jipa</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Artikel 18 EG-Vertrag und Artikel 27 der Richtlinie 2004/38/EG stehen einer nationalen Regelung nicht entgegen, nach der das Recht eines Staatsangehörigen eines Mitgliedstaats, sich in das Hoheitsgebiet eines anderen Mitgliedstaats zu begeben, insbesondere deshalb beschränkt werden darf, weil er zuvor von dort wegen „unbefugten Aufenthalts“ zurückgeführt wurde, sofern zum einen das persönliche Verhalten dieses Staatsangehörigen eine tatsächliche, gegenwärtige und erhebliche Gefahr darstellt, die ein Grundinteresse der Gesellschaft berührt, und zum anderen die vorgesehene beschränkende Maßnahme geeignet ist, die Erreichung des mit ihr verfolgten Zieles zu gewährleisten, und nicht über das hinausgeht, was zur Erreichung dieses Zieles erforderlich ist. Es ist Sache des vorlegenden Gerichts, festzustellen, ob dies bei dem Sachverhalt, mit dem es befasst ist, der Fall ist </a:t>
            </a:r>
            <a:r>
              <a:rPr b="0" lang="en-US" sz="2400" spc="-1" strike="noStrike" u="sng">
                <a:solidFill>
                  <a:srgbClr val="a3c145"/>
                </a:solidFill>
                <a:uFillTx/>
                <a:latin typeface="Tahoma"/>
                <a:hlinkClick r:id="rId1"/>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echtssache </a:t>
            </a:r>
            <a:r>
              <a:rPr b="0" lang="ro-RO" sz="4400" spc="-1" strike="noStrike">
                <a:solidFill>
                  <a:srgbClr val="ffffcc"/>
                </a:solidFill>
                <a:latin typeface="Tahoma"/>
              </a:rPr>
              <a:t>Huber</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Artikel 12 Absatz (1) EG-Vertrag ist dahin auszulegen, dass er es einem Mitgliedstaat verwehrt, zur Bekämpfung der Kriminalität ein System zur Verarbeitung personenbezogener Daten zu errichten, das nur Unionsbürger erfasst, die keine Staatsangehörigen dieses Mitgliedstaats si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617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ahoma"/>
              </a:rPr>
              <a:t>Restriktive Auslegung der Begriffe „Familienangehöriger“ (Artikel 2), „nicht unter die Definition […] fallende Familienangehörige“ und „Lebenspartner“ (Artikel 3) durch die Mitgliedstaaten, insbesondere in Bezug auf gleichgeschlechtliche Partner und deren Recht auf Freizügigkeit nach der Richtlinie 2004/38/EG</a:t>
            </a:r>
            <a:br>
              <a:rPr sz="2400"/>
            </a:br>
            <a:endParaRPr b="0" lang="en-US" sz="2400" spc="-1" strike="noStrike">
              <a:solidFill>
                <a:srgbClr val="ffffcc"/>
              </a:solidFill>
              <a:latin typeface="Tahoma"/>
            </a:endParaRPr>
          </a:p>
        </p:txBody>
      </p:sp>
      <p:sp>
        <p:nvSpPr>
          <p:cNvPr id="495" name="PlaceHolder 2"/>
          <p:cNvSpPr>
            <a:spLocks noGrp="1"/>
          </p:cNvSpPr>
          <p:nvPr>
            <p:ph/>
          </p:nvPr>
        </p:nvSpPr>
        <p:spPr>
          <a:xfrm>
            <a:off x="457200" y="3200040"/>
            <a:ext cx="8229600" cy="345924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Y, PL und SK erkennen gleichgeschlechtliche Ehen nicht als Grund für die Gewährung des Rechts auf Freizügigkeit an, PL und SK erkennen eingetragene Partnerschaften nicht an, auch wenn diese in einem anderen Mitgliedstaat eingetragen sind; in diesem Zusammenhang vorgelegte Informationen der Kommission, der Grundrechteagentur und von NRO weisen auf eine Rechtsunsicherheit in dieser Frage hin; Italien erkennt das Recht gleichgeschlechtlicher Paare auf Freizügigkeit aus Gründen der öffentlichen Ordnung nicht an; es gibt einen generellen Trend gegen die Anerkennung von dritten/vierten Ehegatten</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Familienangehörigen aus Drittländern wird in Bezug auf die Einreise und den Aufenthalt ein ungerechtfertigter Verwaltungsaufwand auferlegt</a:t>
            </a:r>
            <a:endParaRPr b="0" lang="en-US" sz="2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us verschiedenen an die Organe der EU gerichteten Beschwerden und Petitionen geht hervor, dass die Mitgliedstaaten bei der vollständigen Anerkennung der Rechte von Familienangehörigen aus Drittländern sehr zögerlich handeln; so ist beispielsweise laut den Rechtsvorschriften des Vereinigten Königreichs, Litauens und Polens die Einreise von Familienangehörige aus Drittländern ohne Visum nicht gestattet. Legale und administrative Hürden, von denen Familienangehörige von Drittstaatsangehörigen betroffen sind, sind äußerst problematisch; die Rechtvorschriften des Vereinigten Königreichs schließen die Einriese von Familienangehörigen aus Drittstaaten, die eine von einem anderen Land ausgestellte Aufenthaltskarte besitzen, ohne Visum aus, und die Verwaltungsverfahren im Vereinigten Königreich erfordern lange Verzögerungen und ausführliche Unterlagen, wenn es um die Beantragung von Aufenthaltskarten für Familienangehörige von Drittstaatsangehörigen geht, was die Wahrnehmung des Rechts auf Freizügigkeit ebenfalls stark beeinträchtigt; Drittstaatsangehörige in Estland bekommen Probleme, wenn sie versuchen, mit einer Aufenthaltskarte einzureisen, die von einem anderen Land ausgestellt wurde, und Familienangehörige von Drittstaatsangehörigen, die ein Visum beantragen, mussten Visumgebühren zahlen; ein Drittstaatsangehöriger, der in Italien Familienzusammenführung beantragt, muss die Rechtmäßigkeit der Herkunft seiner wirtschaftlichen Ressourcen nachweisen, die die jährlichen Sozialleistungen nicht unterschreiten dürfen</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609120"/>
            <a:ext cx="830592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ffffcc"/>
                </a:solidFill>
                <a:latin typeface="Tahoma"/>
              </a:rPr>
              <a:t>Die Auslegung des Begriffs „ausreichende Existenzmittel“ nach Artikel 7 Absatz (1) Buchstabe (b) der Richtlinie 2004/38/EG durch die Mitgliedstaaten ist oft undeutlich, da die meisten Mitgliedstaaten einen Nachweis der ausreichenden Existenzmittel fordern; der Wortlaut „die Sozialhilfeleistungen des Aufnahmemitgliedstaats nicht unangemessen in Anspruch nehmen“ und die Frage, ob und in welchen Fällen die Entscheidung, einen Unionsbürger, der Sozialhilfeleistungen unangemessen in Anspruch nimmt, auszuweisen ist, ist in vielen Mitgliedstaaten ebenfalls nicht sicher geregelt.</a:t>
            </a:r>
            <a:endParaRPr b="0" lang="en-US" sz="2400" spc="-1" strike="noStrike">
              <a:solidFill>
                <a:srgbClr val="ffffcc"/>
              </a:solidFill>
              <a:latin typeface="Tahoma"/>
            </a:endParaRPr>
          </a:p>
        </p:txBody>
      </p:sp>
      <p:sp>
        <p:nvSpPr>
          <p:cNvPr id="499" name="PlaceHolder 2"/>
          <p:cNvSpPr>
            <a:spLocks noGrp="1"/>
          </p:cNvSpPr>
          <p:nvPr>
            <p:ph/>
          </p:nvPr>
        </p:nvSpPr>
        <p:spPr>
          <a:xfrm>
            <a:off x="457200" y="4647960"/>
            <a:ext cx="8229600" cy="160020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eispielsweise in Bezug auf das italienische Recht, wonach EU-Bürger nachweisen müssen, dass sie über ausreichende Mittel verfü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8394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 </a:t>
            </a:r>
            <a:r>
              <a:rPr b="0" lang="de-DE" sz="2400" spc="-1" strike="noStrike">
                <a:solidFill>
                  <a:srgbClr val="ffffcc"/>
                </a:solidFill>
                <a:latin typeface="Tahoma"/>
              </a:rPr>
              <a:t>die Auslegung der Wortlauts „schwerwiegende/zwingende Gründe der öffentlichen Ordnung und Sicherheit“ durch die Mitgliedstaaten und die Frage, in welchen Fällen und aus welchen Gründen sich eine Ausweisungsverfügung begründen lässt (Artikel 27 und 28) variieren in den einzelnen Mitgliedstaaten, sind undeutlich und können zu Missbrauch führen (zuungunsten der Bürger eines bestimmten Mitgliedstaats) oder sind von zweifelhafter Übereinstimmung mit der Richtlinie 2004/38/EG (z. B. automatische Ausweisungen)</a:t>
            </a:r>
            <a:endParaRPr b="0" lang="en-US" sz="2400" spc="-1" strike="noStrike">
              <a:solidFill>
                <a:srgbClr val="ffffcc"/>
              </a:solidFill>
              <a:latin typeface="Tahoma"/>
            </a:endParaRPr>
          </a:p>
        </p:txBody>
      </p:sp>
      <p:sp>
        <p:nvSpPr>
          <p:cNvPr id="501" name="PlaceHolder 2"/>
          <p:cNvSpPr>
            <a:spLocks noGrp="1"/>
          </p:cNvSpPr>
          <p:nvPr>
            <p:ph/>
          </p:nvPr>
        </p:nvSpPr>
        <p:spPr>
          <a:xfrm>
            <a:off x="301680" y="3873600"/>
            <a:ext cx="8540640" cy="2225520"/>
          </a:xfrm>
          <a:prstGeom prst="rect">
            <a:avLst/>
          </a:prstGeom>
          <a:noFill/>
          <a:ln w="0">
            <a:noFill/>
          </a:ln>
        </p:spPr>
        <p:txBody>
          <a:bodyPr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rtikel 235 des italienischen Strafgesetzbuchs  sieht beispielsweise die Ausweisung von Ausländern vor, die zu einer Freiheitsstrafe von zwei oder mehr Jahren verurteilt wurd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SEIT WANN IST DIE RICHTLINIE IN KRAFT?</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 dem 30 April 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ahoma"/>
              </a:rPr>
              <a:t>Unionsbürger müssen den Behörden des Aufnahmemitgliedstaats oftmals ungerechtfertigt zusätzliche Dokumente vorlegen, die in der Richtlinie 2004/38/EG nicht vorgesehen sind</a:t>
            </a:r>
            <a:endParaRPr b="0" lang="en-US" sz="2800" spc="-1" strike="noStrike">
              <a:solidFill>
                <a:srgbClr val="ffffcc"/>
              </a:solidFill>
              <a:latin typeface="Tahoma"/>
            </a:endParaRPr>
          </a:p>
        </p:txBody>
      </p:sp>
      <p:sp>
        <p:nvSpPr>
          <p:cNvPr id="503" name="PlaceHolder 2"/>
          <p:cNvSpPr>
            <a:spLocks noGrp="1"/>
          </p:cNvSpPr>
          <p:nvPr>
            <p:ph/>
          </p:nvPr>
        </p:nvSpPr>
        <p:spPr>
          <a:xfrm>
            <a:off x="457200" y="2440080"/>
            <a:ext cx="8229600" cy="4037040"/>
          </a:xfrm>
          <a:prstGeom prst="rect">
            <a:avLst/>
          </a:prstGeom>
          <a:noFill/>
          <a:ln w="0">
            <a:noFill/>
          </a:ln>
        </p:spPr>
        <p:txBody>
          <a:bodyPr anchor="t">
            <a:normAutofit fontScale="91000"/>
          </a:bodyPr>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 einigen Fällen (Griechenland) sind die zuständigen Behörden gemäß den nationalen Vorschriften berechtigt, bei der Anmeldung eines Unionsbürgers dessen Vorstrafenregister zu verlangen, während in anderen Mitgliedstaaten (z. B. in Spanien und Belgien) spezielle Ausweise und Aufenthaltserlaubnisse für die Bürger anderer Mitgliedstaaten ausgestellt werden; in einigen anderen Mitgliedstaaten (ES) erhalten EU-Bürger zusätzlich zur Anmeldebescheinigung eine Identitätsnummer für Ausländer, die sie für die Arbeitsaufnahme und die Anmeldung bei der spanischen Sozialversicherung benötigen; in Italien müssen EU-Bürger die „Legalität“ ihrer Existenzmittel nachweis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4560" y="762120"/>
            <a:ext cx="83818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Die Entschließung des Europäischen Parlaments </a:t>
            </a:r>
            <a:r>
              <a:rPr b="0" lang="de-DE" sz="2400" spc="-1" strike="noStrike">
                <a:solidFill>
                  <a:srgbClr val="ffffcc"/>
                </a:solidFill>
                <a:latin typeface="Tahoma"/>
              </a:rPr>
              <a:t>fordert die Mitgliedstaaten auf, das Format der gegebenenfalls existierenden persönlichen Ausweispapiere ihrer Staatsangehörigen und der europäischen Bürger aus anderen Mitgliedstaaten unbeschadet der in ihrem Inhalt aufzuführenden Unterschiede anzugleichen</a:t>
            </a:r>
            <a:endParaRPr b="0" lang="en-US" sz="2400" spc="-1" strike="noStrike">
              <a:solidFill>
                <a:srgbClr val="ffffcc"/>
              </a:solidFill>
              <a:latin typeface="Tahoma"/>
            </a:endParaRPr>
          </a:p>
        </p:txBody>
      </p:sp>
      <p:sp>
        <p:nvSpPr>
          <p:cNvPr id="505" name="PlaceHolder 2"/>
          <p:cNvSpPr>
            <a:spLocks noGrp="1"/>
          </p:cNvSpPr>
          <p:nvPr>
            <p:ph/>
          </p:nvPr>
        </p:nvSpPr>
        <p:spPr>
          <a:xfrm>
            <a:off x="457200" y="3200040"/>
            <a:ext cx="8229600" cy="3505320"/>
          </a:xfrm>
          <a:prstGeom prst="rect">
            <a:avLst/>
          </a:prstGeom>
          <a:noFill/>
          <a:ln w="0">
            <a:noFill/>
          </a:ln>
        </p:spPr>
        <p:txBody>
          <a:bodyPr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Verwaltungsverfahren, die nicht den Rechtsvorschriften der Gemeinschaft entsprechen, wirken sich in erheblichem Maße negativ auf die Rechte der Bürger aus. Beispielsweise hat die Verbreitung unterschiedlicher Ausweispapiere und Aufenthaltskarten in den Mitgliedstaaten die Wahrnehmung des Rechts auf Freizügigkeit für die EU-Bürger verwirrend und mühsam gemacht; in Spanien erhalten EU-Bürger zusätzlich zur Anmeldebescheinigung eine Identitätsnummer für Ausländer (NIE – número de la identificación de extranjeros), die sie brauchen, um zu arbeiten oder sich bei der spanischen Sozialversicherung anzumelden, in Frankreich gibt es zusätzlich zur Anmeldebescheinigung immer noch einen unklaren freiwilligen Aufenthaltstitel für Unionsbürger, und die Behörden in einigen Mitgliedstaaten, zum Beispiel in der Tschechischen Republik, in Schweden und in Belgien, verlangen zusätzliche Dokumente, um Aufenthaltskarten auszustellen oder Auflagen zu fordern, die nicht in der Richtlinie aufgeführt sin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609480"/>
            <a:ext cx="83818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ahoma"/>
              </a:rPr>
              <a:t> </a:t>
            </a:r>
            <a:r>
              <a:rPr b="0" lang="de-DE" sz="2000" spc="-1" strike="noStrike">
                <a:solidFill>
                  <a:srgbClr val="ffffcc"/>
                </a:solidFill>
                <a:latin typeface="Tahoma"/>
              </a:rPr>
              <a:t>Bei Maßnahmen aus Gründen der öffentlichen Ordnung oder Sicherheit ist der Grundsatz der Verhältnismäßigkeit zu wahren und ausschließlich das persönliche Verhalten des Betroffenen sollte ausschlaggebend sein; ein solches persönliches Verhalten muss eine tatsächliche, gegenwärtige und hinreichend schwere Gefährdung eines der Grundinteressen der Gesellschaft darstellen; diesem Zusammenhang werden die Mitgliedstaaten aufgefordert, systematisch nationale Vorgaben zum Zwecke der Einreiseverweigerung für Unionsbürger und ihre Familienangehörigen zu überprüfen</a:t>
            </a:r>
            <a:endParaRPr b="0" lang="en-US" sz="2000" spc="-1" strike="noStrike">
              <a:solidFill>
                <a:srgbClr val="ffffcc"/>
              </a:solidFill>
              <a:latin typeface="Tahoma"/>
            </a:endParaRPr>
          </a:p>
        </p:txBody>
      </p:sp>
      <p:sp>
        <p:nvSpPr>
          <p:cNvPr id="507" name="PlaceHolder 2"/>
          <p:cNvSpPr>
            <a:spLocks noGrp="1"/>
          </p:cNvSpPr>
          <p:nvPr>
            <p:ph/>
          </p:nvPr>
        </p:nvSpPr>
        <p:spPr>
          <a:xfrm>
            <a:off x="457200" y="3962520"/>
            <a:ext cx="8229600" cy="2743200"/>
          </a:xfrm>
          <a:prstGeom prst="rect">
            <a:avLst/>
          </a:prstGeom>
          <a:noFill/>
          <a:ln w="0">
            <a:noFill/>
          </a:ln>
        </p:spPr>
        <p:txBody>
          <a:bodyPr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ie estnischen und ungarischen Rechtsvorschriften enthalten keinen deutlichen Ausschluss wirtschaftlicher Gründe, wenn es um die Durchsetzung einer Ausweisungsanordnung geht. </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 den ungarischen und rumänischen Rechtsvorschriften fehlt jeglicher Hinweis auf einen Ausschluss früherer strafrechtlicher Verurteilungen oder allgemeiner Präventionsmaßnahm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HLÜSSELBEGRIFFE</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 EU-Bürger: jede Person, die die Staatsangehörigkeit eines EU-Landes besitzt.</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 Familienangehöriger: Dies umfasst z. B. den Ehegatten, einen Lebenspartner, mit dem der EU-Bürger eine eingetragene Partnerschaft eingegangen ist, und direkte Verwandte, die unter 21 Jahre alt si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ERBUNDENE RECHTSAKTE</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ichtlinie </a:t>
            </a:r>
            <a:r>
              <a:rPr b="0" lang="de-DE" sz="1600" spc="-1" strike="noStrike" u="sng">
                <a:solidFill>
                  <a:srgbClr val="a3c145"/>
                </a:solidFill>
                <a:uFillTx/>
                <a:latin typeface="Tahoma"/>
                <a:hlinkClick r:id="rId1"/>
              </a:rPr>
              <a:t>2014/54/EU</a:t>
            </a:r>
            <a:r>
              <a:rPr b="0" lang="de-DE" sz="1600" spc="-1" strike="noStrike">
                <a:solidFill>
                  <a:srgbClr val="ffffff"/>
                </a:solidFill>
                <a:latin typeface="Tahoma"/>
              </a:rPr>
              <a:t> des Europäischen Parlaments und des Rates vom 16. April 2014 über Maßnahmen zur Erleichterung der Ausübung der Rechte, die Arbeitnehmern im Rahmen der Freizügigkeit zustehen (</a:t>
            </a:r>
            <a:r>
              <a:rPr b="0" lang="de-DE" sz="1600" spc="-1" strike="noStrike" u="sng">
                <a:solidFill>
                  <a:srgbClr val="a3c145"/>
                </a:solidFill>
                <a:uFillTx/>
                <a:latin typeface="Tahoma"/>
                <a:hlinkClick r:id="rId2"/>
              </a:rPr>
              <a:t>ABl. L 128 vom 30.4.2014, S. 8-14</a:t>
            </a:r>
            <a:r>
              <a:rPr b="0" lang="de-DE" sz="1600" spc="-1" strike="noStrike">
                <a:solidFill>
                  <a:srgbClr val="ffffff"/>
                </a:solidFill>
                <a:latin typeface="Tahoma"/>
              </a:rPr>
              <a:t>) </a:t>
            </a:r>
            <a:endParaRPr b="0" lang="en-US" sz="1600" spc="-1" strike="noStrike">
              <a:solidFill>
                <a:srgbClr val="ffffff"/>
              </a:solidFill>
              <a:latin typeface="Tahoma"/>
            </a:endParaRPr>
          </a:p>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teilung der Kommission an das Europäische Parlament und den Rat - Hilfestellung bei der Umsetzung und Anwendung der Richtlinie 2004/38/EG über das Recht der Unionsbürger und ihrer Familienangehörigen, sich im Hoheitsgebiet der Mitgliedstaaten frei zu bewegen und aufzuhalten (</a:t>
            </a:r>
            <a:r>
              <a:rPr b="0" lang="de-DE" sz="1600" spc="-1" strike="noStrike" u="sng">
                <a:solidFill>
                  <a:srgbClr val="a3c145"/>
                </a:solidFill>
                <a:uFillTx/>
                <a:latin typeface="Tahoma"/>
                <a:hlinkClick r:id="rId3"/>
              </a:rPr>
              <a:t>KOM(2009) 313 endgültig</a:t>
            </a:r>
            <a:r>
              <a:rPr b="0" lang="de-DE" sz="1600" spc="-1" strike="noStrike">
                <a:solidFill>
                  <a:srgbClr val="ffffff"/>
                </a:solidFill>
                <a:latin typeface="Tahoma"/>
              </a:rPr>
              <a:t> vom 2. Juli 2009)</a:t>
            </a:r>
            <a:endParaRPr b="0" lang="en-US" sz="1600" spc="-1" strike="noStrike">
              <a:solidFill>
                <a:srgbClr val="ffffff"/>
              </a:solidFill>
              <a:latin typeface="Tahoma"/>
            </a:endParaRPr>
          </a:p>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teilung der Kommission an das Europäische Parlament, den Rat, den Europäischen Wirtschafts- und Sozialausschuss und den Ausschuss der Regionen - Freizügigkeit der EU-Bürger und ihrer Familien: fünf grundlegende Maßnahmen (</a:t>
            </a:r>
            <a:r>
              <a:rPr b="0" lang="de-DE" sz="1600" spc="-1" strike="noStrike" u="sng">
                <a:solidFill>
                  <a:srgbClr val="a3c145"/>
                </a:solidFill>
                <a:uFillTx/>
                <a:latin typeface="Tahoma"/>
                <a:hlinkClick r:id="rId4"/>
              </a:rPr>
              <a:t>COM (2013) 837 final</a:t>
            </a:r>
            <a:r>
              <a:rPr b="0" lang="de-DE" sz="1600" spc="-1" strike="noStrike">
                <a:solidFill>
                  <a:srgbClr val="ffffff"/>
                </a:solidFill>
                <a:latin typeface="Tahoma"/>
              </a:rPr>
              <a:t> vom 25. November 2013)</a:t>
            </a:r>
            <a:endParaRPr b="0" lang="en-US" sz="1600" spc="-1" strike="noStrike">
              <a:solidFill>
                <a:srgbClr val="ffffff"/>
              </a:solidFill>
              <a:latin typeface="Tahoma"/>
            </a:endParaRPr>
          </a:p>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teilung der Kommission an das Europäische Parlament und den Rat - Unterstützung der nationalen Behörden bei der Bekämpfung von Missbräuchen des Rechts auf Freizügigkeit: Handbuch zum Vorgehen gegen mutmaßliche Scheinehen zwischen EU-Bürgern und Nicht-EU-Bürgern im Zusammenhang mit den EU-Rechtsvorschriften zur Freizügigkeit von EU-Bürgern (</a:t>
            </a:r>
            <a:r>
              <a:rPr b="0" lang="de-DE" sz="1600" spc="-1" strike="noStrike" u="sng">
                <a:solidFill>
                  <a:srgbClr val="a3c145"/>
                </a:solidFill>
                <a:uFillTx/>
                <a:latin typeface="Tahoma"/>
                <a:hlinkClick r:id="rId5"/>
              </a:rPr>
              <a:t>COM(2014) 604 final</a:t>
            </a:r>
            <a:r>
              <a:rPr b="0" lang="de-DE" sz="1600" spc="-1" strike="noStrike">
                <a:solidFill>
                  <a:srgbClr val="ffffff"/>
                </a:solidFill>
                <a:latin typeface="Tahoma"/>
              </a:rPr>
              <a:t> vom 26. September 201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 </a:t>
            </a:r>
            <a:r>
              <a:rPr b="0" lang="de-DE" sz="4000" spc="-1" strike="noStrike">
                <a:solidFill>
                  <a:srgbClr val="ffffcc"/>
                </a:solidFill>
                <a:latin typeface="Tahoma"/>
              </a:rPr>
              <a:t>Berechtigte </a:t>
            </a:r>
            <a:r>
              <a:rPr b="0" lang="ro-RO" sz="4000" spc="-1" strike="noStrike">
                <a:solidFill>
                  <a:srgbClr val="ffffcc"/>
                </a:solidFill>
                <a:latin typeface="Tahoma"/>
              </a:rPr>
              <a:t>ART. 3</a:t>
            </a:r>
            <a:br>
              <a:rPr sz="4000"/>
            </a:b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jede</a:t>
            </a:r>
            <a:r>
              <a:rPr b="0" lang="ro-RO" sz="1800" spc="-1" strike="noStrike">
                <a:solidFill>
                  <a:srgbClr val="ffffff"/>
                </a:solidFill>
                <a:latin typeface="Tahoma"/>
              </a:rPr>
              <a:t>r</a:t>
            </a:r>
            <a:r>
              <a:rPr b="0" lang="de-DE" sz="1800" spc="-1" strike="noStrike">
                <a:solidFill>
                  <a:srgbClr val="ffffff"/>
                </a:solidFill>
                <a:latin typeface="Tahoma"/>
              </a:rPr>
              <a:t> Unionsbürger, der sich in einen anderen als den Mitgliedstaat, dessen Staatsangehörigkeit er besitzt, begibt oder sich dort aufhält, sowie für seine Familienangehörigen im Sinne von Artikel 2 Nummer 2, die ihn begleiten oder ihm nachziehen.</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nbeschadet eines etwaigen persönlichen Rechts auf Freizügigkeit und Aufenthalt der Betroffenen erleichtert der Aufnahmemitgliedstaat nach Maßgabe seiner innerstaatlichen Rechtsvorschriften die Einreise und den Aufenthalt der folgenden Personen: </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t>
            </a:r>
            <a:r>
              <a:rPr b="0" lang="de-DE" sz="1800" spc="-1" strike="noStrike">
                <a:solidFill>
                  <a:srgbClr val="ffffff"/>
                </a:solidFill>
                <a:latin typeface="Tahoma"/>
              </a:rPr>
              <a:t>a) jedes nicht unter die Definition in Artikel 2 Nummer 2 fallenden Familienangehörigen ungeachtet seiner Staatsangehörigkeit, dem der primär aufenthaltsberechtigte Unionsbürger im Herkunftsland Unterhalt gewährt oder der mit ihm im Herkunftsland in häuslicher Gemeinschaft gelebt hat, oder wenn schwerwiegende gesundheitliche Gründe die persönliche Pflege des Familienangehörigen durch den Unionsbürger zwingend erforderlich machen; </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 des Lebenspartners, mit dem der Unionsbürger eine ordnungsgemäß bescheinigte dauerhafte Beziehung eingegangen ist. </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Aufnahmemitgliedstaat führt eine eingehende Untersuchung der persönlichen Umstände durch und begründet eine etwaige Verweigerung der Einreise oder des Aufenthalts dieser Person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00Z</dcterms:created>
  <dc:creator>Cristian Pup</dc:creator>
  <dc:description/>
  <dc:language>en-US</dc:language>
  <cp:lastModifiedBy>Costescu, Laura Renata</cp:lastModifiedBy>
  <dcterms:modified xsi:type="dcterms:W3CDTF">2016-08-15T10:06: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