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57B-107A-4DD7-8052-191557AD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2E6-A930-42C6-8403-FDD00BBA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48C-E912-45AA-A967-33F7B44B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FAF-3E26-4A15-B8BD-C75E35D3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624-D787-4622-8EE6-4DE09BB3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4B1-46D0-455E-A119-119DF581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9A6-6D77-433D-B333-5B42B810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D93-81C3-4227-82C5-0885A108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67C-3D22-4F9B-81D7-BB5179FA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6D3-AA87-4083-86DA-99C57C14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B63-193B-40C6-928E-1D87F193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4EC-4F26-43EF-BF52-6B8FCE9D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6AF42-F919-4C2C-8018-CFDE4024EED7}" type="slidenum">
              <a:rPr b="0" lang="de-DE" sz="1200" spc="-1" strike="noStrike">
                <a:solidFill>
                  <a:srgbClr val="898989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4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6600" spc="-1" strike="noStrike">
                <a:solidFill>
                  <a:srgbClr val="7f7f7f"/>
                </a:solidFill>
                <a:latin typeface="Book Antiqua"/>
              </a:rPr>
              <a:t>Provedba Direktive</a:t>
            </a:r>
            <a:r>
              <a:rPr b="0" lang="ro-RO" sz="6600" spc="-1" strike="noStrike">
                <a:solidFill>
                  <a:srgbClr val="7f7f7f"/>
                </a:solidFill>
                <a:latin typeface="Book Antiqua"/>
              </a:rPr>
              <a:t> E</a:t>
            </a:r>
            <a:r>
              <a:rPr b="0" lang="hr-HR" sz="6600" spc="-1" strike="noStrike">
                <a:solidFill>
                  <a:srgbClr val="7f7f7f"/>
                </a:solidFill>
                <a:latin typeface="Book Antiqua"/>
              </a:rPr>
              <a:t>U</a:t>
            </a:r>
            <a:r>
              <a:rPr b="0" lang="ro-RO" sz="6600" spc="-1" strike="noStrike">
                <a:solidFill>
                  <a:srgbClr val="7f7f7f"/>
                </a:solidFill>
                <a:latin typeface="Book Antiqua"/>
              </a:rPr>
              <a:t> 2004/38 </a:t>
            </a:r>
            <a:r>
              <a:rPr b="0" lang="hr-HR" sz="6600" spc="-1" strike="noStrike">
                <a:solidFill>
                  <a:srgbClr val="7f7f7f"/>
                </a:solidFill>
                <a:latin typeface="Book Antiqua"/>
              </a:rPr>
              <a:t>u njemačkom pravu 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49"/>
              </a:spcBef>
              <a:buClr>
                <a:srgbClr val="898989"/>
              </a:buClr>
              <a:buFont typeface="Book Antiqu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Sljedeće kategorije građana Unije uživaju pravo boravka dulje od tri mjeseca: </a:t>
            </a:r>
            <a:br>
              <a:rPr sz="2600"/>
            </a:b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Zaposlenici,  slobodne profesije i nezaposlene osobe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Book Antiqua"/>
              </a:rPr>
              <a:t>Građani Unije bez posla, studenti i učenici koji raspolažu dovoljnim sredstvima za život i imaju zdravstveno osiguranje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Osobe opravdane na dugotrajni boravak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nakon legalnog razdoblja od pet godina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Članovi obitelji tog građanina Unije, bez obzira na njihovo državljanstvo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Proizlazi da: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Građani Unije moraju biti sposobni uzdržavati sebe i članove svojih obitelji u slučaju boravka duljeg od ti mjeseca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6640" y="79200"/>
            <a:ext cx="8512200" cy="677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II.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Njemačko pravo, detaljno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600" spc="-1" strike="noStrike">
                <a:solidFill>
                  <a:srgbClr val="7f7f7f"/>
                </a:solidFill>
                <a:latin typeface="Book Antiqua"/>
              </a:rPr>
              <a:t>Članak </a:t>
            </a:r>
            <a:r>
              <a:rPr b="0" lang="ro-RO" sz="1600" spc="-1" strike="noStrike">
                <a:solidFill>
                  <a:srgbClr val="7f7f7f"/>
                </a:solidFill>
                <a:latin typeface="Book Antiqua"/>
              </a:rPr>
              <a:t>§ 2 </a:t>
            </a:r>
            <a:r>
              <a:rPr b="0" lang="hr-HR" sz="1600" spc="-1" strike="noStrike">
                <a:solidFill>
                  <a:srgbClr val="7f7f7f"/>
                </a:solidFill>
                <a:latin typeface="Book Antiqua"/>
              </a:rPr>
              <a:t>stavak</a:t>
            </a:r>
            <a:r>
              <a:rPr b="0" lang="ro-RO" sz="1600" spc="-1" strike="noStrike">
                <a:solidFill>
                  <a:srgbClr val="7f7f7f"/>
                </a:solidFill>
                <a:latin typeface="Book Antiqua"/>
              </a:rPr>
              <a:t> 2</a:t>
            </a:r>
            <a:r>
              <a:rPr b="0" lang="hr-HR" sz="1600" spc="-1" strike="noStrike">
                <a:solidFill>
                  <a:srgbClr val="7f7f7f"/>
                </a:solidFill>
                <a:latin typeface="Book Antiqua"/>
              </a:rPr>
              <a:t> Zakona o slobodnom kretanju</a:t>
            </a:r>
            <a:r>
              <a:rPr b="0" lang="ro-RO" sz="1600" spc="-1" strike="noStrike">
                <a:solidFill>
                  <a:srgbClr val="7f7f7f"/>
                </a:solidFill>
                <a:latin typeface="Book Antiqu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Imaju pravo na slobodno kretanje, u skladu s europskim zakonodavstvom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1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 koji žele odrediti svoje prebivalište kao zaposlenici ili poradi strukovne obuke,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1a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, koji traže radno mjesto, na razdoblje dulje od šest mjeseci ili više, ukoliko mogu dokazati da i dalje traže radno mjesto ili da postoje perspektive da će se zaposliti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,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2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ije kada zadovolje pretpostavke za obavljanje neovisne profesionalne djelatnosti (građani slobodnih zanimanja koji su se nastanili na teritoriju Njemačke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3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 Građani Unije koji,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bez da odrede svoje prebivaliăte,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žele obavljati usluge  </a:t>
            </a:r>
            <a:r>
              <a:rPr b="0" i="1" lang="hr-HR" sz="1500" spc="-1" strike="noStrike">
                <a:solidFill>
                  <a:srgbClr val="7f7f7f"/>
                </a:solidFill>
                <a:latin typeface="Book Antiqua"/>
              </a:rPr>
              <a:t>slobodnih zanimanja </a:t>
            </a:r>
            <a:r>
              <a:rPr b="0" i="1" lang="ro-RO" sz="15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u smislu članka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7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Sporazuma o funkcioniranju Europske Unije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 (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uslužne djelatnosti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),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ako imaju pravo pružati usluge,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4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 u svojstvu korisnika usluga,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5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 koji nemaju prihode, u uvjetima predviđenim u članku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 § 4,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6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Članovi obitelju u uvjetima predviđenim u člancima </a:t>
            </a: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 §§ 3 i 4,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7f7f7f"/>
                </a:solidFill>
                <a:latin typeface="Book Antiqua"/>
              </a:rPr>
              <a:t>7. </a:t>
            </a:r>
            <a:r>
              <a:rPr b="0" lang="hr-HR" sz="1500" spc="-1" strike="noStrike">
                <a:solidFill>
                  <a:srgbClr val="7f7f7f"/>
                </a:solidFill>
                <a:latin typeface="Book Antiqua"/>
              </a:rPr>
              <a:t>Građani Unije i članovi njihovih obitelji koji imaju dugotrajno pravo boravka.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4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a o slobodnom kretanju osoba</a:t>
            </a:r>
            <a:r>
              <a:rPr b="0" lang="ro-RO" sz="3200" spc="-1" strike="noStrike">
                <a:solidFill>
                  <a:srgbClr val="7f7f7f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Građanima Unije nije potrebna viza za ulazak u jednu državu, a za boravak nije im potrebna nikakav dokument o boravku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......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 članove obitelji bit će detaljnije opisan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3</a:t>
            </a: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Zakona o slobodi kretanj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U skladu s člankom 1, pravo ostaje netakuto za zaposlenika i za osobu slobodnog zanimanja u sljedećim slučajevima: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1.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Privremeno smanjenje sposobnosti za rad, slijedom bolesti ili  nesreće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2.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Nenamjerna nezaposlenost ustanovljena od strane Agencije za zapošljavanje radne snage u okolnostima na koje osobe slobodnog zanimanja nema nikakav utjecaj, nakon rada duljeg od godinu dan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3.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Započinjanje strukovne obuke, ako postoji veza između strukovne obuke i njegovog prijašnjeg zanimanja; takva veza nije potrebna onda kada je građanin Europske Unije izgubio svoje radno mjesto zbog razloga koji nemaju veze s njim osobno.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Ako je Agencija za zapošljavanje radne snage utvrdila da je osoba ostala bez posla bez svoje krivnje, tijekom manje od godine rada, pravo predviđeno u stavku 1 ostaje netaknuto na razdoblje od šest mjeseci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5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Zakona o slobodnom kretanju osoba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 boravak građana Unije do tri mjeseca u jednoj državi dovoljna je valjana osobna iskaznica ili valjana putovnica. Članovi obitelji koji nisu građani Unije imaju isto pravo, ako imaju priznatu ili prihvaćenu putovnicu, ili posjeduju drugi dokazni dokument, i ako su u pratnji građanina Unije ili se presele kod njeg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§ 4 </a:t>
            </a:r>
            <a:r>
              <a:rPr b="0" lang="hr-HR" sz="2400" spc="-1" strike="noStrike">
                <a:solidFill>
                  <a:srgbClr val="7f7f7f"/>
                </a:solidFill>
                <a:latin typeface="Book Antiqua"/>
              </a:rPr>
              <a:t>Zakon o slobodnom kretanju osoba</a:t>
            </a:r>
            <a:r>
              <a:rPr b="0" lang="ro-RO" sz="2400" spc="-1" strike="noStrike">
                <a:solidFill>
                  <a:srgbClr val="7f7f7f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Građani Unije koji ne obavljaju neku profesionalnu djelatnost i članovi njihovih obitelji koji ih prate ili se presele kod njih, imaju pravo sukladno članku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1,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 ako imaju sveobuhvatno zdravstveno osiguranje i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ako raspolažu dovoljnim sredstvima za život. U slučaju da se građanin nastani kao student na teritoriju Njemačke, ovim pravom raspolaže samo suprug/supruga, životni partner/partnerica ili njegova djeca, kojima se osiguravaju sredstva za život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§ 4a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slobodi kretanja osoba: Pravo na dugotrajni boravak od pet godina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1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Građani Unije koji su proveli više od pet godina u  Njemačkoj, kontinuirano i legalno, imaju, neovisno od naknadnog udovoljavanja zahtjeva predviđenim u članku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2,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pravo ulaska i boravka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Pravo na stalni boravak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.......(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880" y="193680"/>
            <a:ext cx="876780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§ 4a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Zakon o slobodnom kretanju osoba: Pravo boravka prije isteka roka od pet godina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Građani Unije imaju pravo na stalni boravak prije isteka roka od pet godina u skladu s člankom 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do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3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 izuzećem od stavka 1, ako 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 žive već tri godine na teritoriju Njemčke i ako su radili najmanje 12 mjeseci i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a)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do trenutka  završetka profesionalnog života napunili su 65 godina život a ili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b)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njihova je djelatnost (rad) prestao u okviru uredbe za prijevremeni odlazak u mirovinu ili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 odustali su od rada (od obavljanja svoje profesionalne djelatnosti) zbog potpunog gubitka sposobnosti za rad,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a )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koji je nastao slijedom nesreće na radu ili profesionalnog oboljenja, što ima daje   pravo  na dobivanje mirovine od strane jednog osiguravajućeg društva s teritorija Njemačke, ili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b)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nakon što su utvrdili svoje prebivalište na teritoriju Njemačke najmanje dvije godine prije, kontinuirano, ili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3.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 tri su godine bili su neprekinutom radnom odnosu  u Njemačkoj i naknadno zasnuju radni odnos  u drugoj državi članici Europske Unije; zadrže svoje prebivalište u Njemačkoj i najmanje jednom tjedno tamo se vraćaju tamo; za stjecanje prava u skladu s člankom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 1 i 2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, razdoblja radnog odnosa u drugoj državi 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700" spc="-1" strike="noStrike">
                <a:solidFill>
                  <a:srgbClr val="898989"/>
                </a:solidFill>
                <a:latin typeface="Book Antiqua"/>
              </a:rPr>
              <a:t>članici uzimaju se u obzir kao radna razdoblja, plaćena, na teritoriju Njemačke</a:t>
            </a:r>
            <a:r>
              <a:rPr b="0" lang="ro-RO" sz="17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§ 4a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slobodnom kretanju osoba: kontinuirani boravak i odsutnost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6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Kontinuirani boravak nije poremećen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odustnošću do 6 mjeseci u jednoj godini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odsutnošću zbog odsluživanja vojnog roka ili državne službe kao 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3.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odsutnost do dvanaest mjeseci uzastopno iz vrlo važnog razlog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o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, kao što su trudnoća i porodiljni, teška bolest, studiranje, strukovna obuka ili slanje zaposlenika na rad u inozemstvo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§ 4a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slobodnom kretanju osoba: kontinuirani boravak i odsutnost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7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dsutnost, iz razloga koji po svojoj prirodi nije privremen, na više od dvije uzastopne godine vodi do gubitka prava na stalni bor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Imigracija (doseljenje) stranaca provodi se na prioritaran se način u Njemačkoj lroz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”tri”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a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 vođenju i ograničavanju imigracije, za uređivanje boravka i integracije građana Unije i stranaca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 (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imigra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ciji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)</a:t>
            </a:r>
            <a:br>
              <a:rPr sz="2300"/>
            </a:b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 slobodnom kretanju osoba 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Freizügigkeitsgesetz/EU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/UE)</a:t>
            </a:r>
            <a:br>
              <a:rPr sz="2300"/>
            </a:b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 boravku, profesionalnoj djelatnosti i integraciji strana na teritoriju Njemačke 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Zakon o boravku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)</a:t>
            </a:r>
            <a:br>
              <a:rPr sz="2300"/>
            </a:b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U stvarnosti postoje samo dva zakona, jer: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eljenje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 § 3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slobodnom kretanju osoba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ovi obitelji građana Unije navedeni u članku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5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maju pravo predviđeno u članku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ako prate građane Unije ili imaju svoje prebivalište zajedno s njima. Članovi obitelji građana Unije navedeni u članku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r. 5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raspolažu istim pravom, u skladu sa zahtjevim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4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Ponovo okupljanje obitelji: Zakon o slobodnom kretanju osoba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 §3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2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Članovi obitelji su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supružnici, životni partneri i nasljednici osoba navedenih u članku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5 i 7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ili njihovi supružnici ili životni partneri, koji još nisu napunili 21 godinu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pretci i potomci osoba navedenih u članku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5 i 7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ili njihovi supružnici ili životni partneri, kojima oni osiguravaju sredstva za život.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Članovi obitelji/Ponovo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kupljanje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obitelji:  § 3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Zakon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3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 koji nisu građani Unije, zadržavaju, u slučaju smrti građanija Unije, pravo boravka, ako su ispunjene pretpostavke iz članka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do b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r. 3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ili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5, i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ako su imali prebivalište u Njemačkoj prije smrti građanina Unije najmanje godinu dana, kao član obitelji.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dredbe iz članka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§ 3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1 i 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kao i odredbe iz članka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§ 6 i 7 n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e primjenjuju se osobama navedenim u rečenic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1</a:t>
            </a:r>
            <a:r>
              <a:rPr b="0" lang="ro-RO" sz="2800" spc="-1" strike="noStrike">
                <a:solidFill>
                  <a:srgbClr val="7f7f7f"/>
                </a:solidFill>
                <a:latin typeface="Book Antiqua"/>
              </a:rPr>
              <a:t>; 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</a:rPr>
              <a:t>u tom se slučaju primjenjuje Zakon o boravku</a:t>
            </a:r>
            <a:r>
              <a:rPr b="0" lang="ro-RO" sz="2800" spc="-1" strike="noStrike">
                <a:solidFill>
                  <a:srgbClr val="7f7f7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Članovi obitelji/Ponovo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kupljanje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obitelji:  § 3 Zakon o slobodnom kretanju osoba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4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Djeca građanina Unije koji ima pravo slobodnog kretanja i roditelj koji  stvarno izvršava roditeljski autoritet nad djecom, zadržava pravo boravka i nakon smrti ili preseljenja građana Unije, čime su stekli svoje pravo boravka, do završetka školovanja, ako su se djeca nastanila u Njemačku i pohađaju obrazovnu ustanovu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Članovi obitelji/Ponovo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kupljanje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obitelji:  § 3 Zakon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5: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Supružnici i životni partneri, koji nisu građani Unije, zadržavaju pravo boravka u slučaju razvoda ili poništenja braka ii partnerstva, ako ispunjuju uvjete koje vrijeda za građana Unije predviđene u članku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do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3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ili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r. 5 i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onda kada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brak ili životno partnerstvo trajalo je najmanje 3 godine do datuma pokretanja brakorazvodne parnice ili poništenja braka, od kojih najmanje jedna godina na teritoriju Njemačke,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dodijeljena im je roditeljska skrb nad djecom građanina Unije dogovorom među supružnicima ili partnerima ili sudskom odlukom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3.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potrebno je, za izbjegavanje kompliciranog socijalnog slučaja, pogotovo onda kada  se od jednog od supružnika ili životnog partnera ne može zatražiti da ostane u braku ili partnerstvu jer se zadiruje u njegove legitimne interese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ili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4.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dano im je pravo održati osobnu vezu s maloljetnikom samo  na teritoriju Njemačke, dogovorom s bračnim ili životnim partnerom ili sudskom odlukom.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§ 3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1 i 2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 kao i odredbe 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članaka</a:t>
            </a:r>
            <a:r>
              <a:rPr b="0" lang="ro-RO" sz="1500" spc="-1" strike="noStrike">
                <a:solidFill>
                  <a:srgbClr val="898989"/>
                </a:solidFill>
                <a:latin typeface="Book Antiqua"/>
              </a:rPr>
              <a:t> §§ 6 i 7  n</a:t>
            </a:r>
            <a:r>
              <a:rPr b="0" lang="hr-HR" sz="1500" spc="-1" strike="noStrike">
                <a:solidFill>
                  <a:srgbClr val="898989"/>
                </a:solidFill>
                <a:latin typeface="Book Antiqua"/>
              </a:rPr>
              <a:t>eće se primjeniti osobama navedenim u rečenici 1; po tom će se pitanju primjeniti Zakon o boravku. 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Pravo na stalni bor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 § 4a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a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3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Članovi obitelji preminulog  građanina Unije, u skladu sa člankom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r. 1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 b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r. 3,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koji imaju stalno prebivalište na datum smrti, imaju pravo stalnog boravka, ako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1.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građanin Unije imao je najmanje dvije godine prebivalište na teritoriju Njemačke, kontinuirano, do trenutka kada je preminuo,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2.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građanin je Unije preminuo nakon nesreće na radu ili zbog profesionalnog oboljenja,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3. ....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Članovi obitelji/Pravo na stalni boravak: § 4a Zakona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4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ovi obitelji građanina Unije, koji su stekli pravo stalnog boravka u skladu sa stavkom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2,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također imaju pravo stalnog boravka, ako imaju stalno prebivalište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kod građanina Unije</a:t>
            </a:r>
            <a:r>
              <a:rPr b="0" lang="ro-RO" sz="2800" spc="-1" strike="noStrike">
                <a:solidFill>
                  <a:srgbClr val="7f7f7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ovi obitelji/Pravo na stalni boravak: § 4a Zakona o slobodnom kretanju osob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5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ovi obitelju stjeću u skladu s člankom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5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ravo na stalni boravak ako su na teritoriju Njemačke boravili pet godina neprekidno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Gubitak prava ulaska i boravka u zemlji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 § 6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Zakon o slobodnom kretanju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4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Moguća je odluka u skladu sa stavkom 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nakon stjecana prava na stalni boravak samo ako se radi o ozbiljnom razlogu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Gubitak prava ulaska i boravka u zemlji: § 6 Zakon o slobodnom kretanju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 osob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Do gubitka prava, u skladu s člankom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može doći,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bez obzira na odredbe članka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7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ka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§ 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4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samo iz razloga javnog reda, sigurnosti i zdravstv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4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3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5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porazuma o funkcioniranju Europske Unije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).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Iz razloga navedenih u propoziciji 1 može se odbiti i ulazak u zemlju. Takva odluka zbog razloga javnog red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moguća je samo onda kada se radi o bolestima koje mogu prouzočiti epidemiju u smislu pravnih instrumenata Svjetske zdravstvene organizacije i, kada se rado o  zaraznim bolestima ili zaraznim bolestima čiji uzročnici su paraziti, ako protiv tih bolesti Njemačka je donijela mjere  i ako je bolest nastala u razdoblju od tri mjeseca nakon ulaska u zemlju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9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900" spc="-1" strike="noStrike">
                <a:solidFill>
                  <a:srgbClr val="898989"/>
                </a:solidFill>
                <a:latin typeface="Book Antiqua"/>
              </a:rPr>
              <a:t>Zakon o vođenju i ograničenju imigracije i za uređivanje boravka i integracije građana Unije i stranaca </a:t>
            </a:r>
            <a:r>
              <a:rPr b="0" lang="ro-RO" sz="29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900" spc="-1" strike="noStrike">
                <a:solidFill>
                  <a:srgbClr val="898989"/>
                </a:solidFill>
                <a:latin typeface="Book Antiqua"/>
              </a:rPr>
              <a:t>Zakon o imigraciji</a:t>
            </a:r>
            <a:r>
              <a:rPr b="0" lang="ro-RO" sz="2900" spc="-1" strike="noStrike">
                <a:solidFill>
                  <a:srgbClr val="898989"/>
                </a:solidFill>
                <a:latin typeface="Book Antiqua"/>
              </a:rPr>
              <a:t>):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8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vaki put s brojnim pravnim odredbam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od kojih su dvije važne za prezentaciju, i to: </a:t>
            </a:r>
            <a:br>
              <a:rPr sz="3200"/>
            </a:b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1: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Zakon o boravku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898989"/>
              </a:buClr>
              <a:buFont typeface="Book Antiqua"/>
              <a:buAutoNum type="alphaL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2: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Zakon o slobodi kretanja osoba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5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Gubitak prava ulaska i boravka u zemlji: § 6 Zakon o slobodnom kretanju oso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5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Odluka sukladno stavku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1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opravdana je u slučaju građana Unije i članova njihovih obitelji, koji su imali prebivalište posljednjih 10 godina na teritoriju Njemačke, a u slučaju maloljetnika samo ako se radi  </a:t>
            </a:r>
            <a:r>
              <a:rPr b="0" lang="hr-HR" sz="1800" spc="-1" strike="noStrike" u="sng">
                <a:solidFill>
                  <a:srgbClr val="898989"/>
                </a:solidFill>
                <a:uFillTx/>
                <a:latin typeface="Book Antiqua"/>
              </a:rPr>
              <a:t>o</a:t>
            </a:r>
            <a:r>
              <a:rPr b="0" lang="ro-RO" sz="1800" spc="-1" strike="noStrike" u="sng">
                <a:solidFill>
                  <a:srgbClr val="898989"/>
                </a:solidFill>
                <a:uFillTx/>
                <a:latin typeface="Book Antiqua"/>
              </a:rPr>
              <a:t>  </a:t>
            </a:r>
            <a:r>
              <a:rPr b="0" lang="hr-HR" sz="1800" spc="-1" strike="noStrike" u="sng">
                <a:solidFill>
                  <a:srgbClr val="898989"/>
                </a:solidFill>
                <a:uFillTx/>
                <a:latin typeface="Book Antiqua"/>
              </a:rPr>
              <a:t>ozbiljnim razlozima u vezi javne sigurnosti.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To se ne primjenjuje u slučaju maloljetnika onda kada gubitak prava boravka je u njihovom interesu.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Hitni razlozi u vezi javne sigurnosti mogu postojati samo ako je dotična osoba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bila osuđena na najmanje 5 godina na kaznu zatvora ili ako je kažnjena zbog maloljetničkog prijestupništva zbog jednog ili više namjernih prekršaja il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od zadnje pravne odluke donesena je preventivna mjere sigurnosti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ako je dovedena u opasnost sigurnost Savezne Republike Njemačke ili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ako dotična osoba predstavlja terorističku opasnost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Ob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veza napuštanja teritorija u slučaju nepostojanja prava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nakon gubitka prava ulaska i boravk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: § 7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 Zakona o slobodnom kretanju osob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1: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Građani Unije ili članovi njihovih obitelji obvezni su napustiti zemlju, ako tijelo nadležno za strance utvrdilo je da ne postoji pravo ulaska i boravka u zemlji. U toj odluci treba se odrediti protjerivanje i roka izlaska iz zemlje. Izuzev hitnih slučajeva, odredit će se rok od najmanje od jednog mjeseca. Ako se uputi zahtjev u skladu s člankom 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§ 80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300" spc="-1" strike="noStrike">
                <a:solidFill>
                  <a:srgbClr val="898989"/>
                </a:solidFill>
                <a:latin typeface="Book Antiqua"/>
              </a:rPr>
              <a:t> 5 </a:t>
            </a:r>
            <a:r>
              <a:rPr b="0" lang="hr-HR" sz="2300" spc="-1" strike="noStrike">
                <a:solidFill>
                  <a:srgbClr val="898989"/>
                </a:solidFill>
                <a:latin typeface="Book Antiqua"/>
              </a:rPr>
              <a:t> Pravilnika Upravnog suda, ne dopušta se protjerivanje prije nego se odluči u vezi zahtjeva. 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Gubitak prava ulaska i boravka u zemlji: § 6 Zakon o slobodnom kretanju osob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6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branjene su odluke i mjere koje pretpostavljaju gubitak prava boravka ili štete pravu stalnog boravka u ekonomske svrhe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Gubitak prava ulaska i boravka u zemlji: § 6 Zakon o slobodnom kretanju osob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 8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Dotična će se osoba saslušati prije odluke predviđene u stavku 1. Odluka mora biti u pisanom obliku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0428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Ob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veza napuštanja teritorija u slučaju nepostojanja prava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/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nakon gubitka prava ulaska i boravk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: § 7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Zakona o slobodi kretanja osob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2: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Građani Unije i članovi njihovi, koji su izgubili pravo boravka sukladno članku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§ 6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1, n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emaju pravo da ponovo uđu na teritorij Njemačke i da se tamo nastane. Građanima Unije i članovima njihovih obitelji, kod kojih se ustanovilo da nemaju pravo slobodnog kretanja sukladno članku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§ 2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7,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može se zabraniti da ponovo putuju na teritorij Njemačke i da tamo utvrde svoje prebivalište.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Pravo na novo putovanje  i na utvrđivanje prebivališta u Njemačkoj  može biti zabranjeno onda kada postoji posebno težak slučaj, pogotovo postoje više pokušaja prijevare vlasti u vezi udovoljavanja zahtjeva za stjecanje prava ulaska i nastane u zemlji ili ako njihov boravak predstavlja ozbiljnu prijetnju javnom redu i sigurnosti Savezne Republike Njemačke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Zabrana predviđena u rečenici 1 do 3 vremenski se ograničuje po službenoj dužnosti. Rok treba biti određen uzimajući u obzir okoknosti svakog invididualnog slučaja i nema pravo prijeći pet godine, u uvjetima predviđenim u članku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§ 6 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1 .</a:t>
            </a:r>
            <a:r>
              <a:rPr b="0" lang="hr-HR" sz="1800" spc="-1" strike="noStrike">
                <a:solidFill>
                  <a:srgbClr val="898989"/>
                </a:solidFill>
                <a:latin typeface="Book Antiqua"/>
              </a:rPr>
              <a:t> Rok teće od dana odlaska iz zemlje.</a:t>
            </a:r>
            <a:r>
              <a:rPr b="0" lang="ro-RO" sz="1800" spc="-1" strike="noStrike">
                <a:solidFill>
                  <a:srgbClr val="898989"/>
                </a:solidFill>
                <a:latin typeface="Book Antiqua"/>
              </a:rPr>
              <a:t> ......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seban problem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Može li građanin Unije primati socijale naknade tijekom svog boravka u Njemačkoj?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Načelo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sve dok jedan građanin Unije legalno se nastanio u jednoj državi članici, ima pravo na socijalne naknade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Unatoč tome, pravna situacija u Njemačkoj nije jednostavna. 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ocijalne se naknade razlikuju u Njemačkoj, ukoliko je za prezentaciju zanimljivo, kako slijedi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-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aknada za nezaposlene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takozvan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ALG II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 osobe bez prihoda koje su sposobne za rad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 </a:t>
            </a:r>
            <a:br>
              <a:rPr sz="3200"/>
            </a:b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-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ocijalna pomoć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 osobe bez prihoda koje nisu sposobne za rad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oseban problem: Socijalna davanj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-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 prva tri mjeseca ne dopušta se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”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ičan bor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”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ako sada ili ubuduće ne postoji nikakav drugi razlog boravka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br>
              <a:rPr sz="3200"/>
            </a:b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oga se ne daju nikakva prava po pitanju socijalnih naknada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To je u skladu s pravom Unij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ogledat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Europski Sud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, C 299/14) i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ne predstavlja nikakav problem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Al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takođern građani Unije, koji su se nastanili u Njemačkoj isključivo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 u="sng">
                <a:solidFill>
                  <a:srgbClr val="898989"/>
                </a:solidFill>
                <a:uFillTx/>
                <a:latin typeface="Book Antiqua"/>
              </a:rPr>
              <a:t>u potrazi radnog mjest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sključeni su sukladno članku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§ 7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rečenic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 SGB II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d primanj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ALG I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iskutabilno je da li je to u skladu s europskim zakonodavstvom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sim toga, članak 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4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UREDBE </a:t>
            </a:r>
            <a:r>
              <a:rPr b="0" lang="it-IT" sz="2600" spc="-1" strike="noStrike">
                <a:solidFill>
                  <a:srgbClr val="898989"/>
                </a:solidFill>
                <a:latin typeface="Book Antiqua"/>
              </a:rPr>
              <a:t> (CE)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it-IT" sz="2600" spc="-1" strike="noStrike">
                <a:solidFill>
                  <a:srgbClr val="898989"/>
                </a:solidFill>
                <a:latin typeface="Book Antiqua"/>
              </a:rPr>
              <a:t>R. 883/2004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EUROPSKOG PARLAMENTA I VIJEĆA 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d</a:t>
            </a:r>
            <a:r>
              <a:rPr b="0" lang="it-IT" sz="2600" spc="-1" strike="noStrike">
                <a:solidFill>
                  <a:srgbClr val="898989"/>
                </a:solidFill>
                <a:latin typeface="Book Antiqua"/>
              </a:rPr>
              <a:t> 29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. travnja</a:t>
            </a:r>
            <a:r>
              <a:rPr b="0" lang="it-IT" sz="2600" spc="-1" strike="noStrike">
                <a:solidFill>
                  <a:srgbClr val="898989"/>
                </a:solidFill>
                <a:latin typeface="Book Antiqua"/>
              </a:rPr>
              <a:t> 2004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 o koordinaciji sustava socijalne sigurnosti predviđa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„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Izuzev slučaja kada ova ureba predviđa drugačije, osobe kojima se primjenjuje ova uredba uživaju ista prava i podliježu isitm obvezama, na temelju zanovodvstva jedne države člancie, isto  kao i građani te države članice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.“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75"/>
              </a:spcBef>
              <a:buClr>
                <a:srgbClr val="898989"/>
              </a:buClr>
              <a:buFont typeface="Book Antiqua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Zakon o boravku, profesionalnoj djelatnosti i integraciji stranaca u Njemačkoj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9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2900" spc="-1" strike="noStrike">
                <a:solidFill>
                  <a:srgbClr val="898989"/>
                </a:solidFill>
                <a:latin typeface="Book Antiqua"/>
              </a:rPr>
              <a:t>Zakon o boravku</a:t>
            </a:r>
            <a:r>
              <a:rPr b="0" lang="ro-RO" sz="2900" spc="-1" strike="noStrike">
                <a:solidFill>
                  <a:srgbClr val="898989"/>
                </a:solidFill>
                <a:latin typeface="Book Antiqua"/>
              </a:rPr>
              <a:t>)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br>
              <a:rPr sz="3200"/>
            </a:br>
            <a:br>
              <a:rPr sz="3200"/>
            </a:b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N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e primjenjuje se strancima, u skladu s odredbama članka</a:t>
            </a:r>
            <a:r>
              <a:rPr b="0" lang="en-US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1,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čiji je statut uređen Zakonom o slobodnom kretanju, ako ne postoje drugačiji propisi, po zakonu (prije svega, 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  § 11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 Zakona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700" spc="-1" strike="noStrike">
                <a:solidFill>
                  <a:srgbClr val="898989"/>
                </a:solidFill>
                <a:latin typeface="Book Antiqua"/>
              </a:rPr>
              <a:t>o slobodnom kretanju itd.</a:t>
            </a:r>
            <a:r>
              <a:rPr b="0" lang="ro-RO" sz="27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3000" spc="-1" strike="noStrike">
                <a:solidFill>
                  <a:srgbClr val="898989"/>
                </a:solidFill>
                <a:latin typeface="Book Antiqua"/>
              </a:rPr>
              <a:t>Članak 18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Bez obzira na posebne odredbe Sporazuma, zabranjena je diskriminacija po osnovi državljanstva kada se radi o primjeni sporazuma.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Europski Parlament i Vijeće mogu usvojiti propise u skladu s običnim zakonodavnim postupkom poradi zabrane takvih diskriminacija 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sključivanje se temelji prije svega na odredbama člank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4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2 Dir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tiv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004/38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iskutabilno je da li je to kompatibilno s načelom jednakosti tretmana koji je predviđen u članku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TFU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Sadašnjom sudskom praksom, Europski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je SUd napustio svoj prijašnji relativno širokogrudnu orijentaciju  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počevši s predmetom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 C 140/12 – Brey). 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Od data se mogu prepoznati sljedeće situacije: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1. Jedan građanin Unije putuje u Njemačku, ali ne želi tu raditi. Ne postoji nikakvo pravo na socijalne naknade.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2.Jedan građanin Unije putuje u Njemačku da bi tražio posao, ali ne nalazi. Ni u ovom slučaju ne postoji nikakvo pravo na socijalne naknade.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3. Jedan građanin Unije putuje u Njemačku, živi ovdje više od tri mjeseca, no radi jako malo. Ovaj se smatra "zaposlenim " samo na razdoblje od šest mjeseci. Kasnije, nema nikakvo pravo na socijalne naknade. 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Europski SUd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Odluka od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15.09.2015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, C 67/14)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Poseban problem: Socijalne naknad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Ako nema nikakvog prava na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ALG II,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nda se može dodijeliti pravo na socijalnu pomoć. To je pravo jasno isključeno onda kada građanin putuje isključivo poradi dobivanja socijalnih naknada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obvezno je da Ured za socijalne naknade to dokaže)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Detal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j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i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 u vezi dodijele socijalnih naknada građanima Unije, u Njemačkoj su složene i diskutabilne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898989"/>
                </a:solidFill>
                <a:latin typeface="Book Antiqua"/>
              </a:rPr>
              <a:t>Poseban problem</a:t>
            </a:r>
            <a:r>
              <a:rPr b="0" lang="ro-RO" sz="21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2100" spc="-1" strike="noStrike">
                <a:solidFill>
                  <a:srgbClr val="898989"/>
                </a:solidFill>
                <a:latin typeface="Book Antiqua"/>
              </a:rPr>
              <a:t>Diskriminacija njemačkih građana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100" spc="-1" strike="noStrike">
                <a:solidFill>
                  <a:srgbClr val="898989"/>
                </a:solidFill>
                <a:latin typeface="Book Antiqua"/>
              </a:rPr>
              <a:t>Zakon o slobodnom kretanju osoba -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i Dire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tiva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o slobodnom kretanju osob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2004/38 – n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e primjenjuju se nejmačkim građanima koji žive u  Njemačkoj, jer ovi ne udovoljavaju pretpostavkama za primjenu  - uporabu prava na kretanje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Primjer dosljednosti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pojednostavljeni propisi za ponovo okupljanje obitelji za supružnike ne primjenjuju se za njemačke građane.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Ponovo ujedninjenje obitelji za njemačke građane uzima u obzir odredbe člank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 28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Zakona o boravku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tako da su primjenjive, u skladu s člankom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 28 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ečenic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5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odredbe člank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§ 30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ečenic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r. 1 i 2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ečenic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3 i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2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ečenic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1 (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osoba mora imati najmanje 18 godina i osnovno znanje njemačkog jezik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tog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,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postavlja se pitanje da li je to nekompatibilna diskriminacija obzirom na europsko pravo.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N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e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,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 jer članak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18 TFUE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(Sporazuma o funkcioniranju EU) "vrijedi samo u svom području primjene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”,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znači samo u području primjene sporazuma, znači ne primjenjuje se nacionalnom pravu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Stoga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, </a:t>
            </a: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diskriminacija njemačkih građana jednostavan je problem njemačkog prava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600" spc="-1" strike="noStrike">
                <a:solidFill>
                  <a:srgbClr val="898989"/>
                </a:solidFill>
                <a:latin typeface="Book Antiqua"/>
              </a:rPr>
              <a:t>Stoga, sa stajališta europskog prava ne može se kritizirati diskriminacija Njemaca u slučaju ponovog ujedninjena obitelji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96640" y="69192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ršenje odredaba člank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8 TFU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(Sporazuma o funkcioniranju EU)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„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 primjeni sporazuma i bez da se zadire u posebne odredbe sporazuma, zabranjuje se svaka kakva diskriminacija na osnovu državljanstva i nacionalnosti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	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Poseban problem: Diskriminacija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njemačkih građana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Treba vidjeti da li će to ostati nepromijenjeno.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U sudskoj prakvi 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CJCE 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(Europskog suda) čini se da se ističe tendencija da se prava dodijeljena europskim državljanstvom proširuju i na građane Unije, koji nisu nikada izvršili svoje pravo na slobodno kretanje.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21920" y="51732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CJCE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/Europski Sud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C-34/09: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„  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Sud je u više navrata ukazao na to da statut građana Unije temeljni je statut građana država članica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(.........)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U tim okolnostima, članak 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20 TFUE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/Sporazuma o funkcioniranju EU protivi se određenim nacionalnim mjerama čija je posljedica uskračivanje stvarne koristi, građanima Unije, od prava koja imaju iz njihovog statuta kao građani Unije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  (......). “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CJ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C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E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/Europski sud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C-34/09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”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Članak</a:t>
            </a: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 20 TFUE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 (Sporazum o funkcioniranju EU) treba tumačiti u smislu da je protiv da jedna</a:t>
            </a: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</a:rPr>
              <a:t>država članica, s jedne strane, odbije jednom građaninu treće države, koji osigurava egzistenciju svoje maloljetne djece, građana Unije, boravak u državi članici u kojoj ta djeca imaju prebivalište i čiji su građani i, s druge stane, da odbije dotičnom građanu treće države davanje radne dozvole, ukoliko bi takve mjere uskratile toj djeci stvarnu korist prava koja iz proizlaze iz statuta građana Unije</a:t>
            </a:r>
            <a:r>
              <a:rPr b="0" lang="ro-RO" sz="2000" spc="-1" strike="noStrike">
                <a:solidFill>
                  <a:srgbClr val="7f7f7f"/>
                </a:solidFill>
                <a:latin typeface="Book Antiqu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300" spc="-1" strike="noStrike">
                <a:solidFill>
                  <a:srgbClr val="898989"/>
                </a:solidFill>
                <a:latin typeface="Book Antiqua"/>
              </a:rPr>
              <a:t>Imigra</a:t>
            </a:r>
            <a:r>
              <a:rPr b="0" lang="hr-HR" sz="3300" spc="-1" strike="noStrike">
                <a:solidFill>
                  <a:srgbClr val="898989"/>
                </a:solidFill>
                <a:latin typeface="Book Antiqua"/>
              </a:rPr>
              <a:t>cija građana Unije provodi se dakle, prioritarno, </a:t>
            </a: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300" spc="-1" strike="noStrike">
                <a:solidFill>
                  <a:srgbClr val="898989"/>
                </a:solidFill>
                <a:latin typeface="Book Antiqua"/>
              </a:rPr>
              <a:t>Zakonom o slobodnom kretanju građana Unije </a:t>
            </a:r>
            <a:r>
              <a:rPr b="0" lang="ro-RO" sz="33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Freizügigkeitsgesetz/EU</a:t>
            </a:r>
            <a:r>
              <a:rPr b="0" lang="ro-RO" sz="3300" spc="-1" strike="noStrike">
                <a:solidFill>
                  <a:srgbClr val="898989"/>
                </a:solidFill>
                <a:latin typeface="Book Antiqua"/>
              </a:rPr>
              <a:t>)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U skladu s člankom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§ 12,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primjenjuje se i građanima i članovima njihovih obitelji iz država europskog gospodarskog prostora, znači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Island, Liechtenstein i Norve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ška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ro-RO" sz="26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48920" y="44748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5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”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Odbijanje prava na boravak jednoj osobi, građaninu treće države, u državi članici u kojoj prebivaju njegova maloljetna djeca, građani dotične države, čije uzdržavanje osigurava, kao i odbijanje radne dozvole dotičnom građanu imat će takav učinak. 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Stoga, treba se smatrati da takvo odbijanje davanje radne dozvole imat će kao posljedicu to da će dotična djeca, građani Unije, biti primorani napustiti teritorij Unije kako bi pratili svoje roditelje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. ..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</a:rPr>
              <a:t>U takvim uvjetima, dotični će građani Unije biti, zapravo, u nemogućnosti izvršiti srž prava koja imaju statusom građana Europske Unije</a:t>
            </a:r>
            <a:r>
              <a:rPr b="0" lang="ro-RO" sz="2500" spc="-1" strike="noStrike">
                <a:solidFill>
                  <a:srgbClr val="898989"/>
                </a:solidFill>
                <a:latin typeface="Book Antiqua"/>
              </a:rPr>
              <a:t>.”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1360" y="69192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ogledati također sadašnjiu sudsku praku Europskog suda, odluku od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3.09.2016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, C 304/14 ș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 odluku od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13.09.2016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, C 165/14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oseban problem: Diskriminacija njemačkih građana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roširenje primjene odredaba u vezi ponovnog okupljanja obitelja u slučaju supružnika ipak je diskutabilno, jer njemački građani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- N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su obvezni de facto napustiti matičnu zemlju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Razina uplitanja/intervencije uvjeta u vezi ponovog ujedinjenja obitelj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minimalna dob, poznavanje jezika) relativno je niska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 o slobodnom kretanju građana Unije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Freizügigkeitsgesetz/EU)</a:t>
            </a:r>
            <a:br>
              <a:rPr sz="34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ačel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ravo na slobodu kretanja građana Unije zajamčen je člankom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porazuma o funkcioniranju Europske Unij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Članak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(ex-articolul 18 TCE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Book Antiqu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Svaki građanin Unije ima pravo kretati se i boraviti na državnom području država članica, vodeći računa o ograničenjima i uvjetima utvrđenim u Ugovorima i u mjerama usvojenim radi njihove provedbe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(2)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Ako se pokaže da je potrebno djelovanje Unije za ostvarenje tog cilja, a Ugovori ne predviđaju potrebne ovlasti, Europski parlament i Vijeće odlučujući u skladu s redovnim zakonodavnim postupkom, mogu usvojiti odredbe radi olakšavanja ostvarivanja prava iz stavka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(1)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(3)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Radi istih ciljeva kao što su oni iz stavka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(1) i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 ako se Ugovorima ne predviđaju potrebne ovlasti, Vijeće, u skladu s posebnim zakonodavnim postupkom može usvojiti mjere koje se odnose na socijalnu sigurnost ili socijalnu zaštitu. Vijeće odlučuje jednoglasno, nakon savjetovanja s Europskim Parlamentom.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o ovo ne znači: bezuvjetno pravo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7f7f7f"/>
                </a:solidFill>
                <a:latin typeface="Book Antiqua"/>
              </a:rPr>
              <a:t>„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odložno ograničenjima i uvjetima utvrđenima u ugovorima i mjerama njihove primjen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”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nači da se pravo na slobodno kretanje može izvršiti samo u uvjetima i ograničenjima europskog prav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6640" y="309240"/>
            <a:ext cx="8512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I.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pći pogled na njemačko prav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lazak i boravak jednog građanina Unije na državnom teritoriju države članice ne podliježe nikakvim uvjetima i zahtjevima na razdoblje od tri mjeseca. Građanin Unije mora samo posjedovati valjani identifikacijski dokument.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 </a:t>
            </a:r>
            <a:br>
              <a:rPr sz="3200"/>
            </a:b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 Njemačku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§ 2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5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a o slobodnom kretanju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/ FreizügigkeitsG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2T08:41:05Z</dcterms:created>
  <dc:creator>N</dc:creator>
  <dc:description/>
  <dc:language>en-US</dc:language>
  <cp:lastModifiedBy>Mihail Doran</cp:lastModifiedBy>
  <dcterms:modified xsi:type="dcterms:W3CDTF">2016-10-28T06:47:28Z</dcterms:modified>
  <cp:revision>327</cp:revision>
  <dc:subject/>
  <dc:title>Umsetzung der Richtlinie 2004/38 im deutschen Rec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