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57A-0B29-456C-BAEC-5155AB7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BC1-CFFE-45F1-A452-F0B2FD2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141-251A-4DD2-9B94-112355EC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4A5-F054-4F4E-AF74-5235998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1DE-889E-443F-8C57-40277EE8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BF8-B8A7-47F7-80E5-36B90FB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FCD-7C36-4BC4-AE0B-C377ED81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2B5-F267-4175-8433-FE2823A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527-AF11-43AA-AA4B-BA82E94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26D-8B2B-4133-BB45-14A4E83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E02-A55F-4342-834A-4D8BEE8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146-BF90-4186-B200-9D64DB1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D7171-3C12-4AF9-901A-04A294906BE9}" type="slidenum">
              <a:rPr b="0" lang="de-DE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Provedba Direktive</a:t>
            </a:r>
            <a:r>
              <a:rPr b="0" lang="ro-RO" sz="6600" spc="-1" strike="noStrike">
                <a:solidFill>
                  <a:srgbClr val="7f7f7f"/>
                </a:solidFill>
                <a:latin typeface="Book Antiqua"/>
              </a:rPr>
              <a:t> E</a:t>
            </a: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U</a:t>
            </a:r>
            <a:r>
              <a:rPr b="0" lang="ro-RO" sz="6600" spc="-1" strike="noStrike">
                <a:solidFill>
                  <a:srgbClr val="7f7f7f"/>
                </a:solidFill>
                <a:latin typeface="Book Antiqua"/>
              </a:rPr>
              <a:t> 2004/38 </a:t>
            </a: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u njemačkom pravu 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49"/>
              </a:spcBef>
              <a:buClr>
                <a:srgbClr val="898989"/>
              </a:buClr>
              <a:buFont typeface="Book Antiqu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ljedeće kategorije građana Unije uživaju pravo boravka dulje od tri mjeseca: </a:t>
            </a:r>
            <a:br>
              <a:rPr sz="2600"/>
            </a:b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Zaposlenici,  slobodne profesije i nezaposlene osobe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Book Antiqua"/>
              </a:rPr>
              <a:t>Građani Unije bez posla, studenti i učenici koji raspolažu dovoljnim sredstvima za život i imaju zdravstveno osiguranje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sobe opravdane na dugotrajni boravak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nakon legalnog razdoblja od pet godina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tog građanina Unije, bez obzira na njihovo državljanstv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oizlazi da: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Građani Unije moraju biti sposobni uzdržavati sebe i članove svojih obitelji u slučaju boravka duljeg od ti mjeseca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79200"/>
            <a:ext cx="8512200" cy="677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II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Njemačko pravo, detaljno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Članak 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§ 2 </a:t>
            </a: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stavak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 2</a:t>
            </a: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 Zakona o slobodnom kretanju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Imaju pravo na slobodno kretanje, u skladu s europskim zakonodavstvom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1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koji žele odrediti svoje prebivalište kao zaposlenici ili poradi strukovne obuke,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1a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, koji traže radno mjesto, na razdoblje dulje od šest mjeseci ili više, ukoliko mogu dokazati da i dalje traže radno mjesto ili da postoje perspektive da će se zaposliti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2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ije kada zadovolje pretpostavke za obavljanje neovisne profesionalne djelatnosti (građani slobodnih zanimanja koji su se nastanili na teritoriju Njemačke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3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 Građani Unije koji,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bez da odrede svoje prebivaliăte,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žele obavljati usluge  </a:t>
            </a:r>
            <a:r>
              <a:rPr b="0" i="1" lang="hr-HR" sz="1500" spc="-1" strike="noStrike">
                <a:solidFill>
                  <a:srgbClr val="7f7f7f"/>
                </a:solidFill>
                <a:latin typeface="Book Antiqua"/>
              </a:rPr>
              <a:t>slobodnih zanimanja </a:t>
            </a:r>
            <a:r>
              <a:rPr b="0" i="1" lang="ro-RO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u smislu članka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7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Sporazuma o funkcioniranju Europske Unije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(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uslužne djelatnosti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),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ako imaju pravo pružati usluge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4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u svojstvu korisnika usluga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5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koji nemaju prihode, u uvjetima predviđenim u članku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§ 4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6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Članovi obitelju u uvjetima predviđenim u člancima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§§ 3 i 4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7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i članovi njihovih obitelji koji imaju dugotrajno pravo boravka.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4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 slobodnom kretanju osoba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rađanima Unije nije potrebna viza za ulazak u jednu državu, a za boravak nije im potrebna nikakav dokument o boravku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.....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članove obitelji bit će detaljnije opisan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Zakona o slobodi kretanj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U skladu s člankom 1, pravo ostaje netakuto za zaposlenika i za osobu slobodnog zanimanja u sljedećim slučajevima: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1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rivremeno smanjenje sposobnosti za rad, slijedom bolesti ili  nesreć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Nenamjerna nezaposlenost ustanovljena od strane Agencije za zapošljavanje radne snage u okolnostima na koje osobe slobodnog zanimanja nema nikakav utjecaj, nakon rada duljeg od godinu dan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počinjanje strukovne obuke, ako postoji veza između strukovne obuke i njegovog prijašnjeg zanimanja; takva veza nije potrebna onda kada je građanin Europske Unije izgubio svoje radno mjesto zbog razloga koji nemaju veze s njim osobno.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Ako je Agencija za zapošljavanje radne snage utvrdila da je osoba ostala bez posla bez svoje krivnje, tijekom manje od godine rada, pravo predviđeno u stavku 1 ostaje netaknuto na razdoblje od šest mjeseci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a o slobodnom kretanju osoba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 boravak građana Unije do tri mjeseca u jednoj državi dovoljna je valjana osobna iskaznica ili valjana putovnica. Članovi obitelji koji nisu građani Unije imaju isto pravo, ako imaju priznatu ili prihvaćenu putovnicu, ili posjeduju drugi dokazni dokument, i ako su u pratnji građanina Unije ili se presele kod njeg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§ 4 </a:t>
            </a:r>
            <a:r>
              <a:rPr b="0" lang="hr-HR" sz="2400" spc="-1" strike="noStrike">
                <a:solidFill>
                  <a:srgbClr val="7f7f7f"/>
                </a:solidFill>
                <a:latin typeface="Book Antiqua"/>
              </a:rPr>
              <a:t>Zakon o slobodnom kretanju osoba</a:t>
            </a:r>
            <a:r>
              <a:rPr b="0" lang="ro-RO" sz="24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Građani Unije koji ne obavljaju neku profesionalnu djelatnost i članovi njihovih obitelji koji ih prate ili se presele kod njih, imaju pravo sukladno članku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1,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ako imaju sveobuhvatno zdravstveno osiguranje i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ako raspolažu dovoljnim sredstvima za život. U slučaju da se građanin nastani kao student na teritoriju Njemačke, ovim pravom raspolaže samo suprug/supruga, životni partner/partnerica ili njegova djeca, kojima se osiguravaju sredstva za život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i kretanja osoba: Pravo na dugotrajni boravak od pet godina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Građani Unije koji su proveli više od pet godina u  Njemačkoj, kontinuirano i legalno, imaju, neovisno od naknadnog udovoljavanja zahtjeva predviđenim u članku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,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pravo ulaska i borav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ravo na stalni boravak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.......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880" y="193680"/>
            <a:ext cx="87678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kon o slobodnom kretanju osoba: Pravo boravka prije isteka roka od pet godina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Građani Unije imaju pravo na stalni boravak prije isteka roka od pet godina u skladu s člankom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3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izuzećem od stavka 1, ako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žive već tri godine na teritoriju Njemčke i ako su radili najmanje 12 mjeseci 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a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do trenutka  završetka profesionalnog života napunili su 65 godina život a ili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b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njihova je djelatnost (rad) prestao u okviru uredbe za prijevremeni odlazak u mirovinu ili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odustali su od rada (od obavljanja svoje profesionalne djelatnosti) zbog potpunog gubitka sposobnosti za rad,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a 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koji je nastao slijedom nesreće na radu ili profesionalnog oboljenja, što ima daje   pravo  na dobivanje mirovine od strane jednog osiguravajućeg društva s teritorija Njemačke, il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b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nakon što su utvrdili svoje prebivalište na teritoriju Njemačke najmanje dvije godine prije, kontinuirano, il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tri su godine bili su neprekinutom radnom odnosu  u Njemačkoj i naknadno zasnuju radni odnos  u drugoj državi članici Europske Unije; zadrže svoje prebivalište u Njemačkoj i najmanje jednom tjedno tamo se vraćaju tamo; za stjecanje prava u skladu s člankom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 1 i 2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, razdoblja radnog odnosa u drugoj državi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članici uzimaju se u obzir kao radna razdoblja, plaćena, na teritoriju Njemačke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: kontinuirani boravak i odsutnost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6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Kontinuirani boravak nije poremećen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ustnošću do 6 mjeseci u jednoj godini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sutnošću zbog odsluživanja vojnog roka ili državne službe kao 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sutnost do dvanaest mjeseci uzastopno iz vrlo važnog razlog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o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, kao što su trudnoća i porodiljni, teška bolest, studiranje, strukovna obuka ili slanje zaposlenika na rad u inozemstvo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: kontinuirani boravak i odsutnost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7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dsutnost, iz razloga koji po svojoj prirodi nije privremen, na više od dvije uzastopne godine vodi do gubitka prava na stalni bor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Imigracija (doseljenje) stranaca provodi se na prioritaran se način u Njemačkoj lroz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”tri”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a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vođenju i ograničavanju imigracije, za uređivanje boravka i integracije građana Unije i stranaca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 (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imigra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ciji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slobodnom kretanju osoba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Freizügigkeitsgesetz/EU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/UE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boravku, profesionalnoj djelatnosti i integraciji strana na teritoriju Njemačke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boravku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U stvarnosti postoje samo dva zakona, jer: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eljenje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ovi obitelji građana Unije navedeni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maju pravo predviđeno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ko prate građane Unije ili imaju svoje prebivalište zajedno s njima. Članovi obitelji građana Unije navedeni u člank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r. 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aspolažu istim pravom, u skladu sa zahtjevim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4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onovo okupljanje obitelji: Zakon o slobodnom kretanju osoba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3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su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supružnici, životni partneri i nasljednici osoba navedenih u članku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5 i 7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li njihovi supružnici ili životni partneri, koji još nisu napunili 21 godinu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pretci i potomci osoba navedenih u članku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5 i 7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li njihovi supružnici ili životni partneri, kojima oni osiguravaju sredstva za život.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obitelji:  § 3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 koji nisu građani Unije, zadržavaju, u slučaju smrti građanija Unije, pravo boravka, ako su ispunjene pretpostavk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do b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r.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ili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5, i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ako su imali prebivalište u Njemačkoj prije smrti građanina Unije najmanje godinu dana, kao član obitelji.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dredb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1 i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ao i odredb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6 i 7 n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e primjenjuju se osobama navedenim u rečenic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;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</a:rPr>
              <a:t>u tom se slučaju primjenjuje Zakon o boravku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obitelji:  § 3 Zakon o slobodnom kretanju osoba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Djeca građanina Unije koji ima pravo slobodnog kretanja i roditelj koji  stvarno izvršava roditeljski autoritet nad djecom, zadržava pravo boravka i nakon smrti ili preseljenja građana Unije, čime su stekli svoje pravo boravka, do završetka školovanja, ako su se djeca nastanila u Njemačku i pohađaju obrazovnu ustanovu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obitelji:  § 3 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5: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upružnici i životni partneri, koji nisu građani Unije, zadržavaju pravo boravka u slučaju razvoda ili poništenja braka ii partnerstva, ako ispunjuju uvjete koje vrijeda za građana Unije predviđene u članku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do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3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ili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r. 5 i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onda kada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brak ili životno partnerstvo trajalo je najmanje 3 godine do datuma pokretanja brakorazvodne parnice ili poništenja braka, od kojih najmanje jedna godina na teritoriju Njemačke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dodijeljena im je roditeljska skrb nad djecom građanina Unije dogovorom među supružnicima ili partnerima ili sudskom odlukom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potrebno je, za izbjegavanje kompliciranog socijalnog slučaja, pogotovo onda kada  se od jednog od supružnika ili životnog partnera ne može zatražiti da ostane u braku ili partnerstvu jer se zadiruje u njegove legitimne interese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il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4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dano im je pravo održati osobnu vezu s maloljetnikom samo  na teritoriju Njemačke, dogovorom s bračnim ili životnim partnerom ili sudskom odlukom.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§ 3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1 i 2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kao i odredbe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članaka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§§ 6 i 7  n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eće se primjeniti osobama navedenim u rečenici 1; po tom će se pitanju primjeniti Zakon o boravku.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ravo na stalni bor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a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3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preminulog  građanina Unije, u skladu sa člankom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 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3,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koji imaju stalno prebivalište na datum smrti, imaju pravo stalnog boravka, ak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građanin Unije imao je najmanje dvije godine prebivalište na teritoriju Njemačke, kontinuirano, do trenutka kada je preminuo,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građanin je Unije preminuo nakon nesreće na radu ili zbog profesionalnog oboljenja,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3. ..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ravo na stalni boravak: § 4a Zakona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 građanina Unije, koji su stekli pravo stalnog boravka u skladu sa stavkom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2,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također imaju pravo stalnog boravka, ako imaju stalno prebivališt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od građanina Unije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ovi obitelji/Pravo na stalni boravak: § 4a Zakona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5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ovi obitelju stjeću u skladu s člankom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5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avo na stalni boravak ako su na teritoriju Njemačke boravili pet godina neprekidno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Gubitak prava ulaska i boravka u zem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6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slobodnom kretanju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Moguća je odluka u skladu sa stavkom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nakon stjecana prava na stalni boravak samo ako se radi o ozbiljnom razlogu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osob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Do gubitka prava, u skladu s člankom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može doći,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ez obzira na odredbe član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7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4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samo iz razloga javnog reda, sigurnosti i zdravstv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4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3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5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porazuma o funkcioniranju Europske Unij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Iz razloga navedenih u propoziciji 1 može se odbiti i ulazak u zemlju. Takva odluka zbog razloga javnog red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moguća je samo onda kada se radi o bolestima koje mogu prouzočiti epidemiju u smislu pravnih instrumenata Svjetske zdravstvene organizacije i, kada se rado o  zaraznim bolestima ili zaraznim bolestima čiji uzročnici su paraziti, ako protiv tih bolesti Njemačka je donijela mjere  i ako je bolest nastala u razdoblju od tri mjeseca nakon ulaska u zemlju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vođenju i ograničenju imigracije i za uređivanje boravka i integracije građana Unije i stranaca 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imigraciji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):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8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vaki put s brojnim pravnim odredbam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od kojih su dvije važne za prezentaciju, i to: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: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boravku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: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slobodi kretanja osob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5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5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Odluka sukladno stavku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opravdana je u slučaju građana Unije i članova njihovih obitelji, koji su imali prebivalište posljednjih 10 godina na teritoriju Njemačke, a u slučaju maloljetnika samo ako se radi  </a:t>
            </a:r>
            <a:r>
              <a:rPr b="0" lang="hr-HR" sz="1800" spc="-1" strike="noStrike" u="sng">
                <a:solidFill>
                  <a:srgbClr val="898989"/>
                </a:solidFill>
                <a:uFillTx/>
                <a:latin typeface="Book Antiqua"/>
              </a:rPr>
              <a:t>o</a:t>
            </a:r>
            <a:r>
              <a:rPr b="0" lang="ro-RO" sz="1800" spc="-1" strike="noStrike" u="sng">
                <a:solidFill>
                  <a:srgbClr val="898989"/>
                </a:solidFill>
                <a:uFillTx/>
                <a:latin typeface="Book Antiqua"/>
              </a:rPr>
              <a:t>  </a:t>
            </a:r>
            <a:r>
              <a:rPr b="0" lang="hr-HR" sz="1800" spc="-1" strike="noStrike" u="sng">
                <a:solidFill>
                  <a:srgbClr val="898989"/>
                </a:solidFill>
                <a:uFillTx/>
                <a:latin typeface="Book Antiqua"/>
              </a:rPr>
              <a:t>ozbiljnim razlozima u vezi javne sigurnosti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To se ne primjenjuje u slučaju maloljetnika onda kada gubitak prava boravka je u njihovom interesu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Hitni razlozi u vezi javne sigurnosti mogu postojati samo ako je dotična osob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bila osuđena na najmanje 5 godina na kaznu zatvora ili ako je kažnjena zbog maloljetničkog prijestupništva zbog jednog ili više namjernih prekršaja i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od zadnje pravne odluke donesena je preventivna mjere sigurnosti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ako je dovedena u opasnost sigurnost Savezne Republike Njemačke ili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ako dotična osoba predstavlja terorističku opasnost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Ob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veza napuštanja teritorija u slučaju nepostojanja prava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nakon gubitka prava ulaska i boravk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: § 7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Zakona o slobodnom kretanju osob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1: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Građani Unije ili članovi njihovih obitelji obvezni su napustiti zemlju, ako tijelo nadležno za strance utvrdilo je da ne postoji pravo ulaska i boravka u zemlji. U toj odluci treba se odrediti protjerivanje i roka izlaska iz zemlje. Izuzev hitnih slučajeva, odredit će se rok od najmanje od jednog mjeseca. Ako se uputi zahtjev u skladu s člankom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§ 80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Pravilnika Upravnog suda, ne dopušta se protjerivanje prije nego se odluči u vezi zahtjeva.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6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branjene su odluke i mjere koje pretpostavljaju gubitak prava boravka ili štete pravu stalnog boravka u ekonomske svrhe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8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Dotična će se osoba saslušati prije odluke predviđene u stavku 1. Odluka mora biti u pisanom obliku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0428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Ob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veza napuštanja teritorija u slučaju nepostojanja prava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nakon gubitka prava ulaska i boravk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: § 7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Zakona o slobodi kretanja osob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2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Građani Unije i članovi njihovi, koji su izgubili pravo boravka sukladno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6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1, n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emaju pravo da ponovo uđu na teritorij Njemačke i da se tamo nastane. Građanima Unije i članovima njihovih obitelji, kod kojih se ustanovilo da nemaju pravo slobodnog kretanja sukladno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7,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može se zabraniti da ponovo putuju na teritorij Njemačke i da tamo utvrde svoje prebivalište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Pravo na novo putovanje  i na utvrđivanje prebivališta u Njemačkoj  može biti zabranjeno onda kada postoji posebno težak slučaj, pogotovo postoje više pokušaja prijevare vlasti u vezi udovoljavanja zahtjeva za stjecanje prava ulaska i nastane u zemlji ili ako njihov boravak predstavlja ozbiljnu prijetnju javnom redu i sigurnosti Savezne Republike Njemačke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Zabrana predviđena u rečenici 1 do 3 vremenski se ograničuje po službenoj dužnosti. Rok treba biti određen uzimajući u obzir okoknosti svakog invididualnog slučaja i nema pravo prijeći pet godine, u uvjetima predviđenim u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6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1 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Rok teće od dana odlaska iz zemlje.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.....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seban problem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Može li građanin Unije primati socijale naknade tijekom svog boravka u Njemačkoj?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Načelo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sve dok jedan građanin Unije legalno se nastanio u jednoj državi članici, ima pravo na socijalne naknade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natoč tome, pravna situacija u Njemačkoj nije jednostavna.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e se naknade razlikuju u Njemačkoj, ukoliko je za prezentaciju zanimljivo, kako slijedi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knada za nezaposlen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zvan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ALG II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osobe bez prihoda koje su sposobne za ra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a pomoć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osobe bez prihoda koje nisu sposobne za ra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seban problem: Socijalna davanj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-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prva tri mjeseca ne dopušta s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ičan bor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”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ko sada ili ubuduće ne postoji nikakav drugi razlog boravka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3200"/>
            </a:b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oga se ne daju nikakva prava po pitanju socijalnih naknada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o je u skladu s pravom Unij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gledat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Europski Su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299/14) i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ne predstavlja nikakav problem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l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đern građani Unije, koji su se nastanili u Njemačkoj isključivo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 u="sng">
                <a:solidFill>
                  <a:srgbClr val="898989"/>
                </a:solidFill>
                <a:uFillTx/>
                <a:latin typeface="Book Antiqua"/>
              </a:rPr>
              <a:t>u potrazi radnog mjest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ključeni su sukladno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7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rečenic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SGB II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d primanj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ALG I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iskutabilno je da li je to u skladu s europskim zakonodavstvom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sim toga, članak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4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UREDBE 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(CE)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R. 883/2004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EUROPSKOG PARLAMENTA I VIJEĆA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d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29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. travnja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2004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o koordinaciji sustava socijalne sigurnosti predviđ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„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Izuzev slučaja kada ova ureba predviđa drugačije, osobe kojima se primjenjuje ova uredba uživaju ista prava i podliježu isitm obvezama, na temelju zanovodvstva jedne države člancie, isto  kao i građani te države članic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.“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75"/>
              </a:spcBef>
              <a:buClr>
                <a:srgbClr val="898989"/>
              </a:buClr>
              <a:buFont typeface="Book Antiqua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Zakon o boravku, profesionalnoj djelatnosti i integraciji stranaca u Njemačkoj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boravku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)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3200"/>
            </a:br>
            <a:br>
              <a:rPr sz="3200"/>
            </a:b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N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e primjenjuje se strancima, u skladu s odredbama članka</a:t>
            </a:r>
            <a:r>
              <a:rPr b="0" lang="en-US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1,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čiji je statut uređen Zakonom o slobodnom kretanju, ako ne postoje drugačiji propisi, po zakonu (prije svega,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 § 11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 Zakona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o slobodnom kretanju itd.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000" spc="-1" strike="noStrike">
                <a:solidFill>
                  <a:srgbClr val="898989"/>
                </a:solidFill>
                <a:latin typeface="Book Antiqua"/>
              </a:rPr>
              <a:t>Članak 18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Bez obzira na posebne odredbe Sporazuma, zabranjena je diskriminacija po osnovi državljanstva kada se radi o primjeni sporazuma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Europski Parlament i Vijeće mogu usvojiti propise u skladu s običnim zakonodavnim postupkom poradi zabrane takvih diskriminacija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ključivanje se temelji prije svega na odredbama član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4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2 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tiv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004/38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iskutabilno je da li je to kompatibilno s načelom jednakosti tretmana koji je predviđen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TFU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Sadašnjom sudskom praksom, Europski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je SUd napustio svoj prijašnji relativno širokogrudnu orijentaciju  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počevši s predmetom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C 140/12 – Brey).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 data se mogu prepoznati sljedeće situacije: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1. Jedan građanin Unije putuje u Njemačku, ali ne želi tu raditi. Ne postoji nikakvo pravo na socijalne naknade.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2.Jedan građanin Unije putuje u Njemačku da bi tražio posao, ali ne nalazi. Ni u ovom slučaju ne postoji nikakvo pravo na socijalne naknade.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3. Jedan građanin Unije putuje u Njemačku, živi ovdje više od tri mjeseca, no radi jako malo. Ovaj se smatra "zaposlenim " samo na razdoblje od šest mjeseci. Kasnije, nema nikakvo pravo na socijalne naknade. 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Europski SUd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luka od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15.09.2015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, C 67/14)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Ako nema nikakvog prava n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ALG II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nda se može dodijeliti pravo na socijalnu pomoć. To je pravo jasno isključeno onda kada građanin putuje isključivo poradi dobivanja socijalnih naknad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bvezno je da Ured za socijalne naknade to dokaže)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Detal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j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i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u vezi dodijele socijalnih naknada građanima Unije, u Njemačkoj su složene i diskutabilne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Poseban problem</a:t>
            </a:r>
            <a:r>
              <a:rPr b="0" lang="ro-RO" sz="21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Diskriminacija njemačkih građana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Zakon o slobodnom kretanju osoba -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i Dire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tiva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 slobodnom kretanju osob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004/38 – n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e primjenjuju se nejmačkim građanima koji žive u  Njemačkoj, jer ovi ne udovoljavaju pretpostavkama za primjenu  - uporabu prava na kretanj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rimjer dosljednosti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ojednostavljeni propisi za ponovo okupljanje obitelji za supružnike ne primjenjuju se za njemačke građane.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onovo ujedninjenje obitelji za njemačke građane uzima u obzir odredbe član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8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kona o boravku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tako da su primjenjive, u skladu s člankom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8 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5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odredbe član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30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r. 1 i 2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3 i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(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osoba mora imati najmanje 18 godina i osnovno znanje njemačkog jezi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og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postavlja se pitanje da li je to nekompatibilna diskriminacija obzirom na europsko pravo.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N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,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jer članak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18 TFUE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(Sporazuma o funkcioniranju EU) "vrijedi samo u svom području primjen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”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znači samo u području primjene sporazuma, znači ne primjenjuje se nacionalnom pravu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tog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diskriminacija njemačkih građana jednostavan je problem njemačkog prava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toga, sa stajališta europskog prava ne može se kritizirati diskriminacija Njemaca u slučaju ponovog ujedninjena obitelji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96640" y="6919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ršenje odredaba član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8 TFU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(Sporazuma o funkcioniranju EU)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„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primjeni sporazuma i bez da se zadire u posebne odredbe sporazuma, zabranjuje se svaka kakva diskriminacija na osnovu državljanstva i nacionalnosti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Poseban problem: Diskriminacija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njemačkih građana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Treba vidjeti da li će to ostati nepromijenjeno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 sudskoj prakvi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CJCE 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(Europskog suda) čini se da se ističe tendencija da se prava dodijeljena europskim državljanstvom proširuju i na građane Unije, koji nisu nikada izvršili svoje pravo na slobodno kretanje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21920" y="5173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CJCE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/Europski Sud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C-34/09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„  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Sud je u više navrata ukazao na to da statut građana Unije temeljni je statut građana država članica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(.........)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 tim okolnostima, članak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20 TFUE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/Sporazuma o funkcioniranju EU protivi se određenim nacionalnim mjerama čija je posljedica uskračivanje stvarne koristi, građanima Unije, od prava koja imaju iz njihovog statuta kao građani Unije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 (......). “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CJ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C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/Europski sud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C-34/0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”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20 TFUE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 (Sporazum o funkcioniranju EU) treba tumačiti u smislu da je protiv da jedna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država članica, s jedne strane, odbije jednom građaninu treće države, koji osigurava egzistenciju svoje maloljetne djece, građana Unije, boravak u državi članici u kojoj ta djeca imaju prebivalište i čiji su građani i, s druge stane, da odbije dotičnom građanu treće države davanje radne dozvole, ukoliko bi takve mjere uskratile toj djeci stvarnu korist prava koja iz proizlaze iz statuta građana Unije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Imigra</a:t>
            </a:r>
            <a:r>
              <a:rPr b="0" lang="hr-HR" sz="3300" spc="-1" strike="noStrike">
                <a:solidFill>
                  <a:srgbClr val="898989"/>
                </a:solidFill>
                <a:latin typeface="Book Antiqua"/>
              </a:rPr>
              <a:t>cija građana Unije provodi se dakle, prioritarno, </a:t>
            </a: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300" spc="-1" strike="noStrike">
                <a:solidFill>
                  <a:srgbClr val="898989"/>
                </a:solidFill>
                <a:latin typeface="Book Antiqua"/>
              </a:rPr>
              <a:t>Zakonom o slobodnom kretanju građana Unije </a:t>
            </a: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Freizügigkeitsgesetz/EU</a:t>
            </a: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U skladu s člankom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12,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imjenjuje se i građanima i članovima njihovih obitelji iz država europskog gospodarskog prostora, znači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Island, Liechtenstein i Norve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ška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48920" y="44748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5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”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bijanje prava na boravak jednoj osobi, građaninu treće države, u državi članici u kojoj prebivaju njegova maloljetna djeca, građani dotične države, čije uzdržavanje osigurava, kao i odbijanje radne dozvole dotičnom građanu imat će takav učinak. 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Stoga, treba se smatrati da takvo odbijanje davanje radne dozvole imat će kao posljedicu to da će dotična djeca, građani Unije, biti primorani napustiti teritorij Unije kako bi pratili svoje roditelje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. ..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U takvim uvjetima, dotični će građani Unije biti, zapravo, u nemogućnosti izvršiti srž prava koja imaju statusom građana Europske Unije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.”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1360" y="6919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gledati također sadašnjiu sudsku praku Europskog suda, odluku 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3.09.2016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304/14 ș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 odluku 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13.09.2016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165/14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oširenje primjene odredaba u vezi ponovnog okupljanja obitelja u slučaju supružnika ipak je diskutabilno, jer njemački građani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N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u obvezni de facto napustiti matičnu zemlj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azina uplitanja/intervencije uvjeta u vezi ponovog ujedinjenja obitelj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minimalna dob, poznavanje jezika) relativno je niska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 o slobodnom kretanju građana Unij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Freizügigkeitsgesetz/EU)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čel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avo na slobodu kretanja građana Unije zajamčen je člankom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porazuma o funkcioniranju Europske Unij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ex-articolul 18 TC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Book Antiqu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vaki građanin Unije ima pravo kretati se i boraviti na državnom području država članica, vodeći računa o ograničenjima i uvjetima utvrđenim u Ugovorima i u mjerama usvojenim radi njihove provedb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2)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Ako se pokaže da je potrebno djelovanje Unije za ostvarenje tog cilja, a Ugovori ne predviđaju potrebne ovlasti, Europski parlament i Vijeće odlučujući u skladu s redovnim zakonodavnim postupkom, mogu usvojiti odredbe radi olakšavanja ostvarivanja prava iz stav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1)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3)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adi istih ciljeva kao što su oni iz stav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1) i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ako se Ugovorima ne predviđaju potrebne ovlasti, Vijeće, u skladu s posebnim zakonodavnim postupkom može usvojiti mjere koje se odnose na socijalnu sigurnost ili socijalnu zaštitu. Vijeće odlučuje jednoglasno, nakon savjetovanja s Europskim Parlamentom.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o ovo ne znači: bezuvjetno prav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„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dložno ograničenjima i uvjetima utvrđenima u ugovorima i mjerama njihove primjen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”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nači da se pravo na slobodno kretanje može izvršiti samo u uvjetima i ograničenjima europskog pra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I.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pći pogled na njemačko prav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lazak i boravak jednog građanina Unije na državnom teritoriju države članice ne podliježe nikakvim uvjetima i zahtjevima na razdoblje od tri mjeseca. Građanin Unije mora samo posjedovati valjani identifikacijski dokument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Njemačk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 slobodnom kretanj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/ FreizügigkeitsG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5Z</dcterms:created>
  <dc:creator>N</dc:creator>
  <dc:description/>
  <dc:language>en-US</dc:language>
  <cp:lastModifiedBy>Mihail Doran</cp:lastModifiedBy>
  <dcterms:modified xsi:type="dcterms:W3CDTF">2016-10-28T06:47:28Z</dcterms:modified>
  <cp:revision>327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