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F1F-6540-4C10-BAF6-CC34B368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94E-DC01-4337-BBD3-6010424F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520-FAA9-489D-94C3-086416F3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FDA-52ED-4AFF-BBF7-27FD5262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094-6F61-443A-B522-37F4F5BA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08E-3287-4918-B2C8-E9B076A5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7C1-1F5E-4CDC-A1AD-FB228F60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02F-6B19-4A25-82C2-DBA77A1F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7BD-E5E6-4C50-B33F-B9660878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A4B-775E-45D6-BBC1-3A55D55F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0EA-7499-487F-907E-8AA9469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E8B-81A3-410C-899C-942D013C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D1C8A-B737-4A34-B268-BC6F21EC7AA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FEDFC-5AD2-4ADC-AF13-7187765C9F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3200" y="1614600"/>
            <a:ext cx="77724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800" spc="-1" strike="noStrike">
                <a:solidFill>
                  <a:srgbClr val="7f7f7f"/>
                </a:solidFill>
                <a:latin typeface="Book Antiqua"/>
              </a:rPr>
              <a:t>Zakon o europskom postupku zaštite protiv nasilja od </a:t>
            </a:r>
            <a:r>
              <a:rPr b="0" lang="zh-CN" sz="4800" spc="-1" strike="noStrike">
                <a:solidFill>
                  <a:srgbClr val="7f7f7f"/>
                </a:solidFill>
                <a:latin typeface="Book Antiqua"/>
              </a:rPr>
              <a:t> 5</a:t>
            </a:r>
            <a:r>
              <a:rPr b="0" lang="hr-HR" sz="4800" spc="-1" strike="noStrike">
                <a:solidFill>
                  <a:srgbClr val="7f7f7f"/>
                </a:solidFill>
                <a:latin typeface="Book Antiqua"/>
              </a:rPr>
              <a:t>.</a:t>
            </a:r>
            <a:r>
              <a:rPr b="0" lang="zh-CN" sz="48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hr-HR" sz="4800" spc="-1" strike="noStrike">
                <a:solidFill>
                  <a:srgbClr val="7f7f7f"/>
                </a:solidFill>
                <a:latin typeface="Book Antiqua"/>
              </a:rPr>
              <a:t>prosinca</a:t>
            </a:r>
            <a:r>
              <a:rPr b="0" lang="zh-CN" sz="4800" spc="-1" strike="noStrike">
                <a:solidFill>
                  <a:srgbClr val="7f7f7f"/>
                </a:solidFill>
                <a:latin typeface="Book Antiqua"/>
              </a:rPr>
              <a:t> 2014</a:t>
            </a:r>
            <a:r>
              <a:rPr b="0" lang="hr-HR" sz="4800" spc="-1" strike="noStrike">
                <a:solidFill>
                  <a:srgbClr val="7f7f7f"/>
                </a:solidFill>
                <a:latin typeface="Book Antiqu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61960" y="755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§ 17-23 propisuj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 postupak koji se treba poštovati interno, za priznavanje i izvršenje potvrda iz inozemstva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Za zahtjeve za odbijanje priznavanja ili izvršenja u skladu s člankom 13 stavak 1 Uredbe 606/2013 nadležan je 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biteljski sud 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 (Sud na kojem se rješavaju obiteljski sporovi) 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iz članka § 19, § 21 stavak 1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U vezi zahtjeva za odbijanje priznavanja ili izvršenja, sud će se očitovati obrazloženom odlukom, član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k § 21 stavak  3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Odluka se može donijeti bez rasprave, ali zaštićena osoba treba se saslušati prije donošenja odluk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, članak § 21 stavak 3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Protiv odluke može se podnijeti žalba, članak § 21 stavak 4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§ 17-23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propisuj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postupak koji se treba poštovati interno, za priznavanje i izvršenje potv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r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da iz inozemstva:  </a:t>
            </a:r>
            <a:br>
              <a:rPr sz="3200"/>
            </a:b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Onda kada zaštićena osoba ili osoba koja predstavlja opasnost predoče  potvrdu sukladno članku </a:t>
            </a:r>
            <a:r>
              <a:rPr b="0" lang="zh-CN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 14 </a:t>
            </a:r>
            <a:r>
              <a:rPr b="0" lang="hr-HR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stavak </a:t>
            </a:r>
            <a:r>
              <a:rPr b="0" lang="zh-CN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1  </a:t>
            </a:r>
            <a:r>
              <a:rPr b="0" lang="hr-HR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Uredbe</a:t>
            </a:r>
            <a:r>
              <a:rPr b="0" lang="zh-CN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 606/2013  (suspen</a:t>
            </a:r>
            <a:r>
              <a:rPr b="0" lang="hr-HR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zija ili ukidanje mjere zaštite ili suspenzija ili ograničenje prisilne ovrhe</a:t>
            </a:r>
            <a:r>
              <a:rPr b="0" lang="zh-CN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),</a:t>
            </a:r>
            <a:r>
              <a:rPr b="0" lang="hr-HR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 tada prisilna ovrha prestaje ili se ograničuje</a:t>
            </a:r>
            <a:r>
              <a:rPr b="0" lang="zh-CN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, § 22 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70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  <a:ea typeface="SimSun"/>
              </a:rPr>
              <a:t>Osoba koja predstavlja opasnost može u bilo kojem trenutku uputiti zahtjev za odbijanje izvršenja, a za to je nadležan sud naveden u člancima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  <a:ea typeface="SimSun"/>
              </a:rPr>
              <a:t> § 19, § 23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ao što smo već rekli, prekogranična je zaštita protiv nasilja uređena u pravu Europske Unije dvaju normativnim aktima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redba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606/2013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građanske stvari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Dir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tiva 2011/99/UE din 13.12.2011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aznene stvari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redba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606/2013/E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 stupila je na snagu počevši od 11. siječnja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2015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2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redbe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),</a:t>
            </a:r>
            <a:br>
              <a:rPr sz="2800"/>
            </a:b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Također, rok provedbe Europske direktive o zaštiti protiv nasilja istekao je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11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. siječnja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2015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.</a:t>
            </a:r>
            <a:br>
              <a:rPr sz="2800"/>
            </a:b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Njemački je zakonodavac ispravno reagirao i usvojio 4. prosinca 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2014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”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 o provedbi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Dire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tive 2011/99/E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o europskom nalogu za zaštitu i za primjenu Uredbe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(E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)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r. 606/2013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o međusobnom priznavanju mjera zaštite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 građanski stvarima", koji je stupio na snagu 11. siječnja 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2015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 skladu s člankom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1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otičnog zakona, jednim se zakonom provode se kako odredbe Uredbe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606/2013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tako i odredbe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Dir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tive 2011/99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, a to j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„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kon o europskom postupku zaštite protiv nasilja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(EU-Gewaltschutzverfahrensgesetz –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EUGewSchVG“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Članci 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§§ 1-1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ovog zakona uređuju i priznavanje i izvršenje mjere u skladu s Direktivom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2011/99/UE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pa stoga nisu zanimljive za ovu prezentaciju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Treba zapamtiti:</a:t>
            </a:r>
            <a:r>
              <a:rPr b="0" lang="zh-CN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obzirom da u Njemačkoj ne postoje mjere zaštite protiv nasilja u kaznenim stvarima, ove se odredbe odnose samo na primanje i provedbu  zahtjeva u drugoj državi članici </a:t>
            </a:r>
            <a:br>
              <a:rPr sz="2200"/>
            </a:b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Isključivu nadležnost za primanje zahtjeva  ima Obiteljski sud (Sud na kojem se rješavaju obiteljski sporovi) na čijem se području (okrugu) nalazi prebivalište zaštićene osobe 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§ 3,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Onda kad sud prizna nalog za zaštitu, onda isti donosi istovremeno i mjeru, u skladu s člankom 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§ 1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Zakona protiv nasilja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, § 9 (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dokaz potreban prema nacionalnom pravu 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=  interdisciplinar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no prilagođavanje u pravnim stvarima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!)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Članci </a:t>
            </a:r>
            <a:r>
              <a:rPr b="0" lang="zh-CN" sz="2400" spc="-1" strike="noStrike">
                <a:solidFill>
                  <a:srgbClr val="898989"/>
                </a:solidFill>
                <a:latin typeface="Book Antiqua"/>
              </a:rPr>
              <a:t>§ 14-16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propisuju postupak koji se treba poštovati za zahtjev upućen drugoj državi: </a:t>
            </a:r>
            <a:br>
              <a:rPr sz="2400"/>
            </a:br>
            <a:r>
              <a:rPr b="0" lang="zh-CN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Za izdavanje potvrde u skladu s člankom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 5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stavak 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1 i 14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, stavak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Uredbe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606/2013 ”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nadležni su sudovi koji su obvezni izdati izvršnu kopiju dokumenta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”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, znači Obiteljski sud (Sud na kojem se rješavaju obiteljski sporovi) ,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§ 14.</a:t>
            </a:r>
            <a:br>
              <a:rPr sz="2000"/>
            </a:br>
            <a:r>
              <a:rPr b="0" lang="zh-CN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Osoba koja predstavlja opasnost nije saslušanja prije izdavanja potvrde, 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§ 15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rečenica 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1.</a:t>
            </a:r>
            <a:br>
              <a:rPr sz="2000"/>
            </a:br>
            <a:r>
              <a:rPr b="0" lang="zh-CN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Potvrda se na odgovarajući  način mora poslati osobi koja predstavlja opasnost, u skladu s pravilima predviđenim u članku 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8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Uredbe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606/2013, § 15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rečenica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2.</a:t>
            </a:r>
            <a:br>
              <a:rPr sz="2000"/>
            </a:br>
            <a:r>
              <a:rPr b="0" lang="zh-CN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Za ispravljanje, odnosno poništenje potvde u skladu s člankom 9 Uredbe </a:t>
            </a:r>
            <a:r>
              <a:rPr b="0" lang="zh-CN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 606/2013 § 16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, poziva se na </a:t>
            </a:r>
            <a:r>
              <a:rPr b="0" lang="zh-CN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 § 42 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stavak</a:t>
            </a:r>
            <a:r>
              <a:rPr b="0" lang="zh-CN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 2 i 3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 Zakona o postupku u obiteljskim stvarima, znači kontestacija (žalba) samo u slučaju ispravka, odnosno poništenja.</a:t>
            </a:r>
            <a:r>
              <a:rPr b="0" lang="zh-CN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§§ 13-23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ređuju priznavanje i izvršenje mjera u skladu s Uredbom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606/2013/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etaljno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§ 13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kona određuje da država članica u smislu zakona je svaka država članica Europske Unije, izuzev Danske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Book Antiqua"/>
              </a:rPr>
              <a:t>§ 17-23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propisuje postupak koji se treba poštovati interno, za priznavanje i izvršenje potvrda iz inozemstva</a:t>
            </a:r>
            <a:r>
              <a:rPr b="0" lang="zh-CN" sz="2400" spc="-1" strike="noStrike">
                <a:solidFill>
                  <a:srgbClr val="898989"/>
                </a:solidFill>
                <a:latin typeface="Book Antiqua"/>
              </a:rPr>
              <a:t>:</a:t>
            </a:r>
            <a:br>
              <a:rPr sz="2400"/>
            </a:br>
            <a:r>
              <a:rPr b="0" lang="zh-CN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N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ije potrebna izvršna klauzula, </a:t>
            </a:r>
            <a:r>
              <a:rPr b="0" lang="zh-CN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  § 17.</a:t>
            </a:r>
            <a:br>
              <a:rPr sz="2500"/>
            </a:br>
            <a:r>
              <a:rPr b="0" lang="zh-CN" sz="25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Potvrda treba biti prevedena na njemački jezik</a:t>
            </a:r>
            <a:r>
              <a:rPr b="0" lang="zh-CN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, § 18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Teritorijalno gledano, isključivu nadležnost za prisilnu ovrhu ima Obiteljski sud (Sud na kojem se rješavaju obiteljski sporovi), u skladu s člankom</a:t>
            </a:r>
            <a:r>
              <a:rPr b="0" lang="zh-CN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 19,  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u čijem  okrugu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živi osoba koja predstavlja opasnost ili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obavlja se prisilna ovrh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§ 17-23 propisuj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postupak koji se treba poštovati interno, za priznavanje i izvršenje potv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r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da iz inozemstva:</a:t>
            </a:r>
            <a:br>
              <a:rPr sz="2800"/>
            </a:b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Sud može prilagoditi potvrdu suklano članku </a:t>
            </a:r>
            <a:r>
              <a:rPr b="0" lang="zh-CN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11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Uredbe </a:t>
            </a:r>
            <a:r>
              <a:rPr b="0" lang="zh-CN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606/2013,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ukoliko je to potrebno</a:t>
            </a:r>
            <a:r>
              <a:rPr b="0" lang="zh-CN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, § 20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Prilagođavanje je moguće bez rasprave i bez saslušanja osobe koja predstavlja opasnost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Odluka kojom se vrši prilagođavanje izvršna je, bez da bude potrebna izvršna klauzula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Odluka kojom je izvršena prilagodba treba se dostaviti zaštićenoj osobi i osobi koja predstavlja opasnost, imajući u vidu činjenicu da se dostavljanje osobi koja predstavlja opasnost vrši u skladu s člankom 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1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stavak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4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Uredbe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606/2013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Na odluku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kojom je obavljena prilagodba, može se uložiti žalba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2T08:41:00Z</dcterms:created>
  <dc:creator>N</dc:creator>
  <dc:description/>
  <dc:language>en-US</dc:language>
  <cp:lastModifiedBy>Adriana Mindriloiu</cp:lastModifiedBy>
  <dcterms:modified xsi:type="dcterms:W3CDTF">2016-10-26T13:47:03Z</dcterms:modified>
  <cp:revision>171</cp:revision>
  <dc:subject/>
  <dc:title>Umsetzung der Richtlinie 2004/38 im deutschen Rec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5050</vt:lpwstr>
  </property>
</Properties>
</file>