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9061-2613-4912-8E3F-3FB91D8DD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83D6-C9B2-49E0-B2B4-FA7F8F4B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1B16-B85C-4E98-8305-897B3C67F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2CFC-5554-472E-9CDE-8A5EC4834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90CA-EA3D-432B-B7C2-340BAE4A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F28B-D115-4B46-8AB8-36D9DD09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E2E7-7887-4CD8-9104-131FF38B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A6AB-81F9-40AC-8C38-292D3835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8A7D-AF4B-4690-83F0-00E085DD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736A-0D57-4B17-9A17-9A1AA24D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4944-2029-4D71-99C6-BD3AD841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7ABA-8081-4DDE-84A0-F4806279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0BB943-99FA-4A10-AE68-0C850250812B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o-RO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3AA113-A605-4A38-B833-8D6F2D3295F3}" type="slidenum">
              <a:rPr b="0" lang="ro-RO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4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7f7f7f"/>
                </a:solidFill>
                <a:latin typeface="Book Antiqua"/>
              </a:rPr>
              <a:t>Direktiva </a:t>
            </a:r>
            <a:br>
              <a:rPr sz="6000"/>
            </a:br>
            <a:r>
              <a:rPr b="0" lang="ro-RO" sz="6000" spc="-1" strike="noStrike">
                <a:solidFill>
                  <a:srgbClr val="7f7f7f"/>
                </a:solidFill>
                <a:latin typeface="Book Antiqua"/>
              </a:rPr>
              <a:t>2004/38 CE Europskog P</a:t>
            </a:r>
            <a:r>
              <a:rPr b="0" lang="hr-HR" sz="6000" spc="-1" strike="noStrike">
                <a:solidFill>
                  <a:srgbClr val="7f7f7f"/>
                </a:solidFill>
                <a:latin typeface="Book Antiqua"/>
              </a:rPr>
              <a:t>a</a:t>
            </a:r>
            <a:r>
              <a:rPr b="0" lang="ro-RO" sz="6000" spc="-1" strike="noStrike">
                <a:solidFill>
                  <a:srgbClr val="7f7f7f"/>
                </a:solidFill>
                <a:latin typeface="Book Antiqua"/>
              </a:rPr>
              <a:t>rlamenta i Vije</a:t>
            </a:r>
            <a:r>
              <a:rPr b="0" lang="hr-HR" sz="6000" spc="-1" strike="noStrike">
                <a:solidFill>
                  <a:srgbClr val="7f7f7f"/>
                </a:solidFill>
                <a:latin typeface="Book Antiqua"/>
              </a:rPr>
              <a:t>ća</a:t>
            </a:r>
            <a:r>
              <a:rPr b="0" lang="ro-RO" sz="6000" spc="-1" strike="noStrike">
                <a:solidFill>
                  <a:srgbClr val="7f7f7f"/>
                </a:solidFill>
                <a:latin typeface="Book Antiqua"/>
              </a:rPr>
              <a:t> </a:t>
            </a:r>
            <a:br>
              <a:rPr sz="6000"/>
            </a:br>
            <a:r>
              <a:rPr b="0" lang="hr-HR" sz="3200" spc="-1" strike="noStrike">
                <a:solidFill>
                  <a:srgbClr val="7f7f7f"/>
                </a:solidFill>
                <a:latin typeface="Book Antiqua"/>
              </a:rPr>
              <a:t>od</a:t>
            </a:r>
            <a:r>
              <a:rPr b="0" lang="ro-RO" sz="3200" spc="-1" strike="noStrike">
                <a:solidFill>
                  <a:srgbClr val="7f7f7f"/>
                </a:solidFill>
                <a:latin typeface="Book Antiqua"/>
              </a:rPr>
              <a:t> 29</a:t>
            </a:r>
            <a:r>
              <a:rPr b="0" lang="hr-HR" sz="3200" spc="-1" strike="noStrike">
                <a:solidFill>
                  <a:srgbClr val="7f7f7f"/>
                </a:solidFill>
                <a:latin typeface="Book Antiqua"/>
              </a:rPr>
              <a:t>. travnja</a:t>
            </a:r>
            <a:r>
              <a:rPr b="0" lang="ro-RO" sz="3200" spc="-1" strike="noStrike">
                <a:solidFill>
                  <a:srgbClr val="7f7f7f"/>
                </a:solidFill>
                <a:latin typeface="Book Antiqua"/>
              </a:rPr>
              <a:t>  2004</a:t>
            </a:r>
            <a:r>
              <a:rPr b="0" lang="hr-HR" sz="3200" spc="-1" strike="noStrike">
                <a:solidFill>
                  <a:srgbClr val="7f7f7f"/>
                </a:solidFill>
                <a:latin typeface="Book Antiqua"/>
              </a:rPr>
              <a:t>.</a:t>
            </a:r>
            <a:r>
              <a:rPr b="0" lang="ro-RO" sz="6000" spc="-1" strike="noStrike">
                <a:solidFill>
                  <a:srgbClr val="7f7f7f"/>
                </a:solidFill>
                <a:latin typeface="Book Antiqu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Članak 5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Definira pravo ulaska u jednu državu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Članak 4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Defin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ira pravo na napuštanje jedne države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Članak 7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Utvrđuje uvjetovano pravo boravka na razdoblje dulje od tri mjeseca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Članak 6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Utvrđuje </a:t>
            </a:r>
            <a:r>
              <a:rPr b="0" lang="hr-HR" sz="3200" spc="-1" strike="noStrike" u="sng">
                <a:solidFill>
                  <a:srgbClr val="898989"/>
                </a:solidFill>
                <a:uFillTx/>
                <a:latin typeface="Book Antiqua"/>
              </a:rPr>
              <a:t>bezuvjetno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 pravo boravka na razdoblje od najviše tri  mjeseca</a:t>
            </a:r>
            <a:r>
              <a:rPr b="0" lang="en-US" sz="32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Članci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8 - 11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Administrativne odredbe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;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ovdje nisu zanimljive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Članak 13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Utvrđuje zadržavanje prava boravka za članove obitelji u slučaju razvoda ili prestanka registriranog partnerstva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Članak 12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Utvrđuje zadržavanje prava boravka za članove obitelji ako građanin Unije premine ili u slučaju njegovog odlaska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Članak 15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Pre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dviđa postupovna jamstva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Članak 14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Utvrđuje zadržavanje prava boravka, u specijalnim slučajevima, na primjer pri davanju socijalnih naknada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Članak 16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Donosi opće pravilo za građane Unije i za članove njihovih obitelji za dodjelu prava na stalni boravak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Glavne teme Direktive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01"/>
              </a:spcBef>
              <a:buClr>
                <a:srgbClr val="89898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898989"/>
                </a:solidFill>
                <a:latin typeface="Book Antiqua"/>
              </a:rPr>
              <a:t>Europsko državljanstvo daje svakom građaninu Unije elementarno i osobno pravo slobodnog kretanja i uspostave prebivališta na suverenom teritoriju država članica (uz ograničenja i uvjete predviđene u Ugovoru i u Normama primjene)</a:t>
            </a:r>
            <a:r>
              <a:rPr b="0" lang="ro-RO" sz="2400" spc="-1" strike="noStrike">
                <a:solidFill>
                  <a:srgbClr val="898989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89898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89898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898989"/>
                </a:solidFill>
                <a:latin typeface="Book Antiqua"/>
              </a:rPr>
              <a:t>Sloboda kretanja osoba jedno je od temeljnih prava zajedničkog tržišta. </a:t>
            </a:r>
            <a:br>
              <a:rPr sz="2400"/>
            </a:br>
            <a:r>
              <a:rPr b="0" lang="ro-RO" sz="24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01"/>
              </a:spcBef>
              <a:buClr>
                <a:srgbClr val="89898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898989"/>
                </a:solidFill>
                <a:latin typeface="Book Antiqua"/>
              </a:rPr>
              <a:t>Europsko državljanstvo trebalo bi biti glavni status građana država članica, onda kada oni izvršavaju pravo kretanja i određivanja prebivališta</a:t>
            </a:r>
            <a:r>
              <a:rPr b="0" lang="ro-RO" sz="2400" spc="-1" strike="noStrike">
                <a:solidFill>
                  <a:srgbClr val="898989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01"/>
              </a:spcBef>
              <a:buClr>
                <a:srgbClr val="89898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89898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Članak 17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Obuhvaća norme odstupanja od prava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na stalni boravak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Članak 18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Obuhvaća pravila izuzeća od stjecanja prava na stalni boravak od strane određenih članova obitelji (u slučaju da građanin Unije premine ili u slučaju njegova odlaska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Članci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19-20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Obuhvaća administrativne odredbe, koje ovdje nisu zanimljive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Članak 21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Govori o tome što se podrazumijeva pod 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„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nastavkom boravka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Članci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22-23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Utvrđuje područje teritorijalne i materijalne primjene prava na boravak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Članak 24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Utvrđuje jednako postupanje (jednaki tretman) 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(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Važno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!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Članci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25-26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Obuhvaća administrativne odredbe, koje ovdje nisu zanimljive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Članak 27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Obuhvaća opća pravila o ograničenju prava ulaska i prava boravka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Članak 29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Definira koncept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”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javno zdravstvo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Članak 28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Utvrđuje pretspostavke o zaštiti protiv protjerivanja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000" spc="-1" strike="noStrike">
                <a:solidFill>
                  <a:srgbClr val="898989"/>
                </a:solidFill>
                <a:latin typeface="Book Antiqua"/>
              </a:rPr>
              <a:t>Cilj D</a:t>
            </a:r>
            <a:r>
              <a:rPr b="0" lang="ro-RO" sz="3000" spc="-1" strike="noStrike">
                <a:solidFill>
                  <a:srgbClr val="898989"/>
                </a:solidFill>
                <a:latin typeface="Book Antiqua"/>
              </a:rPr>
              <a:t>i</a:t>
            </a:r>
            <a:r>
              <a:rPr b="0" lang="hr-HR" sz="3000" spc="-1" strike="noStrike">
                <a:solidFill>
                  <a:srgbClr val="898989"/>
                </a:solidFill>
                <a:latin typeface="Book Antiqua"/>
              </a:rPr>
              <a:t>rektive</a:t>
            </a:r>
            <a:r>
              <a:rPr b="0" lang="ro-RO" sz="3000" spc="-1" strike="noStrike">
                <a:solidFill>
                  <a:srgbClr val="898989"/>
                </a:solidFill>
                <a:latin typeface="Book Antiqu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89898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Dosadašnji fragmentarni propisi o slobodi kretanja i određivanja prebivališta zahtijevaju uređivanje jednim pravnim aktom/dokumentom. 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89898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Pravo svakog građanina Europske Unije na slobodno kretanje i određivanje prebivališta na suverenom teritoriju država članica treba biti dodijeljeno i članovima obitelji, bez obzira na njihovo državljanstvo 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 (</a:t>
            </a: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uključivši partnere iz registriranog građanskog partnerstva, ako je u zemlji boravka legalno predviđeno takvo partnerstvo</a:t>
            </a:r>
            <a:r>
              <a:rPr b="0" lang="ro-RO" sz="2200" spc="-1" strike="noStrike">
                <a:solidFill>
                  <a:srgbClr val="898989"/>
                </a:solidFill>
                <a:latin typeface="Book Antiqua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89898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200" spc="-1" strike="noStrike">
                <a:solidFill>
                  <a:srgbClr val="898989"/>
                </a:solidFill>
                <a:latin typeface="Book Antiqua"/>
              </a:rPr>
              <a:t>Građani bi Europske Unije trebali imati pravo odrediti svoje prebivalište u državi članici domaćinu na razdoblje od jedan do tri mjeseca, bez da nameće druge uvjete ili formalnosti, izuzev obveze posjedovanja valjane osobne iskaznice ili valjane putovnice. 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Članci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30-31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Obuhvaća postupovna jamstva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Članak 32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Utvrđuje vremensko ograničenje zabrane boravka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Članak 33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Utvrđuje pretpostavke protjerivanja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Članak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34 i 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sljedeći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Finalne odredbe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(</a:t>
            </a: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ovdje nisu zanimljive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Cilj Direktive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89898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898989"/>
                </a:solidFill>
                <a:latin typeface="Book Antiqua"/>
              </a:rPr>
              <a:t>Osobe koje koriste pravo određivanja prebivališta u jednoj državi članici trebale bi na prikladan način primati od države članice domaćina socijalnu pomoć, tijekom prvog boravka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89898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898989"/>
                </a:solidFill>
                <a:latin typeface="Book Antiqua"/>
              </a:rPr>
              <a:t>Trebalo bi pružiti pravnu zaštitu članovima obitelji, onda kada europski građanin premine, kada se brak razvede ili se ukine ili prestane civilno partnerstvo. </a:t>
            </a:r>
            <a:br>
              <a:rPr sz="2400"/>
            </a:br>
            <a:r>
              <a:rPr b="0" lang="ro-RO" sz="24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89898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898989"/>
                </a:solidFill>
                <a:latin typeface="Book Antiqua"/>
              </a:rPr>
              <a:t>Ukoliko osobe opravdane odrediti svoje prebivalište  ne dobiju, na prikladan način, socijalna primanja u državi članici domaćinu, ne bi trebale biti protjerane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Cilj Direktive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89898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898989"/>
                </a:solidFill>
                <a:latin typeface="Book Antiqua"/>
              </a:rPr>
              <a:t>Ograničenja prava na slobodno kretanje i određivanje prebivališta predviđena su samo iz razloga javnog reda, sigurnosti i zdravstva</a:t>
            </a:r>
            <a:r>
              <a:rPr b="0" lang="ro-RO" sz="2400" spc="-1" strike="noStrike">
                <a:solidFill>
                  <a:srgbClr val="898989"/>
                </a:solidFill>
                <a:latin typeface="Book Antiqua"/>
              </a:rPr>
              <a:t>.</a:t>
            </a:r>
            <a:br>
              <a:rPr sz="2400"/>
            </a:br>
            <a:r>
              <a:rPr b="0" lang="ro-RO" sz="24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89898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898989"/>
                </a:solidFill>
                <a:latin typeface="Book Antiqua"/>
              </a:rPr>
              <a:t>Protjerivanje građana Unije i članova njihovih obitelji iz razloga javnog reda i sigurnosti trebalo bi biti ograničeno zbog mogućnosti negativnih posljedica, u skladu s načelom proporcionalnosti </a:t>
            </a:r>
            <a:r>
              <a:rPr b="0" lang="ro-RO" sz="2400" spc="-1" strike="noStrike">
                <a:solidFill>
                  <a:srgbClr val="898989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89898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898989"/>
                </a:solidFill>
                <a:latin typeface="Book Antiqua"/>
              </a:rPr>
              <a:t>Uvijek bi trebala postojati mogućnost žaljenja na nepoštivanje prava slobodnog kretanja</a:t>
            </a:r>
            <a:r>
              <a:rPr b="0" lang="ro-RO" sz="2400" spc="-1" strike="noStrike">
                <a:solidFill>
                  <a:srgbClr val="898989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89898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800" spc="-1" strike="noStrike">
                <a:solidFill>
                  <a:srgbClr val="898989"/>
                </a:solidFill>
                <a:latin typeface="Book Antiqua"/>
              </a:rPr>
              <a:t>Cilj Direktive</a:t>
            </a:r>
            <a:r>
              <a:rPr b="0" lang="ro-RO" sz="2800" spc="-1" strike="noStrike">
                <a:solidFill>
                  <a:srgbClr val="898989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499"/>
              </a:spcBef>
              <a:buClr>
                <a:srgbClr val="89898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Bezuvjetno  pravo borakva trebalo bi biti dodijeljeno građanima Unije koji žele ostvariti svoje pravo boravka dugotrajno.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99"/>
              </a:spcBef>
              <a:buClr>
                <a:srgbClr val="89898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Treba se osigurati jednak tretman kao i građanima države članice (zabrana diskriminacije - u uvjetima specifičnih i izričitih odredaba iz Ugovora i iz sekundarnog prava </a:t>
            </a: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).</a:t>
            </a:r>
            <a:br>
              <a:rPr sz="2000"/>
            </a:br>
            <a:r>
              <a:rPr b="0" lang="ro-RO" sz="2000" spc="-1" strike="noStrike">
                <a:solidFill>
                  <a:srgbClr val="898989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499"/>
              </a:spcBef>
              <a:buClr>
                <a:srgbClr val="898989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000" spc="-1" strike="noStrike">
                <a:solidFill>
                  <a:srgbClr val="898989"/>
                </a:solidFill>
                <a:latin typeface="Book Antiqua"/>
              </a:rPr>
              <a:t>Država bi članica domaćin trebala ostati nadležna odlučiti da li će dodijeliti tijekom prva tri mjeseca boravka socijalne naknade drugim zaposlenim osobama ili osobama koje rade honorano, kao i članovima njihovih obitelji, ili ako traže radno mjesto, na dulje razdoblje.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4100" spc="-1" strike="noStrike">
                <a:solidFill>
                  <a:srgbClr val="898989"/>
                </a:solidFill>
                <a:latin typeface="Book Antiqua"/>
              </a:rPr>
              <a:t>Pojedini propisi</a:t>
            </a: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 Dire</a:t>
            </a:r>
            <a:r>
              <a:rPr b="0" lang="hr-HR" sz="4100" spc="-1" strike="noStrike">
                <a:solidFill>
                  <a:srgbClr val="898989"/>
                </a:solidFill>
                <a:latin typeface="Book Antiqua"/>
              </a:rPr>
              <a:t>k</a:t>
            </a: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Članak</a:t>
            </a: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Propisuje cilj Direktive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Članak 2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Obuhvaća definicije relevantnih koncepata Direktive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96640" y="309600"/>
            <a:ext cx="85122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4100" spc="-1" strike="noStrike">
                <a:solidFill>
                  <a:srgbClr val="898989"/>
                </a:solidFill>
                <a:latin typeface="Book Antiqua"/>
              </a:rPr>
              <a:t>Pojedini propisi Direktive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Book Antiqua"/>
              </a:rPr>
              <a:t>Članak 3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Book Antiqua"/>
              </a:rPr>
              <a:t>Definira primatelje (korisnike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2T08:41:00Z</dcterms:created>
  <dc:creator>N</dc:creator>
  <dc:description/>
  <dc:language>en-US</dc:language>
  <cp:lastModifiedBy>Mihail Doran</cp:lastModifiedBy>
  <dcterms:modified xsi:type="dcterms:W3CDTF">2016-10-27T06:48:45Z</dcterms:modified>
  <cp:revision>162</cp:revision>
  <dc:subject/>
  <dc:title>Umsetzung der Richtlinie 2004/38 im deutschen Rech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5050</vt:lpwstr>
  </property>
</Properties>
</file>