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60E-3DEB-4C11-B0E4-1880EB58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B86-0C96-4077-BD01-87E02B6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55E-824D-432F-86B4-52FA18C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D92-8A4B-422D-AC60-508C64BD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F7D-8506-4D58-9064-81FA723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860-6A3F-4AB1-8DD9-17AA371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E1D-2304-4BC4-B82E-B98A9A6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564-E513-49C5-8C64-A5395A9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B35-4BC9-4F6B-A4CA-02CA7F09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AFE-277D-4054-A3E6-F16E5EC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64F-7E62-4D19-AAF4-8496AC7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37E-5573-45E5-8834-4987618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6EB33-4E8D-489D-9A22-23D242DE283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935AE-335C-45B2-9E6C-D217593A8AFA}" type="slidenum">
              <a:rPr b="0" lang="ro-R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Direktiva </a:t>
            </a:r>
            <a:br>
              <a:rPr sz="6000"/>
            </a:b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2004/38 CE Europskog P</a:t>
            </a:r>
            <a:r>
              <a:rPr b="0" lang="hr-HR" sz="6000" spc="-1" strike="noStrike">
                <a:solidFill>
                  <a:srgbClr val="7f7f7f"/>
                </a:solidFill>
                <a:latin typeface="Book Antiqua"/>
              </a:rPr>
              <a:t>a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rlamenta i Vije</a:t>
            </a:r>
            <a:r>
              <a:rPr b="0" lang="hr-HR" sz="6000" spc="-1" strike="noStrike">
                <a:solidFill>
                  <a:srgbClr val="7f7f7f"/>
                </a:solidFill>
                <a:latin typeface="Book Antiqua"/>
              </a:rPr>
              <a:t>ća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 </a:t>
            </a:r>
            <a:br>
              <a:rPr sz="6000"/>
            </a:b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od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 29</a:t>
            </a: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. travnja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  2004</a:t>
            </a: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.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5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pravo ulaska u jednu državu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Defin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ra pravo na napuštanje jedne drža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uvjetovano pravo boravka na razdoblje dulje od tri mjesec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</a:t>
            </a:r>
            <a:r>
              <a:rPr b="0" lang="hr-HR" sz="3200" spc="-1" strike="noStrike" u="sng">
                <a:solidFill>
                  <a:srgbClr val="898989"/>
                </a:solidFill>
                <a:uFillTx/>
                <a:latin typeface="Book Antiqua"/>
              </a:rPr>
              <a:t>bezuvjetno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pravo boravka na razdoblje od najviše tri  mjeseca</a:t>
            </a:r>
            <a:r>
              <a:rPr b="0" lang="en-US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8 - 1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dministrativne odredb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;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 za članove obitelji u slučaju razvoda ili prestanka registriranog partnerst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 za članove obitelji ako građanin Unije premine ili u slučaju njegovog odlask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5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viđa postupovna jamstv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, u specijalnim slučajevima, na primjer pri davanju socijalnih naknad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nosi opće pravilo za građane Unije i za članove njihovih obitelji za dodjelu prava na stalni boravak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lavne teme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Europsko državljanstvo daje svakom građaninu Unije elementarno i osobno pravo slobodnog kretanja i uspostave prebivališta na suverenom teritoriju država članica (uz ograničenja i uvjete predviđene u Ugovoru i u Normama primjene)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loboda kretanja osoba jedno je od temeljnih prava zajedničkog tržišta. 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Europsko državljanstvo trebalo bi biti glavni status građana država članica, onda kada oni izvršavaju pravo kretanja i određivanja prebivališt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norme odstupanja od prav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 stalni boravak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pravila izuzeća od stjecanja prava na stalni boravak od strane određenih članova obitelji (u slučaju da građanin Unije premine ili u slučaju njegova odlas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9-2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administrativne odredbe, koje 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ovori o tome što se podrazumijeva p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„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stavkom borav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2-2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odručje teritorijalne i materijalne primjene prava na boravak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jednako postupanje (jednaki tretman)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Važn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5-2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administrativne odredbe, koje 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opća pravila o ograničenju prava ulaska i prava boravk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9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koncept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javno zdravstv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retspostavke o zaštiti protiv protjerivanj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Cilj D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i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rektive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sadašnji fragmentarni propisi o slobodi kretanja i određivanja prebivališta zahtijevaju uređivanje jednim pravnim aktom/dokumentom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avo svakog građanina Europske Unije na slobodno kretanje i određivanje prebivališta na suverenom teritoriju država članica treba biti dodijeljeno i članovima obitelji, bez obzira na njihovo državljanstv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uključivši partnere iz registriranog građanskog partnerstva, ako je u zemlji boravka legalno predviđeno takvo partnerstv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Građani bi Europske Unije trebali imati pravo odrediti svoje prebivalište u državi članici domaćinu na razdoblje od jedan do tri mjeseca, bez da nameće druge uvjete ili formalnosti, izuzev obveze posjedovanja valjane osobne iskaznice ili valjane putovnice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30-3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postupovna jamst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vremensko ograničenje zabrane boravk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retpostavke protjerivanj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34 i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ljedeć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Finalne odredb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vdje nisu zanimlj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Osobe koje koriste pravo određivanja prebivališta u jednoj državi članici trebale bi na prikladan način primati od države članice domaćina socijalnu pomoć, tijekom prvog boravk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Trebalo bi pružiti pravnu zaštitu članovima obitelji, onda kada europski građanin premine, kada se brak razvede ili se ukine ili prestane civilno partnerstvo. 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Ukoliko osobe opravdane odrediti svoje prebivalište  ne dobiju, na prikladan način, socijalna primanja u državi članici domaćinu, ne bi trebale biti protjerane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Ograničenja prava na slobodno kretanje i određivanje prebivališta predviđena su samo iz razloga javnog reda, sigurnosti i zdravstv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tjerivanje građana Unije i članova njihovih obitelji iz razloga javnog reda i sigurnosti trebalo bi biti ograničeno zbog mogućnosti negativnih posljedica, u skladu s načelom proporcionalnosti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Uvijek bi trebala postojati mogućnost žaljenja na nepoštivanje prava slobodnog kretanj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ezuvjetno  pravo borakva trebalo bi biti dodijeljeno građanima Unije koji žele ostvariti svoje pravo boravka dugotrajno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Treba se osigurati jednak tretman kao i građanima države članice (zabrana diskriminacije - u uvjetima specifičnih i izričitih odredaba iz Ugovora i iz sekundarnog prav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.</a:t>
            </a:r>
            <a:br>
              <a:rPr sz="2000"/>
            </a:b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Država bi članica domaćin trebala ostati nadležna odlučiti da li će dodijeliti tijekom prva tri mjeseca boravka socijalne naknade drugim zaposlenim osobama ili osobama koje rade honorano, kao i članovima njihovih obitelji, ili ako traže radno mjesto, na dulje razdoblje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100" spc="-1" strike="noStrike">
                <a:solidFill>
                  <a:srgbClr val="898989"/>
                </a:solidFill>
                <a:latin typeface="Book Antiqua"/>
              </a:rPr>
              <a:t>Pojedini propisi</a:t>
            </a: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 Dire</a:t>
            </a:r>
            <a:r>
              <a:rPr b="0" lang="hr-HR" sz="41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opisuje cilj Direkt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definicije relevantnih koncepata Direkt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primatelje (korisnike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0Z</dcterms:created>
  <dc:creator>N</dc:creator>
  <dc:description/>
  <dc:language>en-US</dc:language>
  <cp:lastModifiedBy>Mihail Doran</cp:lastModifiedBy>
  <dcterms:modified xsi:type="dcterms:W3CDTF">2016-10-27T06:48:45Z</dcterms:modified>
  <cp:revision>162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