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209-C00F-4F81-8DCF-3D608227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A0A-1BAE-47AE-B6E5-919AC761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860-D8CF-4B38-87CF-FEB69CE8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B60-35A9-49F4-BA5F-88DFAAFD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C2B-6F69-44ED-8391-9C0A14FC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800-1BD2-4620-B629-5B1AFAA6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9D6-35B6-46C6-A3EE-22C1C5AF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2BB-9E89-40CB-89DE-22AA7F27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0E9-021C-4A78-A141-1A2CA941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BCB-3135-4542-9932-883AA4B8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52F-180A-4EA0-A931-A9354FF6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4F5-CFDD-4704-9AE0-A8EFB00C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0516-788B-44C0-AA70-86F905A7A4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E395-CA3C-4E4C-B5B0-9FAA9DD4CC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23880" y="2062080"/>
            <a:ext cx="9144000" cy="681120"/>
          </a:xfrm>
          <a:prstGeom prst="rect">
            <a:avLst/>
          </a:prstGeom>
          <a:solidFill>
            <a:srgbClr val="00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523880" y="2666880"/>
            <a:ext cx="9144000" cy="150840"/>
          </a:xfrm>
          <a:prstGeom prst="rect">
            <a:avLst/>
          </a:prstGeom>
          <a:solidFill>
            <a:srgbClr val="004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886200" y="2171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PROTECTING THE CIVIL RIGHTS OF THE EUROPEAN CITIZENS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15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MULTIDISCIPLINARY 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0280160" y="16923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3f4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050920" y="3157560"/>
            <a:ext cx="8060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Europski okvir, koji obuhvaća Uredbu </a:t>
            </a:r>
            <a:r>
              <a:rPr b="1" lang="zh-CN" sz="3000" spc="-1" strike="noStrike">
                <a:solidFill>
                  <a:srgbClr val="323f4f"/>
                </a:solidFill>
                <a:latin typeface="Calibri"/>
                <a:ea typeface="Calibri"/>
              </a:rPr>
              <a:t> 606/2013</a:t>
            </a: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.</a:t>
            </a:r>
            <a:r>
              <a:rPr b="1" lang="zh-CN" sz="3000" spc="-1" strike="noStrike">
                <a:solidFill>
                  <a:srgbClr val="323f4f"/>
                </a:solidFill>
                <a:latin typeface="Calibri"/>
                <a:ea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23f4f"/>
                </a:solidFill>
                <a:latin typeface="Calibri"/>
                <a:ea typeface="Calibri"/>
              </a:rPr>
              <a:t>Dire</a:t>
            </a: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k</a:t>
            </a:r>
            <a:r>
              <a:rPr b="1" lang="zh-CN" sz="3000" spc="-1" strike="noStrike">
                <a:solidFill>
                  <a:srgbClr val="323f4f"/>
                </a:solidFill>
                <a:latin typeface="Calibri"/>
                <a:ea typeface="Calibri"/>
              </a:rPr>
              <a:t>tiv</a:t>
            </a: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u</a:t>
            </a:r>
            <a:r>
              <a:rPr b="1" lang="zh-CN" sz="3000" spc="-1" strike="noStrike">
                <a:solidFill>
                  <a:srgbClr val="323f4f"/>
                </a:solidFill>
                <a:latin typeface="Calibri"/>
                <a:ea typeface="Calibri"/>
              </a:rPr>
              <a:t> 2004/38 i</a:t>
            </a: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 Povljenu temeljnih prava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981080" y="51814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23f4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23f4f"/>
                </a:solidFill>
                <a:latin typeface="Calibri"/>
                <a:ea typeface="Calibri"/>
              </a:rPr>
              <a:t>Ožujak</a:t>
            </a:r>
            <a:r>
              <a:rPr b="0" lang="en-US" sz="1800" spc="-1" strike="noStrike">
                <a:solidFill>
                  <a:srgbClr val="323f4f"/>
                </a:solidFill>
                <a:latin typeface="Calibri"/>
                <a:ea typeface="Calibri"/>
              </a:rPr>
              <a:t>, 201</a:t>
            </a:r>
            <a:r>
              <a:rPr b="0" lang="zh-CN" sz="1800" spc="-1" strike="noStrike">
                <a:solidFill>
                  <a:srgbClr val="323f4f"/>
                </a:solidFill>
                <a:latin typeface="Calibri"/>
                <a:ea typeface="Calibri"/>
              </a:rPr>
              <a:t>7</a:t>
            </a:r>
            <a:r>
              <a:rPr b="0" lang="hr-HR" sz="1800" spc="-1" strike="noStrike">
                <a:solidFill>
                  <a:srgbClr val="323f4f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3f4f"/>
                </a:solidFill>
                <a:latin typeface="Calibri"/>
                <a:ea typeface="Calibri"/>
              </a:rPr>
              <a:t>Iaşi, R</a:t>
            </a:r>
            <a:r>
              <a:rPr b="0" lang="hr-HR" sz="1800" spc="-1" strike="noStrike">
                <a:solidFill>
                  <a:srgbClr val="323f4f"/>
                </a:solidFill>
                <a:latin typeface="Calibri"/>
                <a:ea typeface="Calibri"/>
              </a:rPr>
              <a:t>umunj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77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99E0-7399-469E-8BA9-F770FC40C4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ine 14" descr="Imagini pentru uniunea europeana sigla"/>
          <p:cNvPicPr/>
          <p:nvPr/>
        </p:nvPicPr>
        <p:blipFill>
          <a:blip r:embed="rId1"/>
          <a:stretch/>
        </p:blipFill>
        <p:spPr>
          <a:xfrm>
            <a:off x="1523880" y="685800"/>
            <a:ext cx="27432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velja temeljnih prava Europske Unije</a:t>
            </a:r>
            <a:r>
              <a:rPr b="0" lang="zh-CN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: </a:t>
            </a:r>
            <a:r>
              <a:rPr b="0" lang="hr-HR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imjenjive odredbe</a:t>
            </a:r>
            <a:r>
              <a:rPr b="0" lang="zh-CN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– </a:t>
            </a:r>
            <a:r>
              <a:rPr b="0" lang="hr-HR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lanak</a:t>
            </a:r>
            <a:r>
              <a:rPr b="0" lang="zh-CN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21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sti stavak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32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natoč tome, sudovi ne bi smjeli primjenjivati izuzetak koji se odnosi na javni poredak za odbijanje priznavanja ili izvršenja mjere zaštite, ako bi time kršili prava predviđena u Povelji temeljnih prava Europske Unije, pogotovo članak 21.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velja temeljnih prava Europske Unije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lanak 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47, 4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a uredba poštuje temeljna prava i načela priznata u Povelji temeljnih prava Europske Unije. Ova uredba ima pogotovo cilj jamčenje prava na obranu i pošteno suđenje, onako kako je predviđeno u člancima 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47 i 48.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a bi se uredba trebala primjenjivati u skladu s tim pravima i načelima 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*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udska praksa Europskog s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Zaključc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esudna uloga Europskog s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Važna uloga nacionalnih upravnih tijela i nacionalnih sudo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loga nacionalnih sudaca u primjeni Povelje temeljnih prava Europsk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Bibliograf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ij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ichael BOGDAN, 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ome reflections on the scope of application of the EU Regulation no 606/2013 on mutual recognition of protection measures in civil matter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Yearbook of Private International Law, vol. 16/2014-2015, p. 405-4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f. Geert van CALSTER, 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uropean Private International Law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 (ediţia a doua, Hart Publishing, Oxford, 2016, LV+520p.).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atol DUTTA, 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ross-border protection measures in the European Unio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 (Journal of Private International Law, vol. 12, nr. 1/2016, p. 169-18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Bookman Old Style"/>
                <a:ea typeface="Calibri Light"/>
              </a:rPr>
              <a:t>Hvala</a:t>
            </a:r>
            <a:r>
              <a:rPr b="1" lang="zh-CN" sz="2800" spc="-1" strike="noStrike">
                <a:solidFill>
                  <a:srgbClr val="000000"/>
                </a:solidFill>
                <a:latin typeface="Bookman Old Style"/>
                <a:ea typeface="Calibri Light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f. dr.</a:t>
            </a:r>
            <a:r>
              <a:rPr b="1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c.</a:t>
            </a:r>
            <a:r>
              <a:rPr b="1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Daniel-Mihail Şand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Znanstveni istraživač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 II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 stupnja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osnivač i koordinator Centra za europske pravne znanosti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CSDE)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pri Institutu za pravna istraživanja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„Acad. Andrei Rădulescu” 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umunjske akademije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f. 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r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c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a Kršćanskom sveučilištu/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Universitatea Creştină „Dimitrie Cantemir”, Bucureşti, 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umunjska udruga prava i europskih poslova /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sociaţia română de drept şi afaceri europene (ARDAE), Pre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sjed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ihai.sandru@csde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rdae.ro     csde.ro    iaduer.ro   mihaisandru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Potreba Uredbe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 606/2013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Koordinacija s Direktivom u kaznenim stvarima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treba europske potvr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loga nacionalnih tij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dručje primjene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– </a:t>
            </a:r>
            <a:r>
              <a:rPr b="0" i="1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rađanske stvar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Zaštita podataka osobnog karakte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Bookman Old Style"/>
              </a:rPr>
              <a:t>Relevantna sudska praksa u kontekstu </a:t>
            </a:r>
            <a:r>
              <a:rPr b="0" lang="zh-CN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Bookman Old Style"/>
              </a:rPr>
              <a:t>Direktive </a:t>
            </a:r>
            <a:r>
              <a:rPr b="0" lang="zh-CN" sz="4000" spc="-1" strike="noStrike">
                <a:solidFill>
                  <a:srgbClr val="000000"/>
                </a:solidFill>
                <a:latin typeface="Bookman Old Style"/>
              </a:rPr>
              <a:t>2004/38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Javni poredak u proširenoj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Dire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iv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2004/38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i Uredbi 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606/2013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striktivno tumačenje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uropskog suda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li i tumačenje preambula Uredbe b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. 606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 iznimnim je slučajevima opravdano da, zbog razloga javnog interesa, sud zamoljene države članice odbije priznavanje ili izvršenje zaštitne mjere, ako bi njezina primjena bila očito nespojiva s javnim poretkom te države članice.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avak 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Osnova izdavanja Uredbe b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r. 606/2013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lankom 81. stavkom 1. Ugovora o funkcioniranju Europske unije (UFEU)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avak 2, Uv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lanak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3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avak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2)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porazuma o Europskoj Uniji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 (TUE) i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lanak 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21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z Sporazuma o funkcioniranju EU /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TFU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avak 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3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Uv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Europski konteks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Zakonski propi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Book Antiqua"/>
                <a:ea typeface="Book Antiqua"/>
              </a:rPr>
              <a:t>https://e-justice.europa.eu/content_european_judicial_atlas_in_civil_matters-321-ro.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sebn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Uredba Vijeća (EZ) br. 2201/2003 od 27. studenoga 2003. o nadležnosti, priznavanju i izvršenju sudskih odluka u bračnim sporovima i u stvarima povezanim s roditeljskom odgovornošću, kojom se stavlja izvan snage Uredba (EZ) br. 1347/2000-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Book Antiqua"/>
                <a:ea typeface="Book Antiqua"/>
              </a:rPr>
              <a:t>http://eur-lex.europa.eu/legal-content/RO/TXT/?uri=celex:32003R22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Uredba (EU) br. 1215/2012 Europskog parlamenta i Vijeća od 12. prosinca 2012. o nadležnosti, priznavanju i izvršenju sudskih odluka u građanskim i trgovačkim stvari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http://eur-lex.europa.eu/legal-content/RO/ALL/?uri=CELEX:32012R12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Koordinacija s prethodnim zakonodavstvom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  (I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rektiv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2012/29/EU Europskog parlamenta i Vijeća od 25. listopada 2012. o uspostavi minimalnih standarda za prava, potporu i zaštitu žrtava kaznenih djela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redb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dopunjuje Direktiva 2012/29/EU. Činjenica da je određena osoba predmetom zaštitne mjere određene u građanskim stvarima, ne isključuje nužno mogućnost da se tu osoba odredi kao „žrtvu” u smislu navedene Direk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stavak 8, Uvod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Koordinacija s prethodnim zakonodavstvom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 (II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a Uredba ne bi smjela utjecati na funkcioniranje Uredbe Vijeća (EZ) br. 2201/2003 od 27. studenoga 2003. o nadležnosti, priznavanju i izvršenju sudskih odluka u bračnim sporovima i u stvarima povezanim s roditeljskom odgovornošću (5) („Uredba Bruxelles II.a”). Odluke donesene u skladu s Uredbom Bruxelles II.a nastavljaju se priznavati i izvršavati u skladu s ovom Uredbom.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avak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11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red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Dire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tiva 2004/38 i 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Uredba b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r. 60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ethodna sudska praksa Europskog Suda u vezi slobode nastana i međusobnog priznavanja</a:t>
            </a:r>
            <a:r>
              <a:rPr b="0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edmet</a:t>
            </a:r>
            <a:r>
              <a:rPr b="0" i="1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C-340/89, Vlassopoulou / Ministerium für Justiz, Bundes- u. Europaangelegenheiten Baden-Württemberg, </a:t>
            </a:r>
            <a:r>
              <a:rPr b="0" i="1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dluka od</a:t>
            </a:r>
            <a:r>
              <a:rPr b="0" i="1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7</a:t>
            </a:r>
            <a:r>
              <a:rPr b="0" i="1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 svibnja</a:t>
            </a:r>
            <a:r>
              <a:rPr b="0" i="1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1991, ECR 1991 p. I-2357, par.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r>
              <a:rPr b="0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</a:t>
            </a:r>
            <a:r>
              <a:rPr b="0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k i ako se primjenjuju bez diskriminacije na osnovi nacionalnosti, nacionalne Uvjeti u pogledu kvalifikacija za svibanj imati učinak ometaju državljana drugih država članica u ostvarivanju njihovih prava poslovnog nastana zasigurno Theme by Članak 52. Ugovora o EEZ-u. To bi mogao biti slučaj ako se nacionalni propisi u pitanju nije uzeo u obzir znanja i kvalifikacije stekle dotične osobe do druge države članice.</a:t>
            </a:r>
            <a:r>
              <a:rPr b="0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Uredba o primjen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VEDBENA UREDBA KOMISIJE</a:t>
            </a: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EU) br. 939/2014 оd 2. rujna 2014. o uvođenju potvrda iz članaka 5. i 14. Uredbe (EU) br. 606/2013 Europskog parlamenta i Vijeća o uzajamnom priznavanju zaštitnih mjera u građanskim stvarima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JO L 263, 3.9.2014, p. 10–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http://eur-lex.europa.eu/legal-content/RO/TXT/?uri=CELEX:32014R093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3:02:00Z</dcterms:created>
  <dc:creator>Mihai Sandru</dc:creator>
  <dc:description/>
  <dc:language>en-US</dc:language>
  <cp:lastModifiedBy>Mihai Sandru</cp:lastModifiedBy>
  <dcterms:modified xsi:type="dcterms:W3CDTF">2017-03-17T19:54:2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5050</vt:lpwstr>
  </property>
</Properties>
</file>