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CBC-0E99-49CE-B745-06A04D70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C87-E946-4B71-8468-158F198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5B8-56DB-462A-A8AE-7285C8B4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617-37FF-4B78-88E8-2280EB08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CB1-B5E8-4749-912B-813B4B7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03D-7234-41E6-BD4A-2E3599C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6A6-98BA-465B-9036-B5BFD11C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04E-F763-419D-8B3A-A5FF83A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CE5-2EBC-457B-B314-FD0830DD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F30-B5C2-4C7B-A8E2-52A8C0C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E8E-7BDF-4042-8293-A44646DF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376-DA5D-4F7F-9307-2872E3A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84F-24F2-4428-9876-747FBFEE93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CB03-AE6A-4A13-83A5-C0398F67D4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3880" y="2062080"/>
            <a:ext cx="9144000" cy="681120"/>
          </a:xfrm>
          <a:prstGeom prst="rect">
            <a:avLst/>
          </a:prstGeom>
          <a:solidFill>
            <a:srgbClr val="00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3880" y="2666880"/>
            <a:ext cx="9144000" cy="150840"/>
          </a:xfrm>
          <a:prstGeom prst="rect">
            <a:avLst/>
          </a:prstGeom>
          <a:solidFill>
            <a:srgbClr val="004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86200" y="2171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PROTECTING THE CIVIL RIGHTS OF THE EUROPEAN CITIZENS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15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MULTIDISCIPLINARY 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0280160" y="16923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050920" y="3157560"/>
            <a:ext cx="8060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Europski okvir, koji obuhvaća Uredbu 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 606/2013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.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Dire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k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tiv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u</a:t>
            </a:r>
            <a:r>
              <a:rPr b="1" lang="zh-CN" sz="3000" spc="-1" strike="noStrike">
                <a:solidFill>
                  <a:srgbClr val="323f4f"/>
                </a:solidFill>
                <a:latin typeface="Calibri"/>
                <a:ea typeface="Calibri"/>
              </a:rPr>
              <a:t> 2004/38 i</a:t>
            </a:r>
            <a:r>
              <a:rPr b="1" lang="hr-HR" sz="3000" spc="-1" strike="noStrike">
                <a:solidFill>
                  <a:srgbClr val="323f4f"/>
                </a:solidFill>
                <a:latin typeface="Calibri"/>
                <a:ea typeface="Calibri"/>
              </a:rPr>
              <a:t> Povljenu temeljnih prava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981080" y="51814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Ožujak</a:t>
            </a:r>
            <a:r>
              <a:rPr b="0" lang="en-US" sz="1800" spc="-1" strike="noStrike">
                <a:solidFill>
                  <a:srgbClr val="323f4f"/>
                </a:solidFill>
                <a:latin typeface="Calibri"/>
                <a:ea typeface="Calibri"/>
              </a:rPr>
              <a:t>, 201</a:t>
            </a: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7</a:t>
            </a: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f4f"/>
                </a:solidFill>
                <a:latin typeface="Calibri"/>
                <a:ea typeface="Calibri"/>
              </a:rPr>
              <a:t>Iaşi, R</a:t>
            </a:r>
            <a:r>
              <a:rPr b="0" lang="hr-HR" sz="1800" spc="-1" strike="noStrike">
                <a:solidFill>
                  <a:srgbClr val="323f4f"/>
                </a:solidFill>
                <a:latin typeface="Calibri"/>
                <a:ea typeface="Calibri"/>
              </a:rPr>
              <a:t>umun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77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A126-962B-46A3-B504-CFEB615609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ine 14" descr="Imagini pentru uniunea europeana sigla"/>
          <p:cNvPicPr/>
          <p:nvPr/>
        </p:nvPicPr>
        <p:blipFill>
          <a:blip r:embed="rId1"/>
          <a:stretch/>
        </p:blipFill>
        <p:spPr>
          <a:xfrm>
            <a:off x="1523880" y="685800"/>
            <a:ext cx="2743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velja temeljnih prava Europske Unije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: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imjenjive odredbe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–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1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sti 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32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natoč tome, sudovi ne bi smjeli primjenjivati izuzetak koji se odnosi na javni poredak za odbijanje priznavanja ili izvršenja mjere zaštite, ako bi time kršili prava predviđena u Povelji temeljnih prava Europske Unije, pogotovo članak 21.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velja temeljnih prava Europske Unije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 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47, 4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uredba poštuje temeljna prava i načela priznata u Povelji temeljnih prava Europske Unije. Ova uredba ima pogotovo cilj jamčenje prava na obranu i pošteno suđenje, onako kako je predviđeno u člancima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47 i 48.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bi se uredba trebala primjenjivati u skladu s tim pravima i načelima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*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dska praksa Europskog 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aključc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sudna uloga Europskog 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ažna uloga nacionalnih upravnih tijela i nacionalnih sudo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loga nacionalnih sudaca u primjeni Povelje temeljnih prava Europsk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Bibliograf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i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ichael BOGDAN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ome reflections on the scope of application of the EU Regulation no 606/2013 on mutual recognition of protection measures in civil matte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Yearbook of Private International Law, vol. 16/2014-2015, p. 405-4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Geert van CALSTER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uropean Private International Law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 (ediţia a doua, Hart Publishing, Oxford, 2016, LV+520p.).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atol DUTTA, 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ross-border protection measures in the European Un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 (Journal of Private International Law, vol. 12, nr. 1/2016, p. 169-18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Bookman Old Style"/>
                <a:ea typeface="Calibri Light"/>
              </a:rPr>
              <a:t>Hvala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  <a:ea typeface="Calibri Light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dr.</a:t>
            </a:r>
            <a:r>
              <a:rPr b="1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c.</a:t>
            </a:r>
            <a:r>
              <a:rPr b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aniel-Mihail Şand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nanstveni istraživač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 II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stupnja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osnivač i koordinator Centra za europske pravne znanosti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CSDE)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pri Institutu za pravna istraživanja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„Acad. Andrei Rădulescu”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munjske akademije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f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r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c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a Kršćanskom sveučilištu/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Universitatea Creştină „Dimitrie Cantemir”, Bucureşti, 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umunjska udruga prava i europskih poslova /</a:t>
            </a: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sociaţia română de drept şi afaceri europene (ARDAE), Pre</a:t>
            </a:r>
            <a:r>
              <a:rPr b="0" lang="hr-HR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sje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ihai.sandru@csd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rdae.ro     csde.ro    iaduer.ro   mihaisandru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Potreba Uredbe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606/2013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Koordinacija s Direktivom u kaznenim stvarima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treba europske potvr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loga nacionalnih tij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dručje primjene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– </a:t>
            </a:r>
            <a:r>
              <a:rPr b="0" i="1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đanske stvar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Zaštita podataka osobnog karakte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Relevantna sudska praksa u kontekstu 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Direktive </a:t>
            </a:r>
            <a:r>
              <a:rPr b="0" lang="zh-CN" sz="4000" spc="-1" strike="noStrike">
                <a:solidFill>
                  <a:srgbClr val="000000"/>
                </a:solidFill>
                <a:latin typeface="Bookman Old Style"/>
              </a:rPr>
              <a:t>2004/38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vni poredak u proširenoj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ire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iv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004/38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i Uredbi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06/2013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striktivno tumačenje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uropskog suda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i i tumačenje preambula Uredbe b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. 606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 iznimnim je slučajevima opravdano da, zbog razloga javnog interesa, sud zamoljene države članice odbije priznavanje ili izvršenje zaštitne mjere, ako bi njezina primjena bila očito nespojiva s javnim poretkom te države članice.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snova izdavanja Uredbe b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r. 606/2013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kom 81. stavkom 1. Ugovora o funkcioniranju Europske unije (UFEU)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2, Uv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3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2)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orazuma o Europskoj Uniji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 (TUE) i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lanak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21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z Sporazuma o funkcioniranju EU /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TFU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 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Uv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Europski kontek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Zakonski propi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Book Antiqua"/>
                <a:ea typeface="Book Antiqua"/>
              </a:rPr>
              <a:t>https://e-justice.europa.eu/content_european_judicial_atlas_in_civil_matters-321-ro.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sebn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redba Vijeća (EZ) br. 2201/2003 od 27. studenoga 2003. o nadležnosti, priznavanju i izvršenju sudskih odluka u bračnim sporovima i u stvarima povezanim s roditeljskom odgovornošću, kojom se stavlja izvan snage Uredba (EZ) br. 1347/2000-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Book Antiqua"/>
                <a:ea typeface="Book Antiqua"/>
              </a:rPr>
              <a:t>http://eur-lex.europa.eu/legal-content/RO/TXT/?uri=celex:32003R22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redba (EU) br. 1215/2012 Europskog parlamenta i Vijeća od 12. prosinca 2012. o nadležnosti, priznavanju i izvršenju sudskih odluka u građanskim i trgovačkim stvari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http://eur-lex.europa.eu/legal-content/RO/ALL/?uri=CELEX:32012R12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oordinacija s prethodnim zakonodavstvom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 (I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rektiv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2012/29/EU Europskog parlamenta i Vijeća od 25. listopada 2012. o uspostavi minimalnih standarda za prava, potporu i zaštitu žrtava kaznenih djela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redb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dopunjuje Direktiva 2012/29/EU. Činjenica da je određena osoba predmetom zaštitne mjere određene u građanskim stvarima, ne isključuje nužno mogućnost da se tu osoba odredi kao „žrtvu” u smislu navedene Direk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stavak 8, Uvo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oordinacija s prethodnim zakonodavstvom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 (II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a Uredba ne bi smjela utjecati na funkcioniranje Uredbe Vijeća (EZ) br. 2201/2003 od 27. studenoga 2003. o nadležnosti, priznavanju i izvršenju sudskih odluka u bračnim sporovima i u stvarima povezanim s roditeljskom odgovornošću (5) („Uredba Bruxelles II.a”). Odluke donesene u skladu s Uredbom Bruxelles II.a nastavljaju se priznavati i izvršavati u skladu s ovom Uredbom.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avak</a:t>
            </a:r>
            <a:r>
              <a:rPr b="0" lang="zh-CN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11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red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Dire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tiva 2004/38 i 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Uredba b</a:t>
            </a:r>
            <a:r>
              <a:rPr b="0" lang="zh-CN" sz="4400" spc="-1" strike="noStrike">
                <a:solidFill>
                  <a:srgbClr val="000000"/>
                </a:solidFill>
                <a:latin typeface="Bookman Old Style"/>
              </a:rPr>
              <a:t>r. 60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thodna sudska praksa Europskog Suda u vezi slobode nastana i međusobnog priznavanja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edmet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-340/89, Vlassopoulou / Ministerium für Justiz, Bundes- u. Europaangelegenheiten Baden-Württemberg, </a:t>
            </a: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dluka od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7</a:t>
            </a:r>
            <a:r>
              <a:rPr b="0" i="1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 svibnja</a:t>
            </a:r>
            <a:r>
              <a:rPr b="0" i="1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1991, ECR 1991 p. I-2357, par.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Č</a:t>
            </a:r>
            <a:r>
              <a:rPr b="0" lang="zh-CN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k i ako se primjenjuju bez diskriminacije na osnovi nacionalnosti, nacionalne Uvjeti u pogledu kvalifikacija za svibanj imati učinak ometaju državljana drugih država članica u ostvarivanju njihovih prava poslovnog nastana zasigurno Theme by Članak 52. Ugovora o EEZ-u. To bi mogao biti slučaj ako se nacionalni propisi u pitanju nije uzeo u obzir znanja i kvalifikacije stekle dotične osobe do druge države članice.</a:t>
            </a:r>
            <a:r>
              <a:rPr b="0" lang="hr-HR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Uredba o primjen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EDBENA UREDBA KOMISIJE</a:t>
            </a: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EU) br. 939/2014 оd 2. rujna 2014. o uvođenju potvrda iz članaka 5. i 14. Uredbe (EU) br. 606/2013 Europskog parlamenta i Vijeća o uzajamnom priznavanju zaštitnih mjera u građanskim stvarima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O L 263, 3.9.2014, p. 10–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ttp://eur-lex.europa.eu/legal-content/RO/TXT/?uri=CELEX:32014R09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3:02:00Z</dcterms:created>
  <dc:creator>Mihai Sandru</dc:creator>
  <dc:description/>
  <dc:language>en-US</dc:language>
  <cp:lastModifiedBy>Mihai Sandru</cp:lastModifiedBy>
  <dcterms:modified xsi:type="dcterms:W3CDTF">2017-03-17T19:54:2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